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3655-CF21-4A8B-B2B2-3A64F4DC4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7E17-C7D8-47DA-A787-3BC95EC49A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1D4B-490C-42FF-8510-5D5CB0C7F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F8AD-69C1-4C0C-9C76-41412EE7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5E38-2C9E-40EB-9BA1-5060A7EA6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38EF-9FE2-4DC1-81C3-8365CE728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DE27-63F5-4B7A-AF4A-E78DE35FE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E6CC-4C0C-4037-9AAD-B2FA54A3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310F-738F-447B-93E4-007DA869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5A50-57C3-4FEA-AB4A-33FAAB27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CE83-D8D3-4601-99DB-C190464D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DFB9-5B57-4EC4-82AC-7C638D39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3C53-B6F9-4250-B412-263197A9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80BF-6C50-42AE-BB56-FA4926F2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B737-6807-439D-B898-91C89F0F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68A7-6B91-4D8C-BCC5-6C37A2B4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691F-AE74-437F-85F0-2118D2F0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07C3-4775-400E-9E6E-69BF134D7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02EB-58FF-4845-8C89-69166F453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6F50-78EF-4681-B9BE-EA4D28FA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8B7E-A478-4848-B912-A877B522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1CBD-20FB-427D-AFD2-5099526D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8CF0-9103-4887-A938-CCE42CBE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72E4-F037-46A7-B3BD-2DD649D7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6352-D5A7-4909-A7D7-5502D4B2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CD6A-FB83-4EDD-B5F3-5936389D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5BB2-1CC9-45C1-B6C8-647A040B0A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1526-B4D0-48E4-87CF-469579CB12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066680" y="2209320"/>
            <a:ext cx="6858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synthetic division to divi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5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4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2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x – 6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x + 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Ink 4"/>
          <p:cNvSpPr/>
          <p:nvPr/>
        </p:nvSpPr>
        <p:spPr>
          <a:xfrm>
            <a:off x="982800" y="4375080"/>
            <a:ext cx="625320" cy="393840"/>
          </a:xfrm>
          <a:custGeom>
            <a:avLst/>
            <a:gdLst/>
            <a:ahLst/>
            <a:rect l="l" t="t" r="r" b="b"/>
            <a:pathLst>
              <a:path w="1737" h="1093">
                <a:moveTo>
                  <a:pt x="2729" y="12601"/>
                </a:moveTo>
                <a:cubicBezTo>
                  <a:pt x="2783" y="12593"/>
                  <a:pt x="2847" y="12591"/>
                  <a:pt x="2902" y="12576"/>
                </a:cubicBezTo>
                <a:cubicBezTo>
                  <a:pt x="2994" y="12550"/>
                  <a:pt x="3078" y="12512"/>
                  <a:pt x="3175" y="12502"/>
                </a:cubicBezTo>
                <a:cubicBezTo>
                  <a:pt x="3252" y="12494"/>
                  <a:pt x="3310" y="12463"/>
                  <a:pt x="3373" y="12502"/>
                </a:cubicBezTo>
              </a:path>
              <a:path w="1737" h="1093">
                <a:moveTo>
                  <a:pt x="3919" y="12154"/>
                </a:moveTo>
                <a:cubicBezTo>
                  <a:pt x="4008" y="12161"/>
                  <a:pt x="4074" y="12167"/>
                  <a:pt x="4142" y="12229"/>
                </a:cubicBezTo>
                <a:cubicBezTo>
                  <a:pt x="4217" y="12298"/>
                  <a:pt x="4237" y="12288"/>
                  <a:pt x="4242" y="12402"/>
                </a:cubicBezTo>
                <a:cubicBezTo>
                  <a:pt x="4245" y="12474"/>
                  <a:pt x="4239" y="12520"/>
                  <a:pt x="4192" y="12576"/>
                </a:cubicBezTo>
                <a:cubicBezTo>
                  <a:pt x="4106" y="12680"/>
                  <a:pt x="3995" y="12762"/>
                  <a:pt x="3894" y="12849"/>
                </a:cubicBezTo>
                <a:cubicBezTo>
                  <a:pt x="3861" y="12877"/>
                  <a:pt x="3702" y="12972"/>
                  <a:pt x="3696" y="13022"/>
                </a:cubicBezTo>
                <a:cubicBezTo>
                  <a:pt x="3687" y="13099"/>
                  <a:pt x="3827" y="13103"/>
                  <a:pt x="3870" y="13122"/>
                </a:cubicBezTo>
                <a:cubicBezTo>
                  <a:pt x="3957" y="13160"/>
                  <a:pt x="4051" y="13151"/>
                  <a:pt x="4142" y="13171"/>
                </a:cubicBezTo>
                <a:cubicBezTo>
                  <a:pt x="4205" y="13185"/>
                  <a:pt x="4311" y="13195"/>
                  <a:pt x="4366" y="13221"/>
                </a:cubicBezTo>
                <a:cubicBezTo>
                  <a:pt x="4404" y="13239"/>
                  <a:pt x="4418" y="13241"/>
                  <a:pt x="4465" y="132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Ink 5"/>
          <p:cNvSpPr/>
          <p:nvPr/>
        </p:nvSpPr>
        <p:spPr>
          <a:xfrm>
            <a:off x="1704960" y="3562200"/>
            <a:ext cx="546120" cy="1108080"/>
          </a:xfrm>
          <a:custGeom>
            <a:avLst/>
            <a:gdLst/>
            <a:ahLst/>
            <a:rect l="l" t="t" r="r" b="b"/>
            <a:pathLst>
              <a:path w="1514" h="3077">
                <a:moveTo>
                  <a:pt x="4738" y="10195"/>
                </a:moveTo>
                <a:cubicBezTo>
                  <a:pt x="4754" y="10138"/>
                  <a:pt x="4810" y="10063"/>
                  <a:pt x="4887" y="10046"/>
                </a:cubicBezTo>
                <a:cubicBezTo>
                  <a:pt x="5004" y="10020"/>
                  <a:pt x="5081" y="9948"/>
                  <a:pt x="5209" y="9922"/>
                </a:cubicBezTo>
                <a:cubicBezTo>
                  <a:pt x="5317" y="9900"/>
                  <a:pt x="5541" y="9854"/>
                  <a:pt x="5631" y="9971"/>
                </a:cubicBezTo>
                <a:cubicBezTo>
                  <a:pt x="5672" y="10024"/>
                  <a:pt x="5758" y="10197"/>
                  <a:pt x="5755" y="10269"/>
                </a:cubicBezTo>
                <a:cubicBezTo>
                  <a:pt x="5749" y="10419"/>
                  <a:pt x="5672" y="10548"/>
                  <a:pt x="5631" y="10691"/>
                </a:cubicBezTo>
                <a:cubicBezTo>
                  <a:pt x="5590" y="10833"/>
                  <a:pt x="5543" y="10967"/>
                  <a:pt x="5507" y="11112"/>
                </a:cubicBezTo>
                <a:cubicBezTo>
                  <a:pt x="5478" y="11230"/>
                  <a:pt x="5479" y="11275"/>
                  <a:pt x="5531" y="11385"/>
                </a:cubicBezTo>
                <a:cubicBezTo>
                  <a:pt x="5551" y="11428"/>
                  <a:pt x="5640" y="11517"/>
                  <a:pt x="5680" y="11435"/>
                </a:cubicBezTo>
                <a:cubicBezTo>
                  <a:pt x="5657" y="11412"/>
                  <a:pt x="5649" y="11408"/>
                  <a:pt x="5655" y="11385"/>
                </a:cubicBezTo>
              </a:path>
              <a:path w="1514" h="3077">
                <a:moveTo>
                  <a:pt x="6226" y="12005"/>
                </a:moveTo>
                <a:cubicBezTo>
                  <a:pt x="6161" y="11967"/>
                  <a:pt x="6082" y="11981"/>
                  <a:pt x="6003" y="11981"/>
                </a:cubicBezTo>
                <a:cubicBezTo>
                  <a:pt x="5886" y="11981"/>
                  <a:pt x="5728" y="11953"/>
                  <a:pt x="5631" y="12005"/>
                </a:cubicBezTo>
                <a:cubicBezTo>
                  <a:pt x="5562" y="12042"/>
                  <a:pt x="5522" y="12149"/>
                  <a:pt x="5507" y="12229"/>
                </a:cubicBezTo>
                <a:cubicBezTo>
                  <a:pt x="5492" y="12310"/>
                  <a:pt x="5501" y="12348"/>
                  <a:pt x="5581" y="12353"/>
                </a:cubicBezTo>
                <a:cubicBezTo>
                  <a:pt x="5704" y="12360"/>
                  <a:pt x="5869" y="12317"/>
                  <a:pt x="5978" y="12378"/>
                </a:cubicBezTo>
                <a:cubicBezTo>
                  <a:pt x="6067" y="12428"/>
                  <a:pt x="6106" y="12472"/>
                  <a:pt x="6176" y="12551"/>
                </a:cubicBezTo>
                <a:cubicBezTo>
                  <a:pt x="6223" y="12604"/>
                  <a:pt x="6247" y="12655"/>
                  <a:pt x="6251" y="12725"/>
                </a:cubicBezTo>
                <a:cubicBezTo>
                  <a:pt x="6254" y="12786"/>
                  <a:pt x="6264" y="12852"/>
                  <a:pt x="6226" y="12898"/>
                </a:cubicBezTo>
                <a:cubicBezTo>
                  <a:pt x="6197" y="12933"/>
                  <a:pt x="6121" y="12966"/>
                  <a:pt x="6077" y="12973"/>
                </a:cubicBezTo>
                <a:cubicBezTo>
                  <a:pt x="5993" y="12987"/>
                  <a:pt x="5929" y="12961"/>
                  <a:pt x="5854" y="12948"/>
                </a:cubicBezTo>
                <a:cubicBezTo>
                  <a:pt x="5809" y="12948"/>
                  <a:pt x="5796" y="12951"/>
                  <a:pt x="5779" y="129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Ink 6"/>
          <p:cNvSpPr/>
          <p:nvPr/>
        </p:nvSpPr>
        <p:spPr>
          <a:xfrm>
            <a:off x="2581200" y="4268880"/>
            <a:ext cx="320760" cy="438120"/>
          </a:xfrm>
          <a:custGeom>
            <a:avLst/>
            <a:gdLst/>
            <a:ahLst/>
            <a:rect l="l" t="t" r="r" b="b"/>
            <a:pathLst>
              <a:path w="894" h="1216">
                <a:moveTo>
                  <a:pt x="7541" y="11981"/>
                </a:moveTo>
                <a:cubicBezTo>
                  <a:pt x="7492" y="11956"/>
                  <a:pt x="7485" y="11985"/>
                  <a:pt x="7441" y="12030"/>
                </a:cubicBezTo>
                <a:cubicBezTo>
                  <a:pt x="7391" y="12081"/>
                  <a:pt x="7352" y="12087"/>
                  <a:pt x="7317" y="12154"/>
                </a:cubicBezTo>
                <a:cubicBezTo>
                  <a:pt x="7282" y="12222"/>
                  <a:pt x="7211" y="12275"/>
                  <a:pt x="7193" y="12353"/>
                </a:cubicBezTo>
                <a:cubicBezTo>
                  <a:pt x="7174" y="12436"/>
                  <a:pt x="7169" y="12513"/>
                  <a:pt x="7169" y="12601"/>
                </a:cubicBezTo>
                <a:cubicBezTo>
                  <a:pt x="7169" y="12689"/>
                  <a:pt x="7152" y="12792"/>
                  <a:pt x="7193" y="12874"/>
                </a:cubicBezTo>
                <a:cubicBezTo>
                  <a:pt x="7227" y="12941"/>
                  <a:pt x="7327" y="13011"/>
                  <a:pt x="7392" y="13047"/>
                </a:cubicBezTo>
                <a:cubicBezTo>
                  <a:pt x="7456" y="13083"/>
                  <a:pt x="7519" y="13072"/>
                  <a:pt x="7590" y="13072"/>
                </a:cubicBezTo>
                <a:cubicBezTo>
                  <a:pt x="7669" y="13072"/>
                  <a:pt x="7752" y="13021"/>
                  <a:pt x="7813" y="12973"/>
                </a:cubicBezTo>
                <a:cubicBezTo>
                  <a:pt x="7886" y="12915"/>
                  <a:pt x="7921" y="12882"/>
                  <a:pt x="7962" y="12799"/>
                </a:cubicBezTo>
                <a:cubicBezTo>
                  <a:pt x="8003" y="12717"/>
                  <a:pt x="8069" y="12594"/>
                  <a:pt x="8062" y="12502"/>
                </a:cubicBezTo>
                <a:cubicBezTo>
                  <a:pt x="8055" y="12405"/>
                  <a:pt x="8029" y="12292"/>
                  <a:pt x="7987" y="12204"/>
                </a:cubicBezTo>
                <a:cubicBezTo>
                  <a:pt x="7951" y="12129"/>
                  <a:pt x="7912" y="12026"/>
                  <a:pt x="7838" y="11981"/>
                </a:cubicBezTo>
                <a:cubicBezTo>
                  <a:pt x="7779" y="11945"/>
                  <a:pt x="7657" y="11895"/>
                  <a:pt x="7590" y="11881"/>
                </a:cubicBezTo>
                <a:cubicBezTo>
                  <a:pt x="7506" y="11863"/>
                  <a:pt x="7449" y="11859"/>
                  <a:pt x="7367" y="11906"/>
                </a:cubicBezTo>
                <a:cubicBezTo>
                  <a:pt x="7359" y="11914"/>
                  <a:pt x="7350" y="11923"/>
                  <a:pt x="7342" y="119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Ink 7"/>
          <p:cNvSpPr/>
          <p:nvPr/>
        </p:nvSpPr>
        <p:spPr>
          <a:xfrm>
            <a:off x="3259080" y="4187880"/>
            <a:ext cx="241200" cy="447480"/>
          </a:xfrm>
          <a:custGeom>
            <a:avLst/>
            <a:gdLst/>
            <a:ahLst/>
            <a:rect l="l" t="t" r="r" b="b"/>
            <a:pathLst>
              <a:path w="670" h="1242">
                <a:moveTo>
                  <a:pt x="9178" y="11757"/>
                </a:moveTo>
                <a:cubicBezTo>
                  <a:pt x="9202" y="11797"/>
                  <a:pt x="9223" y="11879"/>
                  <a:pt x="9203" y="11931"/>
                </a:cubicBezTo>
                <a:cubicBezTo>
                  <a:pt x="9182" y="11985"/>
                  <a:pt x="9132" y="12078"/>
                  <a:pt x="9103" y="12129"/>
                </a:cubicBezTo>
                <a:cubicBezTo>
                  <a:pt x="9067" y="12194"/>
                  <a:pt x="9054" y="12193"/>
                  <a:pt x="9054" y="12278"/>
                </a:cubicBezTo>
                <a:cubicBezTo>
                  <a:pt x="9054" y="12371"/>
                  <a:pt x="9114" y="12387"/>
                  <a:pt x="9203" y="12402"/>
                </a:cubicBezTo>
                <a:cubicBezTo>
                  <a:pt x="9350" y="12427"/>
                  <a:pt x="9525" y="12402"/>
                  <a:pt x="9674" y="12402"/>
                </a:cubicBezTo>
              </a:path>
              <a:path w="670" h="1242">
                <a:moveTo>
                  <a:pt x="9575" y="11633"/>
                </a:moveTo>
                <a:cubicBezTo>
                  <a:pt x="9620" y="11702"/>
                  <a:pt x="9624" y="11751"/>
                  <a:pt x="9624" y="11832"/>
                </a:cubicBezTo>
                <a:cubicBezTo>
                  <a:pt x="9624" y="11911"/>
                  <a:pt x="9646" y="11978"/>
                  <a:pt x="9649" y="12055"/>
                </a:cubicBezTo>
                <a:cubicBezTo>
                  <a:pt x="9653" y="12155"/>
                  <a:pt x="9652" y="12256"/>
                  <a:pt x="9674" y="12353"/>
                </a:cubicBezTo>
                <a:cubicBezTo>
                  <a:pt x="9696" y="12450"/>
                  <a:pt x="9675" y="12556"/>
                  <a:pt x="9699" y="12650"/>
                </a:cubicBezTo>
                <a:cubicBezTo>
                  <a:pt x="9719" y="12728"/>
                  <a:pt x="9723" y="12790"/>
                  <a:pt x="9723" y="12874"/>
                </a:cubicBezTo>
                <a:cubicBezTo>
                  <a:pt x="9723" y="12866"/>
                  <a:pt x="9723" y="12857"/>
                  <a:pt x="9723" y="128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Ink 8"/>
          <p:cNvSpPr/>
          <p:nvPr/>
        </p:nvSpPr>
        <p:spPr>
          <a:xfrm>
            <a:off x="3830760" y="4249800"/>
            <a:ext cx="554040" cy="376200"/>
          </a:xfrm>
          <a:custGeom>
            <a:avLst/>
            <a:gdLst/>
            <a:ahLst/>
            <a:rect l="l" t="t" r="r" b="b"/>
            <a:pathLst>
              <a:path w="1539" h="1043">
                <a:moveTo>
                  <a:pt x="10641" y="12303"/>
                </a:moveTo>
                <a:cubicBezTo>
                  <a:pt x="10733" y="12266"/>
                  <a:pt x="10762" y="12254"/>
                  <a:pt x="10864" y="12254"/>
                </a:cubicBezTo>
                <a:cubicBezTo>
                  <a:pt x="10942" y="12254"/>
                  <a:pt x="10982" y="12229"/>
                  <a:pt x="11063" y="12229"/>
                </a:cubicBezTo>
                <a:cubicBezTo>
                  <a:pt x="11104" y="12229"/>
                  <a:pt x="11112" y="12229"/>
                  <a:pt x="11137" y="12229"/>
                </a:cubicBezTo>
              </a:path>
              <a:path w="1539" h="1043">
                <a:moveTo>
                  <a:pt x="11435" y="11857"/>
                </a:moveTo>
                <a:cubicBezTo>
                  <a:pt x="11588" y="11814"/>
                  <a:pt x="11583" y="11806"/>
                  <a:pt x="11708" y="11881"/>
                </a:cubicBezTo>
                <a:cubicBezTo>
                  <a:pt x="11751" y="11907"/>
                  <a:pt x="11840" y="11955"/>
                  <a:pt x="11857" y="12005"/>
                </a:cubicBezTo>
                <a:cubicBezTo>
                  <a:pt x="11877" y="12066"/>
                  <a:pt x="11881" y="12138"/>
                  <a:pt x="11881" y="12204"/>
                </a:cubicBezTo>
                <a:cubicBezTo>
                  <a:pt x="11881" y="12279"/>
                  <a:pt x="11840" y="12336"/>
                  <a:pt x="11807" y="12402"/>
                </a:cubicBezTo>
                <a:cubicBezTo>
                  <a:pt x="11775" y="12465"/>
                  <a:pt x="11708" y="12535"/>
                  <a:pt x="11658" y="12576"/>
                </a:cubicBezTo>
                <a:cubicBezTo>
                  <a:pt x="11615" y="12611"/>
                  <a:pt x="11574" y="12635"/>
                  <a:pt x="11534" y="12675"/>
                </a:cubicBezTo>
                <a:cubicBezTo>
                  <a:pt x="11509" y="12700"/>
                  <a:pt x="11501" y="12708"/>
                  <a:pt x="11485" y="12725"/>
                </a:cubicBezTo>
                <a:cubicBezTo>
                  <a:pt x="11519" y="12760"/>
                  <a:pt x="11566" y="12793"/>
                  <a:pt x="11609" y="12799"/>
                </a:cubicBezTo>
                <a:cubicBezTo>
                  <a:pt x="11691" y="12811"/>
                  <a:pt x="11743" y="12824"/>
                  <a:pt x="11832" y="12824"/>
                </a:cubicBezTo>
                <a:cubicBezTo>
                  <a:pt x="11931" y="12824"/>
                  <a:pt x="12013" y="12834"/>
                  <a:pt x="12105" y="12849"/>
                </a:cubicBezTo>
                <a:cubicBezTo>
                  <a:pt x="12149" y="12849"/>
                  <a:pt x="12163" y="12852"/>
                  <a:pt x="12179" y="128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Ink 9"/>
          <p:cNvSpPr/>
          <p:nvPr/>
        </p:nvSpPr>
        <p:spPr>
          <a:xfrm>
            <a:off x="4670280" y="4160880"/>
            <a:ext cx="108000" cy="430200"/>
          </a:xfrm>
          <a:custGeom>
            <a:avLst/>
            <a:gdLst/>
            <a:ahLst/>
            <a:rect l="l" t="t" r="r" b="b"/>
            <a:pathLst>
              <a:path w="299" h="1192">
                <a:moveTo>
                  <a:pt x="12973" y="11559"/>
                </a:moveTo>
                <a:cubicBezTo>
                  <a:pt x="13078" y="11591"/>
                  <a:pt x="13093" y="11593"/>
                  <a:pt x="13146" y="11683"/>
                </a:cubicBezTo>
                <a:cubicBezTo>
                  <a:pt x="13184" y="11747"/>
                  <a:pt x="13201" y="11813"/>
                  <a:pt x="13221" y="11881"/>
                </a:cubicBezTo>
                <a:cubicBezTo>
                  <a:pt x="13246" y="11970"/>
                  <a:pt x="13228" y="12044"/>
                  <a:pt x="13246" y="12129"/>
                </a:cubicBezTo>
                <a:cubicBezTo>
                  <a:pt x="13270" y="12239"/>
                  <a:pt x="13263" y="12300"/>
                  <a:pt x="13246" y="12402"/>
                </a:cubicBezTo>
                <a:cubicBezTo>
                  <a:pt x="13232" y="12487"/>
                  <a:pt x="13261" y="12581"/>
                  <a:pt x="13271" y="12650"/>
                </a:cubicBezTo>
                <a:cubicBezTo>
                  <a:pt x="13271" y="12708"/>
                  <a:pt x="13271" y="12717"/>
                  <a:pt x="13271" y="127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Ink 10"/>
          <p:cNvSpPr/>
          <p:nvPr/>
        </p:nvSpPr>
        <p:spPr>
          <a:xfrm>
            <a:off x="5027760" y="4375080"/>
            <a:ext cx="223560" cy="19080"/>
          </a:xfrm>
          <a:custGeom>
            <a:avLst/>
            <a:gdLst/>
            <a:ahLst/>
            <a:rect l="l" t="t" r="r" b="b"/>
            <a:pathLst>
              <a:path w="621" h="51">
                <a:moveTo>
                  <a:pt x="13965" y="12154"/>
                </a:moveTo>
                <a:cubicBezTo>
                  <a:pt x="14072" y="12154"/>
                  <a:pt x="14171" y="12160"/>
                  <a:pt x="14263" y="12179"/>
                </a:cubicBezTo>
                <a:cubicBezTo>
                  <a:pt x="14361" y="12199"/>
                  <a:pt x="14463" y="12181"/>
                  <a:pt x="14560" y="12204"/>
                </a:cubicBezTo>
                <a:cubicBezTo>
                  <a:pt x="14568" y="12204"/>
                  <a:pt x="14577" y="12204"/>
                  <a:pt x="14585" y="122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Ink 11"/>
          <p:cNvSpPr/>
          <p:nvPr/>
        </p:nvSpPr>
        <p:spPr>
          <a:xfrm>
            <a:off x="5419800" y="4143240"/>
            <a:ext cx="206280" cy="428760"/>
          </a:xfrm>
          <a:custGeom>
            <a:avLst/>
            <a:gdLst/>
            <a:ahLst/>
            <a:rect l="l" t="t" r="r" b="b"/>
            <a:pathLst>
              <a:path w="572" h="1192">
                <a:moveTo>
                  <a:pt x="15056" y="11509"/>
                </a:moveTo>
                <a:cubicBezTo>
                  <a:pt x="15088" y="11598"/>
                  <a:pt x="15127" y="11684"/>
                  <a:pt x="15106" y="11782"/>
                </a:cubicBezTo>
                <a:cubicBezTo>
                  <a:pt x="15084" y="11885"/>
                  <a:pt x="15081" y="11973"/>
                  <a:pt x="15081" y="12080"/>
                </a:cubicBezTo>
                <a:cubicBezTo>
                  <a:pt x="15081" y="12182"/>
                  <a:pt x="15066" y="12285"/>
                  <a:pt x="15106" y="12378"/>
                </a:cubicBezTo>
                <a:cubicBezTo>
                  <a:pt x="15133" y="12440"/>
                  <a:pt x="15171" y="12495"/>
                  <a:pt x="15205" y="12551"/>
                </a:cubicBezTo>
                <a:cubicBezTo>
                  <a:pt x="15240" y="12610"/>
                  <a:pt x="15270" y="12639"/>
                  <a:pt x="15329" y="12675"/>
                </a:cubicBezTo>
                <a:cubicBezTo>
                  <a:pt x="15428" y="12735"/>
                  <a:pt x="15505" y="12692"/>
                  <a:pt x="15553" y="12601"/>
                </a:cubicBezTo>
                <a:cubicBezTo>
                  <a:pt x="15585" y="12539"/>
                  <a:pt x="15616" y="12468"/>
                  <a:pt x="15627" y="12402"/>
                </a:cubicBezTo>
                <a:cubicBezTo>
                  <a:pt x="15636" y="12347"/>
                  <a:pt x="15624" y="12251"/>
                  <a:pt x="15602" y="12204"/>
                </a:cubicBezTo>
                <a:cubicBezTo>
                  <a:pt x="15588" y="12173"/>
                  <a:pt x="15529" y="12099"/>
                  <a:pt x="15503" y="12080"/>
                </a:cubicBezTo>
                <a:cubicBezTo>
                  <a:pt x="15436" y="12032"/>
                  <a:pt x="15384" y="12057"/>
                  <a:pt x="15329" y="12105"/>
                </a:cubicBezTo>
                <a:cubicBezTo>
                  <a:pt x="15267" y="12159"/>
                  <a:pt x="15247" y="12212"/>
                  <a:pt x="15205" y="12278"/>
                </a:cubicBezTo>
                <a:cubicBezTo>
                  <a:pt x="15174" y="12327"/>
                  <a:pt x="15161" y="12393"/>
                  <a:pt x="15156" y="12452"/>
                </a:cubicBezTo>
                <a:cubicBezTo>
                  <a:pt x="15156" y="12460"/>
                  <a:pt x="15156" y="12469"/>
                  <a:pt x="15156" y="124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Ink 12"/>
          <p:cNvSpPr/>
          <p:nvPr/>
        </p:nvSpPr>
        <p:spPr>
          <a:xfrm>
            <a:off x="6242040" y="3214800"/>
            <a:ext cx="2768760" cy="455400"/>
          </a:xfrm>
          <a:custGeom>
            <a:avLst/>
            <a:gdLst/>
            <a:ahLst/>
            <a:rect l="l" t="t" r="r" b="b"/>
            <a:pathLst>
              <a:path w="7691" h="1266">
                <a:moveTo>
                  <a:pt x="17661" y="9674"/>
                </a:moveTo>
                <a:cubicBezTo>
                  <a:pt x="17609" y="9674"/>
                  <a:pt x="17445" y="9646"/>
                  <a:pt x="17413" y="9699"/>
                </a:cubicBezTo>
                <a:cubicBezTo>
                  <a:pt x="17389" y="9738"/>
                  <a:pt x="17393" y="9855"/>
                  <a:pt x="17388" y="9897"/>
                </a:cubicBezTo>
                <a:cubicBezTo>
                  <a:pt x="17425" y="9832"/>
                  <a:pt x="17453" y="9800"/>
                  <a:pt x="17537" y="9823"/>
                </a:cubicBezTo>
                <a:cubicBezTo>
                  <a:pt x="17602" y="9840"/>
                  <a:pt x="17645" y="9916"/>
                  <a:pt x="17661" y="9971"/>
                </a:cubicBezTo>
                <a:cubicBezTo>
                  <a:pt x="17677" y="10026"/>
                  <a:pt x="17657" y="10099"/>
                  <a:pt x="17636" y="10120"/>
                </a:cubicBezTo>
                <a:cubicBezTo>
                  <a:pt x="17570" y="10185"/>
                  <a:pt x="17589" y="10195"/>
                  <a:pt x="17487" y="10195"/>
                </a:cubicBezTo>
                <a:cubicBezTo>
                  <a:pt x="17411" y="10195"/>
                  <a:pt x="17403" y="10186"/>
                  <a:pt x="17363" y="10120"/>
                </a:cubicBezTo>
                <a:cubicBezTo>
                  <a:pt x="17343" y="10080"/>
                  <a:pt x="17334" y="10074"/>
                  <a:pt x="17338" y="10046"/>
                </a:cubicBezTo>
              </a:path>
              <a:path w="7691" h="1266">
                <a:moveTo>
                  <a:pt x="17859" y="9525"/>
                </a:moveTo>
                <a:cubicBezTo>
                  <a:pt x="17868" y="9613"/>
                  <a:pt x="17903" y="9660"/>
                  <a:pt x="17934" y="9748"/>
                </a:cubicBezTo>
                <a:cubicBezTo>
                  <a:pt x="17957" y="9813"/>
                  <a:pt x="18012" y="9858"/>
                  <a:pt x="18033" y="9897"/>
                </a:cubicBezTo>
                <a:cubicBezTo>
                  <a:pt x="18055" y="9937"/>
                  <a:pt x="18119" y="10022"/>
                  <a:pt x="18132" y="10046"/>
                </a:cubicBezTo>
                <a:cubicBezTo>
                  <a:pt x="18157" y="10119"/>
                  <a:pt x="18165" y="10145"/>
                  <a:pt x="18157" y="10046"/>
                </a:cubicBezTo>
              </a:path>
              <a:path w="7691" h="1266">
                <a:moveTo>
                  <a:pt x="18132" y="9500"/>
                </a:moveTo>
                <a:cubicBezTo>
                  <a:pt x="18111" y="9556"/>
                  <a:pt x="18107" y="9625"/>
                  <a:pt x="18083" y="9674"/>
                </a:cubicBezTo>
                <a:cubicBezTo>
                  <a:pt x="18055" y="9730"/>
                  <a:pt x="18013" y="9793"/>
                  <a:pt x="17983" y="9847"/>
                </a:cubicBezTo>
                <a:cubicBezTo>
                  <a:pt x="17944" y="9918"/>
                  <a:pt x="17946" y="9942"/>
                  <a:pt x="17909" y="9996"/>
                </a:cubicBezTo>
                <a:cubicBezTo>
                  <a:pt x="17875" y="10046"/>
                  <a:pt x="17887" y="10093"/>
                  <a:pt x="17859" y="10120"/>
                </a:cubicBezTo>
              </a:path>
              <a:path w="7691" h="1266">
                <a:moveTo>
                  <a:pt x="18331" y="9401"/>
                </a:moveTo>
                <a:cubicBezTo>
                  <a:pt x="18306" y="9458"/>
                  <a:pt x="18300" y="9497"/>
                  <a:pt x="18281" y="9550"/>
                </a:cubicBezTo>
                <a:cubicBezTo>
                  <a:pt x="18273" y="9566"/>
                  <a:pt x="18264" y="9583"/>
                  <a:pt x="18256" y="9599"/>
                </a:cubicBezTo>
                <a:cubicBezTo>
                  <a:pt x="18298" y="9589"/>
                  <a:pt x="18419" y="9573"/>
                  <a:pt x="18455" y="9550"/>
                </a:cubicBezTo>
                <a:cubicBezTo>
                  <a:pt x="18455" y="9542"/>
                  <a:pt x="18455" y="9533"/>
                  <a:pt x="18455" y="9525"/>
                </a:cubicBezTo>
              </a:path>
              <a:path w="7691" h="1266">
                <a:moveTo>
                  <a:pt x="18405" y="9401"/>
                </a:moveTo>
                <a:cubicBezTo>
                  <a:pt x="18405" y="9474"/>
                  <a:pt x="18414" y="9531"/>
                  <a:pt x="18430" y="9599"/>
                </a:cubicBezTo>
                <a:cubicBezTo>
                  <a:pt x="18448" y="9675"/>
                  <a:pt x="18455" y="9677"/>
                  <a:pt x="18455" y="9748"/>
                </a:cubicBezTo>
              </a:path>
              <a:path w="7691" h="1266">
                <a:moveTo>
                  <a:pt x="18579" y="9748"/>
                </a:moveTo>
                <a:cubicBezTo>
                  <a:pt x="18640" y="9748"/>
                  <a:pt x="18843" y="9748"/>
                  <a:pt x="18827" y="9748"/>
                </a:cubicBezTo>
              </a:path>
              <a:path w="7691" h="1266">
                <a:moveTo>
                  <a:pt x="19050" y="9500"/>
                </a:moveTo>
                <a:cubicBezTo>
                  <a:pt x="19050" y="9588"/>
                  <a:pt x="19066" y="9664"/>
                  <a:pt x="19075" y="9748"/>
                </a:cubicBezTo>
                <a:cubicBezTo>
                  <a:pt x="19086" y="9845"/>
                  <a:pt x="19075" y="9948"/>
                  <a:pt x="19075" y="10046"/>
                </a:cubicBezTo>
              </a:path>
              <a:path w="7691" h="1266">
                <a:moveTo>
                  <a:pt x="19273" y="9525"/>
                </a:moveTo>
                <a:cubicBezTo>
                  <a:pt x="19233" y="9592"/>
                  <a:pt x="19250" y="9675"/>
                  <a:pt x="19224" y="9748"/>
                </a:cubicBezTo>
                <a:cubicBezTo>
                  <a:pt x="19211" y="9786"/>
                  <a:pt x="19207" y="9867"/>
                  <a:pt x="19224" y="9922"/>
                </a:cubicBezTo>
                <a:cubicBezTo>
                  <a:pt x="19242" y="9982"/>
                  <a:pt x="19314" y="10036"/>
                  <a:pt x="19372" y="10046"/>
                </a:cubicBezTo>
                <a:cubicBezTo>
                  <a:pt x="19413" y="10053"/>
                  <a:pt x="19475" y="9996"/>
                  <a:pt x="19496" y="9971"/>
                </a:cubicBezTo>
                <a:cubicBezTo>
                  <a:pt x="19521" y="9941"/>
                  <a:pt x="19544" y="9859"/>
                  <a:pt x="19546" y="9823"/>
                </a:cubicBezTo>
                <a:cubicBezTo>
                  <a:pt x="19549" y="9767"/>
                  <a:pt x="19569" y="9635"/>
                  <a:pt x="19521" y="9599"/>
                </a:cubicBezTo>
                <a:cubicBezTo>
                  <a:pt x="19502" y="9585"/>
                  <a:pt x="19456" y="9510"/>
                  <a:pt x="19422" y="9500"/>
                </a:cubicBezTo>
                <a:cubicBezTo>
                  <a:pt x="19365" y="9484"/>
                  <a:pt x="19283" y="9500"/>
                  <a:pt x="19248" y="9550"/>
                </a:cubicBezTo>
                <a:cubicBezTo>
                  <a:pt x="19240" y="9566"/>
                  <a:pt x="19232" y="9583"/>
                  <a:pt x="19224" y="9599"/>
                </a:cubicBezTo>
              </a:path>
              <a:path w="7691" h="1266">
                <a:moveTo>
                  <a:pt x="19670" y="9550"/>
                </a:moveTo>
                <a:cubicBezTo>
                  <a:pt x="19692" y="9669"/>
                  <a:pt x="19693" y="9684"/>
                  <a:pt x="19745" y="9773"/>
                </a:cubicBezTo>
                <a:cubicBezTo>
                  <a:pt x="19779" y="9831"/>
                  <a:pt x="19821" y="9927"/>
                  <a:pt x="19869" y="9971"/>
                </a:cubicBezTo>
                <a:cubicBezTo>
                  <a:pt x="19924" y="10021"/>
                  <a:pt x="19920" y="10044"/>
                  <a:pt x="19968" y="9996"/>
                </a:cubicBezTo>
              </a:path>
              <a:path w="7691" h="1266">
                <a:moveTo>
                  <a:pt x="19943" y="9475"/>
                </a:moveTo>
                <a:cubicBezTo>
                  <a:pt x="19918" y="9549"/>
                  <a:pt x="19891" y="9626"/>
                  <a:pt x="19869" y="9699"/>
                </a:cubicBezTo>
                <a:cubicBezTo>
                  <a:pt x="19847" y="9773"/>
                  <a:pt x="19825" y="9861"/>
                  <a:pt x="19794" y="9922"/>
                </a:cubicBezTo>
                <a:cubicBezTo>
                  <a:pt x="19765" y="9978"/>
                  <a:pt x="19755" y="10002"/>
                  <a:pt x="19745" y="10046"/>
                </a:cubicBezTo>
              </a:path>
              <a:path w="7691" h="1266">
                <a:moveTo>
                  <a:pt x="20166" y="9327"/>
                </a:moveTo>
                <a:cubicBezTo>
                  <a:pt x="20194" y="9299"/>
                  <a:pt x="20208" y="9290"/>
                  <a:pt x="20241" y="9302"/>
                </a:cubicBezTo>
                <a:cubicBezTo>
                  <a:pt x="20263" y="9340"/>
                  <a:pt x="20275" y="9421"/>
                  <a:pt x="20216" y="9451"/>
                </a:cubicBezTo>
                <a:cubicBezTo>
                  <a:pt x="20199" y="9451"/>
                  <a:pt x="20183" y="9451"/>
                  <a:pt x="20166" y="9451"/>
                </a:cubicBezTo>
                <a:cubicBezTo>
                  <a:pt x="20212" y="9451"/>
                  <a:pt x="20297" y="9437"/>
                  <a:pt x="20315" y="9500"/>
                </a:cubicBezTo>
                <a:cubicBezTo>
                  <a:pt x="20345" y="9604"/>
                  <a:pt x="20259" y="9599"/>
                  <a:pt x="20191" y="9599"/>
                </a:cubicBezTo>
                <a:cubicBezTo>
                  <a:pt x="20156" y="9599"/>
                  <a:pt x="20143" y="9590"/>
                  <a:pt x="20141" y="9550"/>
                </a:cubicBezTo>
              </a:path>
              <a:path w="7691" h="1266">
                <a:moveTo>
                  <a:pt x="20538" y="9475"/>
                </a:moveTo>
                <a:cubicBezTo>
                  <a:pt x="20569" y="9526"/>
                  <a:pt x="20576" y="9609"/>
                  <a:pt x="20563" y="9674"/>
                </a:cubicBezTo>
                <a:cubicBezTo>
                  <a:pt x="20548" y="9751"/>
                  <a:pt x="20538" y="9751"/>
                  <a:pt x="20538" y="9823"/>
                </a:cubicBezTo>
              </a:path>
              <a:path w="7691" h="1266">
                <a:moveTo>
                  <a:pt x="20439" y="9624"/>
                </a:moveTo>
                <a:cubicBezTo>
                  <a:pt x="20516" y="9615"/>
                  <a:pt x="20583" y="9599"/>
                  <a:pt x="20662" y="9599"/>
                </a:cubicBezTo>
                <a:cubicBezTo>
                  <a:pt x="20670" y="9599"/>
                  <a:pt x="20679" y="9599"/>
                  <a:pt x="20687" y="9599"/>
                </a:cubicBezTo>
              </a:path>
              <a:path w="7691" h="1266">
                <a:moveTo>
                  <a:pt x="20836" y="9327"/>
                </a:moveTo>
                <a:cubicBezTo>
                  <a:pt x="20910" y="9299"/>
                  <a:pt x="20963" y="9289"/>
                  <a:pt x="21010" y="9376"/>
                </a:cubicBezTo>
                <a:cubicBezTo>
                  <a:pt x="21054" y="9458"/>
                  <a:pt x="21082" y="9492"/>
                  <a:pt x="21034" y="9599"/>
                </a:cubicBezTo>
                <a:cubicBezTo>
                  <a:pt x="21023" y="9623"/>
                  <a:pt x="20936" y="9728"/>
                  <a:pt x="20910" y="9748"/>
                </a:cubicBezTo>
                <a:cubicBezTo>
                  <a:pt x="20864" y="9784"/>
                  <a:pt x="20872" y="9744"/>
                  <a:pt x="20861" y="9823"/>
                </a:cubicBezTo>
                <a:cubicBezTo>
                  <a:pt x="20984" y="9823"/>
                  <a:pt x="21051" y="9807"/>
                  <a:pt x="21134" y="9773"/>
                </a:cubicBezTo>
                <a:cubicBezTo>
                  <a:pt x="21175" y="9773"/>
                  <a:pt x="21183" y="9773"/>
                  <a:pt x="21208" y="9773"/>
                </a:cubicBezTo>
              </a:path>
              <a:path w="7691" h="1266">
                <a:moveTo>
                  <a:pt x="21233" y="9227"/>
                </a:moveTo>
                <a:cubicBezTo>
                  <a:pt x="21226" y="9294"/>
                  <a:pt x="21185" y="9379"/>
                  <a:pt x="21208" y="9451"/>
                </a:cubicBezTo>
                <a:cubicBezTo>
                  <a:pt x="21223" y="9498"/>
                  <a:pt x="21346" y="9475"/>
                  <a:pt x="21382" y="9475"/>
                </a:cubicBezTo>
                <a:cubicBezTo>
                  <a:pt x="21445" y="9475"/>
                  <a:pt x="21528" y="9491"/>
                  <a:pt x="21555" y="9451"/>
                </a:cubicBezTo>
              </a:path>
              <a:path w="7691" h="1266">
                <a:moveTo>
                  <a:pt x="21481" y="9227"/>
                </a:moveTo>
                <a:cubicBezTo>
                  <a:pt x="21481" y="9356"/>
                  <a:pt x="21490" y="9478"/>
                  <a:pt x="21506" y="9599"/>
                </a:cubicBezTo>
                <a:cubicBezTo>
                  <a:pt x="21514" y="9656"/>
                  <a:pt x="21514" y="9726"/>
                  <a:pt x="21481" y="9748"/>
                </a:cubicBezTo>
              </a:path>
              <a:path w="7691" h="1266">
                <a:moveTo>
                  <a:pt x="21803" y="9302"/>
                </a:moveTo>
                <a:cubicBezTo>
                  <a:pt x="21777" y="9347"/>
                  <a:pt x="21778" y="9402"/>
                  <a:pt x="21803" y="9451"/>
                </a:cubicBezTo>
                <a:cubicBezTo>
                  <a:pt x="21831" y="9507"/>
                  <a:pt x="21873" y="9569"/>
                  <a:pt x="21903" y="9624"/>
                </a:cubicBezTo>
                <a:cubicBezTo>
                  <a:pt x="21931" y="9675"/>
                  <a:pt x="21941" y="9721"/>
                  <a:pt x="21977" y="9748"/>
                </a:cubicBezTo>
              </a:path>
              <a:path w="7691" h="1266">
                <a:moveTo>
                  <a:pt x="21927" y="9376"/>
                </a:moveTo>
                <a:cubicBezTo>
                  <a:pt x="21902" y="9419"/>
                  <a:pt x="21865" y="9497"/>
                  <a:pt x="21853" y="9550"/>
                </a:cubicBezTo>
                <a:cubicBezTo>
                  <a:pt x="21838" y="9618"/>
                  <a:pt x="21827" y="9700"/>
                  <a:pt x="21779" y="9748"/>
                </a:cubicBezTo>
                <a:cubicBezTo>
                  <a:pt x="21758" y="9769"/>
                  <a:pt x="21750" y="9802"/>
                  <a:pt x="21729" y="9823"/>
                </a:cubicBezTo>
              </a:path>
              <a:path w="7691" h="1266">
                <a:moveTo>
                  <a:pt x="21952" y="9103"/>
                </a:moveTo>
                <a:cubicBezTo>
                  <a:pt x="22028" y="9076"/>
                  <a:pt x="22070" y="9060"/>
                  <a:pt x="22101" y="9153"/>
                </a:cubicBezTo>
                <a:cubicBezTo>
                  <a:pt x="22126" y="9228"/>
                  <a:pt x="22046" y="9242"/>
                  <a:pt x="22051" y="9302"/>
                </a:cubicBezTo>
                <a:cubicBezTo>
                  <a:pt x="22057" y="9376"/>
                  <a:pt x="22207" y="9299"/>
                  <a:pt x="22225" y="9302"/>
                </a:cubicBezTo>
                <a:cubicBezTo>
                  <a:pt x="22238" y="9304"/>
                  <a:pt x="22307" y="9331"/>
                  <a:pt x="22250" y="9302"/>
                </a:cubicBezTo>
              </a:path>
              <a:path w="7691" h="1266">
                <a:moveTo>
                  <a:pt x="22299" y="9451"/>
                </a:moveTo>
                <a:cubicBezTo>
                  <a:pt x="22374" y="9451"/>
                  <a:pt x="22448" y="9451"/>
                  <a:pt x="22523" y="9451"/>
                </a:cubicBezTo>
              </a:path>
              <a:path w="7691" h="1266">
                <a:moveTo>
                  <a:pt x="22820" y="9178"/>
                </a:moveTo>
                <a:cubicBezTo>
                  <a:pt x="22770" y="9178"/>
                  <a:pt x="22682" y="9181"/>
                  <a:pt x="22671" y="9227"/>
                </a:cubicBezTo>
                <a:cubicBezTo>
                  <a:pt x="22656" y="9291"/>
                  <a:pt x="22673" y="9323"/>
                  <a:pt x="22696" y="9376"/>
                </a:cubicBezTo>
                <a:cubicBezTo>
                  <a:pt x="22724" y="9292"/>
                  <a:pt x="22741" y="9332"/>
                  <a:pt x="22796" y="9376"/>
                </a:cubicBezTo>
                <a:cubicBezTo>
                  <a:pt x="22844" y="9414"/>
                  <a:pt x="22861" y="9492"/>
                  <a:pt x="22845" y="9550"/>
                </a:cubicBezTo>
                <a:cubicBezTo>
                  <a:pt x="22827" y="9615"/>
                  <a:pt x="22757" y="9621"/>
                  <a:pt x="22696" y="9624"/>
                </a:cubicBezTo>
                <a:cubicBezTo>
                  <a:pt x="22609" y="9628"/>
                  <a:pt x="22584" y="9618"/>
                  <a:pt x="22572" y="9550"/>
                </a:cubicBezTo>
              </a:path>
              <a:path w="7691" h="1266">
                <a:moveTo>
                  <a:pt x="23118" y="9153"/>
                </a:moveTo>
                <a:cubicBezTo>
                  <a:pt x="23059" y="9212"/>
                  <a:pt x="23049" y="9241"/>
                  <a:pt x="23019" y="9302"/>
                </a:cubicBezTo>
                <a:cubicBezTo>
                  <a:pt x="22991" y="9358"/>
                  <a:pt x="22952" y="9418"/>
                  <a:pt x="22944" y="9475"/>
                </a:cubicBezTo>
                <a:cubicBezTo>
                  <a:pt x="22944" y="9543"/>
                  <a:pt x="22941" y="9562"/>
                  <a:pt x="22969" y="9599"/>
                </a:cubicBezTo>
                <a:cubicBezTo>
                  <a:pt x="23059" y="9599"/>
                  <a:pt x="23084" y="9608"/>
                  <a:pt x="23143" y="9550"/>
                </a:cubicBezTo>
                <a:cubicBezTo>
                  <a:pt x="23171" y="9523"/>
                  <a:pt x="23231" y="9467"/>
                  <a:pt x="23267" y="9451"/>
                </a:cubicBezTo>
                <a:cubicBezTo>
                  <a:pt x="23327" y="9425"/>
                  <a:pt x="23329" y="9293"/>
                  <a:pt x="23316" y="9227"/>
                </a:cubicBezTo>
                <a:cubicBezTo>
                  <a:pt x="23305" y="9174"/>
                  <a:pt x="23267" y="9104"/>
                  <a:pt x="23217" y="9079"/>
                </a:cubicBezTo>
                <a:cubicBezTo>
                  <a:pt x="23182" y="9062"/>
                  <a:pt x="23109" y="9079"/>
                  <a:pt x="23068" y="9079"/>
                </a:cubicBezTo>
              </a:path>
              <a:path w="7691" h="1266">
                <a:moveTo>
                  <a:pt x="23341" y="9029"/>
                </a:moveTo>
                <a:cubicBezTo>
                  <a:pt x="23369" y="9114"/>
                  <a:pt x="23370" y="9155"/>
                  <a:pt x="23416" y="9227"/>
                </a:cubicBezTo>
                <a:cubicBezTo>
                  <a:pt x="23448" y="9277"/>
                  <a:pt x="23497" y="9341"/>
                  <a:pt x="23540" y="9376"/>
                </a:cubicBezTo>
                <a:cubicBezTo>
                  <a:pt x="23589" y="9415"/>
                  <a:pt x="23618" y="9454"/>
                  <a:pt x="23664" y="9500"/>
                </a:cubicBezTo>
                <a:cubicBezTo>
                  <a:pt x="23713" y="9550"/>
                  <a:pt x="23717" y="9631"/>
                  <a:pt x="23738" y="9550"/>
                </a:cubicBezTo>
              </a:path>
              <a:path w="7691" h="1266">
                <a:moveTo>
                  <a:pt x="23763" y="9227"/>
                </a:moveTo>
                <a:cubicBezTo>
                  <a:pt x="23718" y="9283"/>
                  <a:pt x="23712" y="9336"/>
                  <a:pt x="23688" y="9401"/>
                </a:cubicBezTo>
                <a:cubicBezTo>
                  <a:pt x="23665" y="9465"/>
                  <a:pt x="23623" y="9497"/>
                  <a:pt x="23589" y="9550"/>
                </a:cubicBezTo>
                <a:cubicBezTo>
                  <a:pt x="23570" y="9579"/>
                  <a:pt x="23520" y="9651"/>
                  <a:pt x="23490" y="9674"/>
                </a:cubicBezTo>
                <a:cubicBezTo>
                  <a:pt x="23482" y="9674"/>
                  <a:pt x="23473" y="9674"/>
                  <a:pt x="23465" y="9674"/>
                </a:cubicBezTo>
              </a:path>
              <a:path w="7691" h="1266">
                <a:moveTo>
                  <a:pt x="23937" y="9079"/>
                </a:moveTo>
                <a:cubicBezTo>
                  <a:pt x="23937" y="9162"/>
                  <a:pt x="23943" y="9225"/>
                  <a:pt x="23961" y="9302"/>
                </a:cubicBezTo>
                <a:cubicBezTo>
                  <a:pt x="23975" y="9362"/>
                  <a:pt x="23948" y="9432"/>
                  <a:pt x="23937" y="9451"/>
                </a:cubicBezTo>
              </a:path>
              <a:path w="7691" h="1266">
                <a:moveTo>
                  <a:pt x="23812" y="9227"/>
                </a:moveTo>
                <a:cubicBezTo>
                  <a:pt x="23899" y="9163"/>
                  <a:pt x="23913" y="9209"/>
                  <a:pt x="24011" y="9178"/>
                </a:cubicBezTo>
                <a:cubicBezTo>
                  <a:pt x="24028" y="9170"/>
                  <a:pt x="24044" y="9161"/>
                  <a:pt x="24061" y="9153"/>
                </a:cubicBezTo>
              </a:path>
              <a:path w="7691" h="1266">
                <a:moveTo>
                  <a:pt x="24110" y="9079"/>
                </a:moveTo>
                <a:cubicBezTo>
                  <a:pt x="24110" y="9219"/>
                  <a:pt x="24110" y="9360"/>
                  <a:pt x="24110" y="9500"/>
                </a:cubicBezTo>
              </a:path>
              <a:path w="7691" h="1266">
                <a:moveTo>
                  <a:pt x="24284" y="9079"/>
                </a:moveTo>
                <a:cubicBezTo>
                  <a:pt x="24257" y="9122"/>
                  <a:pt x="24240" y="9207"/>
                  <a:pt x="24234" y="9252"/>
                </a:cubicBezTo>
                <a:cubicBezTo>
                  <a:pt x="24225" y="9312"/>
                  <a:pt x="24230" y="9423"/>
                  <a:pt x="24259" y="9475"/>
                </a:cubicBezTo>
                <a:cubicBezTo>
                  <a:pt x="24267" y="9483"/>
                  <a:pt x="24276" y="9492"/>
                  <a:pt x="24284" y="9500"/>
                </a:cubicBezTo>
                <a:cubicBezTo>
                  <a:pt x="24364" y="9488"/>
                  <a:pt x="24382" y="9463"/>
                  <a:pt x="24433" y="9401"/>
                </a:cubicBezTo>
                <a:cubicBezTo>
                  <a:pt x="24463" y="9364"/>
                  <a:pt x="24479" y="9278"/>
                  <a:pt x="24482" y="9227"/>
                </a:cubicBezTo>
                <a:cubicBezTo>
                  <a:pt x="24485" y="9173"/>
                  <a:pt x="24465" y="9053"/>
                  <a:pt x="24433" y="9004"/>
                </a:cubicBezTo>
                <a:cubicBezTo>
                  <a:pt x="24383" y="8927"/>
                  <a:pt x="24314" y="8951"/>
                  <a:pt x="24284" y="9004"/>
                </a:cubicBezTo>
                <a:cubicBezTo>
                  <a:pt x="24284" y="9012"/>
                  <a:pt x="24284" y="9021"/>
                  <a:pt x="24284" y="9029"/>
                </a:cubicBezTo>
              </a:path>
              <a:path w="7691" h="1266">
                <a:moveTo>
                  <a:pt x="24656" y="8930"/>
                </a:moveTo>
                <a:cubicBezTo>
                  <a:pt x="24689" y="8995"/>
                  <a:pt x="24675" y="9078"/>
                  <a:pt x="24681" y="9153"/>
                </a:cubicBezTo>
                <a:cubicBezTo>
                  <a:pt x="24688" y="9241"/>
                  <a:pt x="24675" y="9281"/>
                  <a:pt x="24681" y="9376"/>
                </a:cubicBezTo>
                <a:cubicBezTo>
                  <a:pt x="24683" y="9409"/>
                  <a:pt x="24681" y="9442"/>
                  <a:pt x="24681" y="9475"/>
                </a:cubicBezTo>
              </a:path>
              <a:path w="7691" h="1266">
                <a:moveTo>
                  <a:pt x="24879" y="9004"/>
                </a:moveTo>
                <a:cubicBezTo>
                  <a:pt x="24879" y="9085"/>
                  <a:pt x="24890" y="9149"/>
                  <a:pt x="24904" y="9227"/>
                </a:cubicBezTo>
                <a:cubicBezTo>
                  <a:pt x="24912" y="9272"/>
                  <a:pt x="24904" y="9332"/>
                  <a:pt x="24904" y="9376"/>
                </a:cubicBezTo>
              </a:path>
              <a:path w="7691" h="1266">
                <a:moveTo>
                  <a:pt x="24780" y="9103"/>
                </a:moveTo>
                <a:cubicBezTo>
                  <a:pt x="24788" y="9095"/>
                  <a:pt x="24797" y="9087"/>
                  <a:pt x="24805" y="9079"/>
                </a:cubicBezTo>
                <a:cubicBezTo>
                  <a:pt x="24878" y="9115"/>
                  <a:pt x="24904" y="9083"/>
                  <a:pt x="24978" y="9079"/>
                </a:cubicBezTo>
                <a:cubicBezTo>
                  <a:pt x="24995" y="9079"/>
                  <a:pt x="25011" y="9079"/>
                  <a:pt x="25028" y="90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Ink 13"/>
          <p:cNvSpPr/>
          <p:nvPr/>
        </p:nvSpPr>
        <p:spPr>
          <a:xfrm>
            <a:off x="2044800" y="4599000"/>
            <a:ext cx="4394160" cy="1258920"/>
          </a:xfrm>
          <a:custGeom>
            <a:avLst/>
            <a:gdLst/>
            <a:ahLst/>
            <a:rect l="l" t="t" r="r" b="b"/>
            <a:pathLst>
              <a:path w="12205" h="3499">
                <a:moveTo>
                  <a:pt x="12849" y="13940"/>
                </a:moveTo>
                <a:cubicBezTo>
                  <a:pt x="13050" y="13940"/>
                  <a:pt x="13252" y="13943"/>
                  <a:pt x="13444" y="13965"/>
                </a:cubicBezTo>
                <a:cubicBezTo>
                  <a:pt x="13710" y="13996"/>
                  <a:pt x="14002" y="13964"/>
                  <a:pt x="14263" y="13940"/>
                </a:cubicBezTo>
                <a:cubicBezTo>
                  <a:pt x="14404" y="13927"/>
                  <a:pt x="14549" y="13931"/>
                  <a:pt x="14684" y="13915"/>
                </a:cubicBezTo>
                <a:cubicBezTo>
                  <a:pt x="15137" y="13860"/>
                  <a:pt x="15640" y="13976"/>
                  <a:pt x="16073" y="13940"/>
                </a:cubicBezTo>
                <a:cubicBezTo>
                  <a:pt x="16118" y="13936"/>
                  <a:pt x="16112" y="13919"/>
                  <a:pt x="16148" y="13891"/>
                </a:cubicBezTo>
              </a:path>
              <a:path w="12205" h="3499">
                <a:moveTo>
                  <a:pt x="5904" y="13122"/>
                </a:moveTo>
                <a:cubicBezTo>
                  <a:pt x="5959" y="13102"/>
                  <a:pt x="5928" y="13200"/>
                  <a:pt x="5928" y="13271"/>
                </a:cubicBezTo>
                <a:cubicBezTo>
                  <a:pt x="5928" y="13345"/>
                  <a:pt x="5949" y="13399"/>
                  <a:pt x="5953" y="13469"/>
                </a:cubicBezTo>
                <a:cubicBezTo>
                  <a:pt x="5958" y="13554"/>
                  <a:pt x="5978" y="13631"/>
                  <a:pt x="5978" y="13717"/>
                </a:cubicBezTo>
                <a:cubicBezTo>
                  <a:pt x="5978" y="13853"/>
                  <a:pt x="5978" y="13993"/>
                  <a:pt x="6003" y="14114"/>
                </a:cubicBezTo>
                <a:cubicBezTo>
                  <a:pt x="6003" y="14165"/>
                  <a:pt x="6004" y="14184"/>
                  <a:pt x="6028" y="14213"/>
                </a:cubicBezTo>
                <a:cubicBezTo>
                  <a:pt x="5994" y="14170"/>
                  <a:pt x="5967" y="14129"/>
                  <a:pt x="5928" y="14089"/>
                </a:cubicBezTo>
                <a:cubicBezTo>
                  <a:pt x="5889" y="14049"/>
                  <a:pt x="5845" y="14027"/>
                  <a:pt x="5804" y="13990"/>
                </a:cubicBezTo>
                <a:cubicBezTo>
                  <a:pt x="5752" y="13944"/>
                  <a:pt x="5771" y="13916"/>
                  <a:pt x="5705" y="13866"/>
                </a:cubicBezTo>
                <a:cubicBezTo>
                  <a:pt x="5697" y="13858"/>
                  <a:pt x="5688" y="13849"/>
                  <a:pt x="5680" y="13841"/>
                </a:cubicBezTo>
                <a:cubicBezTo>
                  <a:pt x="5750" y="13881"/>
                  <a:pt x="5758" y="13903"/>
                  <a:pt x="5804" y="13965"/>
                </a:cubicBezTo>
                <a:cubicBezTo>
                  <a:pt x="5839" y="14012"/>
                  <a:pt x="5908" y="14030"/>
                  <a:pt x="5953" y="14064"/>
                </a:cubicBezTo>
                <a:cubicBezTo>
                  <a:pt x="5990" y="14092"/>
                  <a:pt x="6032" y="14151"/>
                  <a:pt x="6077" y="14163"/>
                </a:cubicBezTo>
                <a:cubicBezTo>
                  <a:pt x="6094" y="14163"/>
                  <a:pt x="6110" y="14163"/>
                  <a:pt x="6127" y="14163"/>
                </a:cubicBezTo>
                <a:cubicBezTo>
                  <a:pt x="6135" y="14108"/>
                  <a:pt x="6167" y="14064"/>
                  <a:pt x="6176" y="14015"/>
                </a:cubicBezTo>
                <a:cubicBezTo>
                  <a:pt x="6191" y="13940"/>
                  <a:pt x="6215" y="13908"/>
                  <a:pt x="6251" y="13841"/>
                </a:cubicBezTo>
                <a:cubicBezTo>
                  <a:pt x="6279" y="13789"/>
                  <a:pt x="6310" y="13736"/>
                  <a:pt x="6350" y="13692"/>
                </a:cubicBezTo>
                <a:cubicBezTo>
                  <a:pt x="6382" y="13656"/>
                  <a:pt x="6407" y="13642"/>
                  <a:pt x="6449" y="13618"/>
                </a:cubicBezTo>
              </a:path>
              <a:path w="12205" h="3499">
                <a:moveTo>
                  <a:pt x="6400" y="14957"/>
                </a:moveTo>
                <a:cubicBezTo>
                  <a:pt x="6353" y="14920"/>
                  <a:pt x="6354" y="14896"/>
                  <a:pt x="6276" y="14883"/>
                </a:cubicBezTo>
                <a:cubicBezTo>
                  <a:pt x="6197" y="14870"/>
                  <a:pt x="6071" y="14867"/>
                  <a:pt x="6003" y="14908"/>
                </a:cubicBezTo>
                <a:cubicBezTo>
                  <a:pt x="5947" y="14942"/>
                  <a:pt x="5931" y="14996"/>
                  <a:pt x="5928" y="15056"/>
                </a:cubicBezTo>
                <a:cubicBezTo>
                  <a:pt x="5928" y="15106"/>
                  <a:pt x="5928" y="15123"/>
                  <a:pt x="5928" y="15156"/>
                </a:cubicBezTo>
                <a:cubicBezTo>
                  <a:pt x="6021" y="15156"/>
                  <a:pt x="6143" y="15133"/>
                  <a:pt x="6226" y="15180"/>
                </a:cubicBezTo>
                <a:cubicBezTo>
                  <a:pt x="6276" y="15208"/>
                  <a:pt x="6367" y="15251"/>
                  <a:pt x="6400" y="15304"/>
                </a:cubicBezTo>
                <a:cubicBezTo>
                  <a:pt x="6454" y="15389"/>
                  <a:pt x="6495" y="15501"/>
                  <a:pt x="6474" y="15602"/>
                </a:cubicBezTo>
                <a:cubicBezTo>
                  <a:pt x="6460" y="15671"/>
                  <a:pt x="6422" y="15750"/>
                  <a:pt x="6375" y="15801"/>
                </a:cubicBezTo>
                <a:cubicBezTo>
                  <a:pt x="6356" y="15821"/>
                  <a:pt x="6258" y="15867"/>
                  <a:pt x="6226" y="15875"/>
                </a:cubicBezTo>
                <a:cubicBezTo>
                  <a:pt x="6159" y="15891"/>
                  <a:pt x="6081" y="15878"/>
                  <a:pt x="6028" y="15850"/>
                </a:cubicBezTo>
                <a:cubicBezTo>
                  <a:pt x="5976" y="15822"/>
                  <a:pt x="5913" y="15804"/>
                  <a:pt x="5879" y="15751"/>
                </a:cubicBezTo>
                <a:cubicBezTo>
                  <a:pt x="5835" y="15682"/>
                  <a:pt x="5784" y="15638"/>
                  <a:pt x="5779" y="15553"/>
                </a:cubicBezTo>
                <a:cubicBezTo>
                  <a:pt x="5779" y="15536"/>
                  <a:pt x="5779" y="15520"/>
                  <a:pt x="5779" y="15503"/>
                </a:cubicBezTo>
              </a:path>
              <a:path w="12205" h="3499">
                <a:moveTo>
                  <a:pt x="7045" y="13667"/>
                </a:moveTo>
                <a:cubicBezTo>
                  <a:pt x="7102" y="13610"/>
                  <a:pt x="7137" y="13618"/>
                  <a:pt x="7218" y="13618"/>
                </a:cubicBezTo>
                <a:cubicBezTo>
                  <a:pt x="7292" y="13618"/>
                  <a:pt x="7367" y="13618"/>
                  <a:pt x="7441" y="13618"/>
                </a:cubicBezTo>
              </a:path>
              <a:path w="12205" h="3499">
                <a:moveTo>
                  <a:pt x="7689" y="13295"/>
                </a:moveTo>
                <a:cubicBezTo>
                  <a:pt x="7735" y="13372"/>
                  <a:pt x="7699" y="13407"/>
                  <a:pt x="7689" y="13494"/>
                </a:cubicBezTo>
                <a:cubicBezTo>
                  <a:pt x="7679" y="13579"/>
                  <a:pt x="7701" y="13640"/>
                  <a:pt x="7714" y="13717"/>
                </a:cubicBezTo>
                <a:cubicBezTo>
                  <a:pt x="7729" y="13805"/>
                  <a:pt x="7726" y="13902"/>
                  <a:pt x="7739" y="13990"/>
                </a:cubicBezTo>
                <a:cubicBezTo>
                  <a:pt x="7752" y="14077"/>
                  <a:pt x="7728" y="14166"/>
                  <a:pt x="7714" y="14238"/>
                </a:cubicBezTo>
                <a:cubicBezTo>
                  <a:pt x="7714" y="14255"/>
                  <a:pt x="7714" y="14271"/>
                  <a:pt x="7714" y="14288"/>
                </a:cubicBezTo>
              </a:path>
              <a:path w="12205" h="3499">
                <a:moveTo>
                  <a:pt x="8012" y="13444"/>
                </a:moveTo>
                <a:cubicBezTo>
                  <a:pt x="8004" y="13507"/>
                  <a:pt x="7973" y="13565"/>
                  <a:pt x="7962" y="13618"/>
                </a:cubicBezTo>
                <a:cubicBezTo>
                  <a:pt x="7947" y="13693"/>
                  <a:pt x="7938" y="13761"/>
                  <a:pt x="7938" y="13841"/>
                </a:cubicBezTo>
                <a:cubicBezTo>
                  <a:pt x="7938" y="13904"/>
                  <a:pt x="7958" y="14007"/>
                  <a:pt x="7987" y="14064"/>
                </a:cubicBezTo>
                <a:cubicBezTo>
                  <a:pt x="8023" y="14136"/>
                  <a:pt x="8058" y="14157"/>
                  <a:pt x="8111" y="14188"/>
                </a:cubicBezTo>
                <a:cubicBezTo>
                  <a:pt x="8192" y="14236"/>
                  <a:pt x="8202" y="14182"/>
                  <a:pt x="8285" y="14163"/>
                </a:cubicBezTo>
                <a:cubicBezTo>
                  <a:pt x="8339" y="14151"/>
                  <a:pt x="8374" y="14143"/>
                  <a:pt x="8409" y="14089"/>
                </a:cubicBezTo>
                <a:cubicBezTo>
                  <a:pt x="8459" y="14012"/>
                  <a:pt x="8503" y="13964"/>
                  <a:pt x="8508" y="13866"/>
                </a:cubicBezTo>
                <a:cubicBezTo>
                  <a:pt x="8511" y="13811"/>
                  <a:pt x="8506" y="13738"/>
                  <a:pt x="8483" y="13692"/>
                </a:cubicBezTo>
                <a:cubicBezTo>
                  <a:pt x="8462" y="13649"/>
                  <a:pt x="8409" y="13610"/>
                  <a:pt x="8384" y="13568"/>
                </a:cubicBezTo>
                <a:cubicBezTo>
                  <a:pt x="8332" y="13482"/>
                  <a:pt x="8316" y="13506"/>
                  <a:pt x="8235" y="13469"/>
                </a:cubicBezTo>
                <a:cubicBezTo>
                  <a:pt x="8162" y="13435"/>
                  <a:pt x="8160" y="13454"/>
                  <a:pt x="8086" y="13494"/>
                </a:cubicBezTo>
                <a:cubicBezTo>
                  <a:pt x="8046" y="13514"/>
                  <a:pt x="8040" y="13523"/>
                  <a:pt x="8012" y="13519"/>
                </a:cubicBezTo>
              </a:path>
              <a:path w="12205" h="3499">
                <a:moveTo>
                  <a:pt x="7541" y="15180"/>
                </a:moveTo>
                <a:cubicBezTo>
                  <a:pt x="7603" y="15243"/>
                  <a:pt x="7643" y="15230"/>
                  <a:pt x="7739" y="15230"/>
                </a:cubicBezTo>
                <a:cubicBezTo>
                  <a:pt x="7809" y="15230"/>
                  <a:pt x="7880" y="15191"/>
                  <a:pt x="7938" y="15180"/>
                </a:cubicBezTo>
                <a:cubicBezTo>
                  <a:pt x="7979" y="15180"/>
                  <a:pt x="7995" y="15188"/>
                  <a:pt x="7987" y="15156"/>
                </a:cubicBezTo>
              </a:path>
              <a:path w="12205" h="3499">
                <a:moveTo>
                  <a:pt x="8260" y="14932"/>
                </a:moveTo>
                <a:cubicBezTo>
                  <a:pt x="8286" y="14984"/>
                  <a:pt x="8323" y="15089"/>
                  <a:pt x="8310" y="15156"/>
                </a:cubicBezTo>
                <a:cubicBezTo>
                  <a:pt x="8295" y="15232"/>
                  <a:pt x="8303" y="15328"/>
                  <a:pt x="8285" y="15404"/>
                </a:cubicBezTo>
                <a:cubicBezTo>
                  <a:pt x="8264" y="15492"/>
                  <a:pt x="8280" y="15534"/>
                  <a:pt x="8285" y="15627"/>
                </a:cubicBezTo>
                <a:cubicBezTo>
                  <a:pt x="8289" y="15700"/>
                  <a:pt x="8252" y="15795"/>
                  <a:pt x="8310" y="15776"/>
                </a:cubicBezTo>
              </a:path>
              <a:path w="12205" h="3499">
                <a:moveTo>
                  <a:pt x="8731" y="15056"/>
                </a:moveTo>
                <a:cubicBezTo>
                  <a:pt x="8723" y="15148"/>
                  <a:pt x="8676" y="15194"/>
                  <a:pt x="8657" y="15280"/>
                </a:cubicBezTo>
                <a:cubicBezTo>
                  <a:pt x="8639" y="15361"/>
                  <a:pt x="8595" y="15446"/>
                  <a:pt x="8582" y="15528"/>
                </a:cubicBezTo>
                <a:cubicBezTo>
                  <a:pt x="8566" y="15628"/>
                  <a:pt x="8572" y="15760"/>
                  <a:pt x="8607" y="15850"/>
                </a:cubicBezTo>
                <a:cubicBezTo>
                  <a:pt x="8623" y="15892"/>
                  <a:pt x="8670" y="15973"/>
                  <a:pt x="8706" y="15999"/>
                </a:cubicBezTo>
                <a:cubicBezTo>
                  <a:pt x="8771" y="16046"/>
                  <a:pt x="8829" y="16049"/>
                  <a:pt x="8905" y="16049"/>
                </a:cubicBezTo>
                <a:cubicBezTo>
                  <a:pt x="8964" y="16049"/>
                  <a:pt x="9037" y="16023"/>
                  <a:pt x="9079" y="15974"/>
                </a:cubicBezTo>
                <a:cubicBezTo>
                  <a:pt x="9136" y="15908"/>
                  <a:pt x="9198" y="15761"/>
                  <a:pt x="9203" y="15677"/>
                </a:cubicBezTo>
                <a:cubicBezTo>
                  <a:pt x="9208" y="15594"/>
                  <a:pt x="9181" y="15531"/>
                  <a:pt x="9178" y="15453"/>
                </a:cubicBezTo>
                <a:cubicBezTo>
                  <a:pt x="9174" y="15359"/>
                  <a:pt x="9148" y="15331"/>
                  <a:pt x="9103" y="15255"/>
                </a:cubicBezTo>
                <a:cubicBezTo>
                  <a:pt x="9069" y="15198"/>
                  <a:pt x="9018" y="15105"/>
                  <a:pt x="8954" y="15081"/>
                </a:cubicBezTo>
                <a:cubicBezTo>
                  <a:pt x="8902" y="15061"/>
                  <a:pt x="8820" y="15008"/>
                  <a:pt x="8756" y="15032"/>
                </a:cubicBezTo>
                <a:cubicBezTo>
                  <a:pt x="8710" y="15049"/>
                  <a:pt x="8648" y="15073"/>
                  <a:pt x="8632" y="15131"/>
                </a:cubicBezTo>
                <a:cubicBezTo>
                  <a:pt x="8622" y="15166"/>
                  <a:pt x="8632" y="15218"/>
                  <a:pt x="8632" y="15255"/>
                </a:cubicBezTo>
              </a:path>
              <a:path w="12205" h="3499">
                <a:moveTo>
                  <a:pt x="9351" y="13345"/>
                </a:moveTo>
                <a:cubicBezTo>
                  <a:pt x="9391" y="13313"/>
                  <a:pt x="9455" y="13278"/>
                  <a:pt x="9500" y="13271"/>
                </a:cubicBezTo>
                <a:cubicBezTo>
                  <a:pt x="9583" y="13259"/>
                  <a:pt x="9686" y="13294"/>
                  <a:pt x="9748" y="13345"/>
                </a:cubicBezTo>
                <a:cubicBezTo>
                  <a:pt x="9793" y="13382"/>
                  <a:pt x="9858" y="13467"/>
                  <a:pt x="9872" y="13519"/>
                </a:cubicBezTo>
                <a:cubicBezTo>
                  <a:pt x="9894" y="13601"/>
                  <a:pt x="9854" y="13694"/>
                  <a:pt x="9823" y="13767"/>
                </a:cubicBezTo>
                <a:cubicBezTo>
                  <a:pt x="9798" y="13826"/>
                  <a:pt x="9752" y="13859"/>
                  <a:pt x="9699" y="13891"/>
                </a:cubicBezTo>
                <a:cubicBezTo>
                  <a:pt x="9645" y="13923"/>
                  <a:pt x="9598" y="13941"/>
                  <a:pt x="9550" y="13965"/>
                </a:cubicBezTo>
                <a:cubicBezTo>
                  <a:pt x="9542" y="13973"/>
                  <a:pt x="9533" y="13982"/>
                  <a:pt x="9525" y="13990"/>
                </a:cubicBezTo>
                <a:cubicBezTo>
                  <a:pt x="9601" y="14001"/>
                  <a:pt x="9666" y="14049"/>
                  <a:pt x="9748" y="14064"/>
                </a:cubicBezTo>
                <a:cubicBezTo>
                  <a:pt x="9812" y="14076"/>
                  <a:pt x="9863" y="14068"/>
                  <a:pt x="9922" y="14089"/>
                </a:cubicBezTo>
                <a:cubicBezTo>
                  <a:pt x="9978" y="14109"/>
                  <a:pt x="10075" y="14148"/>
                  <a:pt x="10120" y="14089"/>
                </a:cubicBezTo>
                <a:cubicBezTo>
                  <a:pt x="10128" y="14072"/>
                  <a:pt x="10137" y="14056"/>
                  <a:pt x="10145" y="14039"/>
                </a:cubicBezTo>
              </a:path>
              <a:path w="12205" h="3499">
                <a:moveTo>
                  <a:pt x="10368" y="13295"/>
                </a:moveTo>
                <a:cubicBezTo>
                  <a:pt x="10313" y="13359"/>
                  <a:pt x="10261" y="13421"/>
                  <a:pt x="10220" y="13494"/>
                </a:cubicBezTo>
                <a:cubicBezTo>
                  <a:pt x="10186" y="13554"/>
                  <a:pt x="10156" y="13626"/>
                  <a:pt x="10145" y="13692"/>
                </a:cubicBezTo>
                <a:cubicBezTo>
                  <a:pt x="10136" y="13743"/>
                  <a:pt x="10168" y="13847"/>
                  <a:pt x="10195" y="13891"/>
                </a:cubicBezTo>
                <a:cubicBezTo>
                  <a:pt x="10249" y="13977"/>
                  <a:pt x="10326" y="13986"/>
                  <a:pt x="10418" y="13990"/>
                </a:cubicBezTo>
                <a:cubicBezTo>
                  <a:pt x="10481" y="13993"/>
                  <a:pt x="10534" y="13944"/>
                  <a:pt x="10592" y="13915"/>
                </a:cubicBezTo>
                <a:cubicBezTo>
                  <a:pt x="10659" y="13882"/>
                  <a:pt x="10704" y="13808"/>
                  <a:pt x="10740" y="13742"/>
                </a:cubicBezTo>
                <a:cubicBezTo>
                  <a:pt x="10771" y="13686"/>
                  <a:pt x="10801" y="13559"/>
                  <a:pt x="10790" y="13494"/>
                </a:cubicBezTo>
                <a:cubicBezTo>
                  <a:pt x="10775" y="13407"/>
                  <a:pt x="10723" y="13333"/>
                  <a:pt x="10666" y="13271"/>
                </a:cubicBezTo>
                <a:cubicBezTo>
                  <a:pt x="10630" y="13233"/>
                  <a:pt x="10544" y="13224"/>
                  <a:pt x="10492" y="13221"/>
                </a:cubicBezTo>
                <a:cubicBezTo>
                  <a:pt x="10403" y="13216"/>
                  <a:pt x="10357" y="13270"/>
                  <a:pt x="10294" y="13320"/>
                </a:cubicBezTo>
              </a:path>
              <a:path w="12205" h="3499">
                <a:moveTo>
                  <a:pt x="9897" y="14858"/>
                </a:moveTo>
                <a:cubicBezTo>
                  <a:pt x="9941" y="14832"/>
                  <a:pt x="10014" y="14817"/>
                  <a:pt x="10071" y="14833"/>
                </a:cubicBezTo>
                <a:cubicBezTo>
                  <a:pt x="10134" y="14851"/>
                  <a:pt x="10190" y="14868"/>
                  <a:pt x="10244" y="14908"/>
                </a:cubicBezTo>
                <a:cubicBezTo>
                  <a:pt x="10283" y="14937"/>
                  <a:pt x="10291" y="15055"/>
                  <a:pt x="10294" y="15106"/>
                </a:cubicBezTo>
                <a:cubicBezTo>
                  <a:pt x="10299" y="15189"/>
                  <a:pt x="10282" y="15235"/>
                  <a:pt x="10244" y="15304"/>
                </a:cubicBezTo>
                <a:cubicBezTo>
                  <a:pt x="10215" y="15356"/>
                  <a:pt x="10188" y="15387"/>
                  <a:pt x="10145" y="15429"/>
                </a:cubicBezTo>
                <a:cubicBezTo>
                  <a:pt x="10112" y="15462"/>
                  <a:pt x="10079" y="15495"/>
                  <a:pt x="10046" y="15528"/>
                </a:cubicBezTo>
                <a:cubicBezTo>
                  <a:pt x="10106" y="15576"/>
                  <a:pt x="10151" y="15584"/>
                  <a:pt x="10220" y="15602"/>
                </a:cubicBezTo>
                <a:cubicBezTo>
                  <a:pt x="10292" y="15621"/>
                  <a:pt x="10350" y="15648"/>
                  <a:pt x="10418" y="15652"/>
                </a:cubicBezTo>
                <a:cubicBezTo>
                  <a:pt x="10495" y="15657"/>
                  <a:pt x="10559" y="15677"/>
                  <a:pt x="10641" y="15677"/>
                </a:cubicBezTo>
                <a:cubicBezTo>
                  <a:pt x="10703" y="15677"/>
                  <a:pt x="10718" y="15687"/>
                  <a:pt x="10740" y="15652"/>
                </a:cubicBezTo>
              </a:path>
              <a:path w="12205" h="3499">
                <a:moveTo>
                  <a:pt x="10815" y="14883"/>
                </a:moveTo>
                <a:cubicBezTo>
                  <a:pt x="10845" y="14933"/>
                  <a:pt x="10857" y="15017"/>
                  <a:pt x="10840" y="15081"/>
                </a:cubicBezTo>
                <a:cubicBezTo>
                  <a:pt x="10821" y="15153"/>
                  <a:pt x="10795" y="15237"/>
                  <a:pt x="10765" y="15304"/>
                </a:cubicBezTo>
                <a:cubicBezTo>
                  <a:pt x="10733" y="15376"/>
                  <a:pt x="10719" y="15449"/>
                  <a:pt x="10716" y="15528"/>
                </a:cubicBezTo>
                <a:cubicBezTo>
                  <a:pt x="10713" y="15612"/>
                  <a:pt x="10774" y="15665"/>
                  <a:pt x="10864" y="15677"/>
                </a:cubicBezTo>
                <a:cubicBezTo>
                  <a:pt x="10957" y="15689"/>
                  <a:pt x="11093" y="15724"/>
                  <a:pt x="11187" y="15701"/>
                </a:cubicBezTo>
                <a:cubicBezTo>
                  <a:pt x="11239" y="15688"/>
                  <a:pt x="11306" y="15655"/>
                  <a:pt x="11361" y="15627"/>
                </a:cubicBezTo>
              </a:path>
              <a:path w="12205" h="3499">
                <a:moveTo>
                  <a:pt x="11162" y="15081"/>
                </a:moveTo>
                <a:cubicBezTo>
                  <a:pt x="11183" y="15159"/>
                  <a:pt x="11170" y="15228"/>
                  <a:pt x="11187" y="15304"/>
                </a:cubicBezTo>
                <a:cubicBezTo>
                  <a:pt x="11210" y="15408"/>
                  <a:pt x="11212" y="15492"/>
                  <a:pt x="11212" y="15602"/>
                </a:cubicBezTo>
                <a:cubicBezTo>
                  <a:pt x="11212" y="15755"/>
                  <a:pt x="11144" y="16128"/>
                  <a:pt x="11237" y="16247"/>
                </a:cubicBezTo>
                <a:cubicBezTo>
                  <a:pt x="11261" y="16272"/>
                  <a:pt x="11269" y="16280"/>
                  <a:pt x="11286" y="16247"/>
                </a:cubicBezTo>
              </a:path>
              <a:path w="12205" h="3499">
                <a:moveTo>
                  <a:pt x="11311" y="13345"/>
                </a:moveTo>
                <a:cubicBezTo>
                  <a:pt x="11427" y="13271"/>
                  <a:pt x="11433" y="13271"/>
                  <a:pt x="11559" y="13271"/>
                </a:cubicBezTo>
                <a:cubicBezTo>
                  <a:pt x="11633" y="13271"/>
                  <a:pt x="11687" y="13249"/>
                  <a:pt x="11757" y="13246"/>
                </a:cubicBezTo>
                <a:cubicBezTo>
                  <a:pt x="11815" y="13246"/>
                  <a:pt x="11824" y="13246"/>
                  <a:pt x="11857" y="13246"/>
                </a:cubicBezTo>
              </a:path>
              <a:path w="12205" h="3499">
                <a:moveTo>
                  <a:pt x="11981" y="12948"/>
                </a:moveTo>
                <a:cubicBezTo>
                  <a:pt x="11981" y="13031"/>
                  <a:pt x="11969" y="13095"/>
                  <a:pt x="11956" y="13171"/>
                </a:cubicBezTo>
                <a:cubicBezTo>
                  <a:pt x="11946" y="13229"/>
                  <a:pt x="11947" y="13302"/>
                  <a:pt x="11981" y="13345"/>
                </a:cubicBezTo>
                <a:cubicBezTo>
                  <a:pt x="12028" y="13405"/>
                  <a:pt x="12161" y="13409"/>
                  <a:pt x="12229" y="13395"/>
                </a:cubicBezTo>
                <a:cubicBezTo>
                  <a:pt x="12245" y="13387"/>
                  <a:pt x="12262" y="13378"/>
                  <a:pt x="12278" y="13370"/>
                </a:cubicBezTo>
              </a:path>
              <a:path w="12205" h="3499">
                <a:moveTo>
                  <a:pt x="12204" y="12923"/>
                </a:moveTo>
                <a:cubicBezTo>
                  <a:pt x="12204" y="13041"/>
                  <a:pt x="12212" y="13133"/>
                  <a:pt x="12204" y="13246"/>
                </a:cubicBezTo>
                <a:cubicBezTo>
                  <a:pt x="12196" y="13369"/>
                  <a:pt x="12237" y="13502"/>
                  <a:pt x="12229" y="13618"/>
                </a:cubicBezTo>
                <a:cubicBezTo>
                  <a:pt x="12223" y="13704"/>
                  <a:pt x="12229" y="13775"/>
                  <a:pt x="12229" y="13866"/>
                </a:cubicBezTo>
              </a:path>
              <a:path w="12205" h="3499">
                <a:moveTo>
                  <a:pt x="12551" y="12948"/>
                </a:moveTo>
                <a:cubicBezTo>
                  <a:pt x="12513" y="12996"/>
                  <a:pt x="12444" y="13040"/>
                  <a:pt x="12427" y="13097"/>
                </a:cubicBezTo>
                <a:cubicBezTo>
                  <a:pt x="12410" y="13153"/>
                  <a:pt x="12428" y="13236"/>
                  <a:pt x="12477" y="13271"/>
                </a:cubicBezTo>
                <a:cubicBezTo>
                  <a:pt x="12546" y="13320"/>
                  <a:pt x="12653" y="13298"/>
                  <a:pt x="12725" y="13271"/>
                </a:cubicBezTo>
                <a:cubicBezTo>
                  <a:pt x="12795" y="13244"/>
                  <a:pt x="12807" y="13177"/>
                  <a:pt x="12849" y="13122"/>
                </a:cubicBezTo>
                <a:cubicBezTo>
                  <a:pt x="12894" y="13063"/>
                  <a:pt x="12871" y="13045"/>
                  <a:pt x="12824" y="12998"/>
                </a:cubicBezTo>
                <a:cubicBezTo>
                  <a:pt x="12775" y="12950"/>
                  <a:pt x="12727" y="12886"/>
                  <a:pt x="12650" y="12898"/>
                </a:cubicBezTo>
                <a:cubicBezTo>
                  <a:pt x="12586" y="12908"/>
                  <a:pt x="12558" y="12953"/>
                  <a:pt x="12526" y="12998"/>
                </a:cubicBezTo>
              </a:path>
              <a:path w="12205" h="3499">
                <a:moveTo>
                  <a:pt x="12650" y="13146"/>
                </a:moveTo>
                <a:cubicBezTo>
                  <a:pt x="12595" y="13202"/>
                  <a:pt x="12561" y="13249"/>
                  <a:pt x="12526" y="13320"/>
                </a:cubicBezTo>
                <a:cubicBezTo>
                  <a:pt x="12496" y="13382"/>
                  <a:pt x="12457" y="13446"/>
                  <a:pt x="12477" y="13519"/>
                </a:cubicBezTo>
                <a:cubicBezTo>
                  <a:pt x="12495" y="13581"/>
                  <a:pt x="12550" y="13637"/>
                  <a:pt x="12601" y="13667"/>
                </a:cubicBezTo>
                <a:cubicBezTo>
                  <a:pt x="12670" y="13708"/>
                  <a:pt x="12730" y="13697"/>
                  <a:pt x="12799" y="13667"/>
                </a:cubicBezTo>
                <a:cubicBezTo>
                  <a:pt x="12865" y="13638"/>
                  <a:pt x="12920" y="13591"/>
                  <a:pt x="12973" y="13543"/>
                </a:cubicBezTo>
                <a:cubicBezTo>
                  <a:pt x="13023" y="13498"/>
                  <a:pt x="13043" y="13434"/>
                  <a:pt x="13047" y="13370"/>
                </a:cubicBezTo>
                <a:cubicBezTo>
                  <a:pt x="13051" y="13307"/>
                  <a:pt x="12999" y="13235"/>
                  <a:pt x="12948" y="13196"/>
                </a:cubicBezTo>
                <a:cubicBezTo>
                  <a:pt x="12888" y="13150"/>
                  <a:pt x="12828" y="13131"/>
                  <a:pt x="12750" y="13146"/>
                </a:cubicBezTo>
                <a:cubicBezTo>
                  <a:pt x="12725" y="13154"/>
                  <a:pt x="12700" y="13163"/>
                  <a:pt x="12675" y="13171"/>
                </a:cubicBezTo>
              </a:path>
              <a:path w="12205" h="3499">
                <a:moveTo>
                  <a:pt x="11832" y="14833"/>
                </a:moveTo>
                <a:cubicBezTo>
                  <a:pt x="11953" y="14833"/>
                  <a:pt x="12155" y="14867"/>
                  <a:pt x="12254" y="14808"/>
                </a:cubicBezTo>
              </a:path>
              <a:path w="12205" h="3499">
                <a:moveTo>
                  <a:pt x="12874" y="14511"/>
                </a:moveTo>
                <a:cubicBezTo>
                  <a:pt x="12804" y="14469"/>
                  <a:pt x="12773" y="14500"/>
                  <a:pt x="12700" y="14536"/>
                </a:cubicBezTo>
                <a:cubicBezTo>
                  <a:pt x="12610" y="14581"/>
                  <a:pt x="12533" y="14649"/>
                  <a:pt x="12551" y="14759"/>
                </a:cubicBezTo>
                <a:cubicBezTo>
                  <a:pt x="12563" y="14832"/>
                  <a:pt x="12600" y="14882"/>
                  <a:pt x="12650" y="14932"/>
                </a:cubicBezTo>
                <a:cubicBezTo>
                  <a:pt x="12687" y="14969"/>
                  <a:pt x="12756" y="14998"/>
                  <a:pt x="12799" y="15007"/>
                </a:cubicBezTo>
                <a:cubicBezTo>
                  <a:pt x="12884" y="15024"/>
                  <a:pt x="12871" y="15036"/>
                  <a:pt x="12923" y="15106"/>
                </a:cubicBezTo>
                <a:cubicBezTo>
                  <a:pt x="12970" y="15168"/>
                  <a:pt x="13000" y="15242"/>
                  <a:pt x="13047" y="15304"/>
                </a:cubicBezTo>
                <a:cubicBezTo>
                  <a:pt x="13077" y="15344"/>
                  <a:pt x="13087" y="15424"/>
                  <a:pt x="13072" y="15478"/>
                </a:cubicBezTo>
                <a:cubicBezTo>
                  <a:pt x="13062" y="15514"/>
                  <a:pt x="13011" y="15639"/>
                  <a:pt x="12973" y="15652"/>
                </a:cubicBezTo>
                <a:cubicBezTo>
                  <a:pt x="12914" y="15673"/>
                  <a:pt x="12855" y="15672"/>
                  <a:pt x="12799" y="15652"/>
                </a:cubicBezTo>
                <a:cubicBezTo>
                  <a:pt x="12697" y="15616"/>
                  <a:pt x="12633" y="15542"/>
                  <a:pt x="12576" y="15453"/>
                </a:cubicBezTo>
                <a:cubicBezTo>
                  <a:pt x="12547" y="15397"/>
                  <a:pt x="12536" y="15373"/>
                  <a:pt x="12526" y="15329"/>
                </a:cubicBezTo>
              </a:path>
              <a:path w="12205" h="3499">
                <a:moveTo>
                  <a:pt x="13271" y="14709"/>
                </a:moveTo>
                <a:cubicBezTo>
                  <a:pt x="13229" y="14762"/>
                  <a:pt x="13202" y="14822"/>
                  <a:pt x="13171" y="14883"/>
                </a:cubicBezTo>
                <a:cubicBezTo>
                  <a:pt x="13135" y="14954"/>
                  <a:pt x="13101" y="15023"/>
                  <a:pt x="13122" y="15106"/>
                </a:cubicBezTo>
                <a:cubicBezTo>
                  <a:pt x="13135" y="15159"/>
                  <a:pt x="13186" y="15238"/>
                  <a:pt x="13221" y="15280"/>
                </a:cubicBezTo>
                <a:cubicBezTo>
                  <a:pt x="13277" y="15347"/>
                  <a:pt x="13356" y="15375"/>
                  <a:pt x="13444" y="15354"/>
                </a:cubicBezTo>
                <a:cubicBezTo>
                  <a:pt x="13516" y="15337"/>
                  <a:pt x="13601" y="15294"/>
                  <a:pt x="13643" y="15230"/>
                </a:cubicBezTo>
                <a:cubicBezTo>
                  <a:pt x="13694" y="15152"/>
                  <a:pt x="13713" y="15072"/>
                  <a:pt x="13717" y="14982"/>
                </a:cubicBezTo>
                <a:cubicBezTo>
                  <a:pt x="13722" y="14872"/>
                  <a:pt x="13692" y="14807"/>
                  <a:pt x="13643" y="14709"/>
                </a:cubicBezTo>
                <a:cubicBezTo>
                  <a:pt x="13600" y="14624"/>
                  <a:pt x="13563" y="14599"/>
                  <a:pt x="13494" y="14536"/>
                </a:cubicBezTo>
                <a:cubicBezTo>
                  <a:pt x="13461" y="14506"/>
                  <a:pt x="13366" y="14493"/>
                  <a:pt x="13320" y="14511"/>
                </a:cubicBezTo>
                <a:cubicBezTo>
                  <a:pt x="13281" y="14526"/>
                  <a:pt x="13235" y="14586"/>
                  <a:pt x="13196" y="14610"/>
                </a:cubicBezTo>
              </a:path>
              <a:path w="12205" h="3499">
                <a:moveTo>
                  <a:pt x="13295" y="13047"/>
                </a:moveTo>
                <a:cubicBezTo>
                  <a:pt x="13322" y="13135"/>
                  <a:pt x="13342" y="13227"/>
                  <a:pt x="13345" y="13320"/>
                </a:cubicBezTo>
                <a:cubicBezTo>
                  <a:pt x="13350" y="13458"/>
                  <a:pt x="13338" y="13584"/>
                  <a:pt x="13320" y="13717"/>
                </a:cubicBezTo>
                <a:cubicBezTo>
                  <a:pt x="13311" y="13780"/>
                  <a:pt x="13308" y="13826"/>
                  <a:pt x="13370" y="13841"/>
                </a:cubicBezTo>
              </a:path>
              <a:path w="12205" h="3499">
                <a:moveTo>
                  <a:pt x="13667" y="12998"/>
                </a:moveTo>
                <a:cubicBezTo>
                  <a:pt x="13623" y="13098"/>
                  <a:pt x="13637" y="13169"/>
                  <a:pt x="13618" y="13271"/>
                </a:cubicBezTo>
                <a:cubicBezTo>
                  <a:pt x="13598" y="13380"/>
                  <a:pt x="13601" y="13438"/>
                  <a:pt x="13618" y="13543"/>
                </a:cubicBezTo>
                <a:cubicBezTo>
                  <a:pt x="13629" y="13612"/>
                  <a:pt x="13636" y="13693"/>
                  <a:pt x="13717" y="13717"/>
                </a:cubicBezTo>
                <a:cubicBezTo>
                  <a:pt x="13805" y="13743"/>
                  <a:pt x="13910" y="13631"/>
                  <a:pt x="13940" y="13568"/>
                </a:cubicBezTo>
                <a:cubicBezTo>
                  <a:pt x="13971" y="13503"/>
                  <a:pt x="13987" y="13394"/>
                  <a:pt x="13990" y="13320"/>
                </a:cubicBezTo>
                <a:cubicBezTo>
                  <a:pt x="13994" y="13232"/>
                  <a:pt x="13986" y="13173"/>
                  <a:pt x="13940" y="13097"/>
                </a:cubicBezTo>
                <a:cubicBezTo>
                  <a:pt x="13889" y="13012"/>
                  <a:pt x="13827" y="12950"/>
                  <a:pt x="13742" y="12898"/>
                </a:cubicBezTo>
                <a:cubicBezTo>
                  <a:pt x="13701" y="12879"/>
                  <a:pt x="13685" y="12860"/>
                  <a:pt x="13692" y="12898"/>
                </a:cubicBezTo>
              </a:path>
              <a:path w="12205" h="3499">
                <a:moveTo>
                  <a:pt x="14114" y="12948"/>
                </a:moveTo>
                <a:cubicBezTo>
                  <a:pt x="14066" y="13070"/>
                  <a:pt x="14039" y="13143"/>
                  <a:pt x="14039" y="13271"/>
                </a:cubicBezTo>
                <a:cubicBezTo>
                  <a:pt x="14039" y="13340"/>
                  <a:pt x="14061" y="13467"/>
                  <a:pt x="14114" y="13519"/>
                </a:cubicBezTo>
                <a:cubicBezTo>
                  <a:pt x="14161" y="13566"/>
                  <a:pt x="14246" y="13609"/>
                  <a:pt x="14312" y="13618"/>
                </a:cubicBezTo>
                <a:cubicBezTo>
                  <a:pt x="14352" y="13623"/>
                  <a:pt x="14483" y="13593"/>
                  <a:pt x="14511" y="13568"/>
                </a:cubicBezTo>
                <a:cubicBezTo>
                  <a:pt x="14561" y="13523"/>
                  <a:pt x="14585" y="13429"/>
                  <a:pt x="14610" y="13370"/>
                </a:cubicBezTo>
                <a:cubicBezTo>
                  <a:pt x="14645" y="13290"/>
                  <a:pt x="14679" y="13213"/>
                  <a:pt x="14660" y="13122"/>
                </a:cubicBezTo>
                <a:cubicBezTo>
                  <a:pt x="14639" y="13022"/>
                  <a:pt x="14608" y="12958"/>
                  <a:pt x="14536" y="12898"/>
                </a:cubicBezTo>
                <a:cubicBezTo>
                  <a:pt x="14470" y="12843"/>
                  <a:pt x="14422" y="12828"/>
                  <a:pt x="14337" y="12824"/>
                </a:cubicBezTo>
                <a:cubicBezTo>
                  <a:pt x="14281" y="12821"/>
                  <a:pt x="14262" y="12846"/>
                  <a:pt x="14213" y="12874"/>
                </a:cubicBezTo>
              </a:path>
              <a:path w="12205" h="3499">
                <a:moveTo>
                  <a:pt x="14064" y="14436"/>
                </a:moveTo>
                <a:cubicBezTo>
                  <a:pt x="14064" y="14543"/>
                  <a:pt x="14068" y="14656"/>
                  <a:pt x="14089" y="14759"/>
                </a:cubicBezTo>
                <a:cubicBezTo>
                  <a:pt x="14110" y="14861"/>
                  <a:pt x="14114" y="14950"/>
                  <a:pt x="14114" y="15056"/>
                </a:cubicBezTo>
                <a:cubicBezTo>
                  <a:pt x="14114" y="15090"/>
                  <a:pt x="14091" y="15379"/>
                  <a:pt x="14139" y="15379"/>
                </a:cubicBezTo>
                <a:cubicBezTo>
                  <a:pt x="14139" y="15371"/>
                  <a:pt x="14139" y="15362"/>
                  <a:pt x="14139" y="15354"/>
                </a:cubicBezTo>
              </a:path>
              <a:path w="12205" h="3499">
                <a:moveTo>
                  <a:pt x="14387" y="14436"/>
                </a:moveTo>
                <a:cubicBezTo>
                  <a:pt x="14352" y="14495"/>
                  <a:pt x="14360" y="14565"/>
                  <a:pt x="14337" y="14635"/>
                </a:cubicBezTo>
                <a:cubicBezTo>
                  <a:pt x="14302" y="14738"/>
                  <a:pt x="14291" y="14849"/>
                  <a:pt x="14288" y="14957"/>
                </a:cubicBezTo>
                <a:cubicBezTo>
                  <a:pt x="14284" y="15069"/>
                  <a:pt x="14314" y="15160"/>
                  <a:pt x="14362" y="15255"/>
                </a:cubicBezTo>
                <a:cubicBezTo>
                  <a:pt x="14424" y="15377"/>
                  <a:pt x="14509" y="15405"/>
                  <a:pt x="14635" y="15354"/>
                </a:cubicBezTo>
                <a:cubicBezTo>
                  <a:pt x="14692" y="15331"/>
                  <a:pt x="14726" y="15283"/>
                  <a:pt x="14734" y="15230"/>
                </a:cubicBezTo>
                <a:cubicBezTo>
                  <a:pt x="14755" y="15093"/>
                  <a:pt x="14743" y="14913"/>
                  <a:pt x="14709" y="14784"/>
                </a:cubicBezTo>
                <a:cubicBezTo>
                  <a:pt x="14685" y="14696"/>
                  <a:pt x="14651" y="14617"/>
                  <a:pt x="14610" y="14536"/>
                </a:cubicBezTo>
                <a:cubicBezTo>
                  <a:pt x="14594" y="14505"/>
                  <a:pt x="14520" y="14399"/>
                  <a:pt x="14486" y="14387"/>
                </a:cubicBezTo>
                <a:cubicBezTo>
                  <a:pt x="14453" y="14375"/>
                  <a:pt x="14420" y="14370"/>
                  <a:pt x="14387" y="14362"/>
                </a:cubicBezTo>
              </a:path>
              <a:path w="12205" h="3499">
                <a:moveTo>
                  <a:pt x="14908" y="14585"/>
                </a:moveTo>
                <a:cubicBezTo>
                  <a:pt x="14908" y="14753"/>
                  <a:pt x="14821" y="15502"/>
                  <a:pt x="14932" y="15577"/>
                </a:cubicBezTo>
              </a:path>
              <a:path w="12205" h="3499">
                <a:moveTo>
                  <a:pt x="14982" y="13072"/>
                </a:moveTo>
                <a:cubicBezTo>
                  <a:pt x="15036" y="13039"/>
                  <a:pt x="15095" y="13042"/>
                  <a:pt x="15156" y="13022"/>
                </a:cubicBezTo>
                <a:cubicBezTo>
                  <a:pt x="15226" y="12999"/>
                  <a:pt x="15278" y="12998"/>
                  <a:pt x="15354" y="12998"/>
                </a:cubicBezTo>
                <a:cubicBezTo>
                  <a:pt x="15404" y="12998"/>
                  <a:pt x="15420" y="12998"/>
                  <a:pt x="15453" y="12998"/>
                </a:cubicBezTo>
              </a:path>
              <a:path w="12205" h="3499">
                <a:moveTo>
                  <a:pt x="15528" y="12849"/>
                </a:moveTo>
                <a:cubicBezTo>
                  <a:pt x="15590" y="12825"/>
                  <a:pt x="15642" y="12819"/>
                  <a:pt x="15701" y="12849"/>
                </a:cubicBezTo>
                <a:cubicBezTo>
                  <a:pt x="15751" y="12874"/>
                  <a:pt x="15793" y="12948"/>
                  <a:pt x="15801" y="12998"/>
                </a:cubicBezTo>
                <a:cubicBezTo>
                  <a:pt x="15810" y="13052"/>
                  <a:pt x="15781" y="13148"/>
                  <a:pt x="15751" y="13196"/>
                </a:cubicBezTo>
                <a:cubicBezTo>
                  <a:pt x="15710" y="13263"/>
                  <a:pt x="15650" y="13333"/>
                  <a:pt x="15602" y="13395"/>
                </a:cubicBezTo>
                <a:cubicBezTo>
                  <a:pt x="15563" y="13445"/>
                  <a:pt x="15516" y="13490"/>
                  <a:pt x="15553" y="13543"/>
                </a:cubicBezTo>
                <a:cubicBezTo>
                  <a:pt x="15591" y="13598"/>
                  <a:pt x="15638" y="13614"/>
                  <a:pt x="15701" y="13618"/>
                </a:cubicBezTo>
                <a:cubicBezTo>
                  <a:pt x="15771" y="13622"/>
                  <a:pt x="15834" y="13590"/>
                  <a:pt x="15900" y="13568"/>
                </a:cubicBezTo>
              </a:path>
              <a:path w="12205" h="3499">
                <a:moveTo>
                  <a:pt x="15999" y="12923"/>
                </a:moveTo>
                <a:cubicBezTo>
                  <a:pt x="15968" y="12985"/>
                  <a:pt x="15933" y="13055"/>
                  <a:pt x="15925" y="13122"/>
                </a:cubicBezTo>
                <a:cubicBezTo>
                  <a:pt x="15913" y="13215"/>
                  <a:pt x="15920" y="13257"/>
                  <a:pt x="15925" y="13345"/>
                </a:cubicBezTo>
                <a:cubicBezTo>
                  <a:pt x="15929" y="13417"/>
                  <a:pt x="15949" y="13444"/>
                  <a:pt x="15999" y="13494"/>
                </a:cubicBezTo>
                <a:cubicBezTo>
                  <a:pt x="16036" y="13531"/>
                  <a:pt x="16147" y="13537"/>
                  <a:pt x="16197" y="13519"/>
                </a:cubicBezTo>
                <a:cubicBezTo>
                  <a:pt x="16256" y="13498"/>
                  <a:pt x="16289" y="13445"/>
                  <a:pt x="16321" y="13395"/>
                </a:cubicBezTo>
                <a:cubicBezTo>
                  <a:pt x="16385" y="13294"/>
                  <a:pt x="16396" y="13239"/>
                  <a:pt x="16396" y="13122"/>
                </a:cubicBezTo>
                <a:cubicBezTo>
                  <a:pt x="16396" y="13046"/>
                  <a:pt x="16373" y="12979"/>
                  <a:pt x="16321" y="12923"/>
                </a:cubicBezTo>
                <a:cubicBezTo>
                  <a:pt x="16263" y="12861"/>
                  <a:pt x="16233" y="12831"/>
                  <a:pt x="16148" y="12824"/>
                </a:cubicBezTo>
                <a:cubicBezTo>
                  <a:pt x="16102" y="12820"/>
                  <a:pt x="16028" y="12862"/>
                  <a:pt x="15999" y="12898"/>
                </a:cubicBezTo>
                <a:cubicBezTo>
                  <a:pt x="15982" y="12923"/>
                  <a:pt x="15966" y="12948"/>
                  <a:pt x="15949" y="12973"/>
                </a:cubicBezTo>
              </a:path>
              <a:path w="12205" h="3499">
                <a:moveTo>
                  <a:pt x="16495" y="12799"/>
                </a:moveTo>
                <a:cubicBezTo>
                  <a:pt x="16579" y="12771"/>
                  <a:pt x="16636" y="12762"/>
                  <a:pt x="16718" y="12799"/>
                </a:cubicBezTo>
                <a:cubicBezTo>
                  <a:pt x="16843" y="12855"/>
                  <a:pt x="16825" y="12953"/>
                  <a:pt x="16793" y="13072"/>
                </a:cubicBezTo>
                <a:cubicBezTo>
                  <a:pt x="16766" y="13173"/>
                  <a:pt x="16744" y="13233"/>
                  <a:pt x="16669" y="13295"/>
                </a:cubicBezTo>
                <a:cubicBezTo>
                  <a:pt x="16616" y="13339"/>
                  <a:pt x="16585" y="13391"/>
                  <a:pt x="16545" y="13444"/>
                </a:cubicBezTo>
                <a:cubicBezTo>
                  <a:pt x="16517" y="13481"/>
                  <a:pt x="16460" y="13537"/>
                  <a:pt x="16545" y="13568"/>
                </a:cubicBezTo>
                <a:cubicBezTo>
                  <a:pt x="16606" y="13590"/>
                  <a:pt x="16672" y="13552"/>
                  <a:pt x="16718" y="13543"/>
                </a:cubicBezTo>
                <a:cubicBezTo>
                  <a:pt x="16773" y="13532"/>
                  <a:pt x="16845" y="13501"/>
                  <a:pt x="16892" y="13494"/>
                </a:cubicBezTo>
                <a:cubicBezTo>
                  <a:pt x="16960" y="13484"/>
                  <a:pt x="17035" y="13516"/>
                  <a:pt x="17066" y="13469"/>
                </a:cubicBezTo>
              </a:path>
              <a:path w="12205" h="3499">
                <a:moveTo>
                  <a:pt x="15652" y="14585"/>
                </a:moveTo>
                <a:cubicBezTo>
                  <a:pt x="15732" y="14585"/>
                  <a:pt x="15773" y="14563"/>
                  <a:pt x="15850" y="14560"/>
                </a:cubicBezTo>
                <a:cubicBezTo>
                  <a:pt x="15927" y="14557"/>
                  <a:pt x="15969" y="14536"/>
                  <a:pt x="16049" y="14536"/>
                </a:cubicBezTo>
                <a:cubicBezTo>
                  <a:pt x="16090" y="14536"/>
                  <a:pt x="16098" y="14536"/>
                  <a:pt x="16123" y="14536"/>
                </a:cubicBezTo>
              </a:path>
              <a:path w="12205" h="3499">
                <a:moveTo>
                  <a:pt x="16346" y="14238"/>
                </a:moveTo>
                <a:cubicBezTo>
                  <a:pt x="16423" y="14238"/>
                  <a:pt x="16457" y="14242"/>
                  <a:pt x="16520" y="14288"/>
                </a:cubicBezTo>
                <a:cubicBezTo>
                  <a:pt x="16547" y="14308"/>
                  <a:pt x="16578" y="14401"/>
                  <a:pt x="16570" y="14436"/>
                </a:cubicBezTo>
                <a:cubicBezTo>
                  <a:pt x="16553" y="14506"/>
                  <a:pt x="16530" y="14573"/>
                  <a:pt x="16495" y="14635"/>
                </a:cubicBezTo>
                <a:cubicBezTo>
                  <a:pt x="16465" y="14687"/>
                  <a:pt x="16427" y="14734"/>
                  <a:pt x="16396" y="14784"/>
                </a:cubicBezTo>
                <a:cubicBezTo>
                  <a:pt x="16362" y="14840"/>
                  <a:pt x="16311" y="14922"/>
                  <a:pt x="16371" y="14982"/>
                </a:cubicBezTo>
                <a:cubicBezTo>
                  <a:pt x="16401" y="15012"/>
                  <a:pt x="16503" y="15075"/>
                  <a:pt x="16545" y="15081"/>
                </a:cubicBezTo>
                <a:cubicBezTo>
                  <a:pt x="16640" y="15095"/>
                  <a:pt x="16738" y="15071"/>
                  <a:pt x="16818" y="15056"/>
                </a:cubicBezTo>
                <a:cubicBezTo>
                  <a:pt x="16876" y="15045"/>
                  <a:pt x="16878" y="15064"/>
                  <a:pt x="16892" y="15007"/>
                </a:cubicBezTo>
              </a:path>
              <a:path w="12205" h="3499">
                <a:moveTo>
                  <a:pt x="16942" y="14263"/>
                </a:moveTo>
                <a:cubicBezTo>
                  <a:pt x="16903" y="14311"/>
                  <a:pt x="16845" y="14384"/>
                  <a:pt x="16818" y="14436"/>
                </a:cubicBezTo>
                <a:cubicBezTo>
                  <a:pt x="16774" y="14521"/>
                  <a:pt x="16768" y="14591"/>
                  <a:pt x="16768" y="14684"/>
                </a:cubicBezTo>
                <a:cubicBezTo>
                  <a:pt x="16768" y="14758"/>
                  <a:pt x="16809" y="14817"/>
                  <a:pt x="16842" y="14883"/>
                </a:cubicBezTo>
                <a:cubicBezTo>
                  <a:pt x="16884" y="14966"/>
                  <a:pt x="16932" y="14957"/>
                  <a:pt x="17016" y="14957"/>
                </a:cubicBezTo>
                <a:cubicBezTo>
                  <a:pt x="17082" y="14957"/>
                  <a:pt x="17138" y="14922"/>
                  <a:pt x="17190" y="14883"/>
                </a:cubicBezTo>
                <a:cubicBezTo>
                  <a:pt x="17244" y="14842"/>
                  <a:pt x="17266" y="14744"/>
                  <a:pt x="17289" y="14684"/>
                </a:cubicBezTo>
                <a:cubicBezTo>
                  <a:pt x="17329" y="14578"/>
                  <a:pt x="17279" y="14443"/>
                  <a:pt x="17239" y="14337"/>
                </a:cubicBezTo>
                <a:cubicBezTo>
                  <a:pt x="17211" y="14262"/>
                  <a:pt x="17184" y="14225"/>
                  <a:pt x="17115" y="14188"/>
                </a:cubicBezTo>
                <a:cubicBezTo>
                  <a:pt x="17060" y="14159"/>
                  <a:pt x="17027" y="14163"/>
                  <a:pt x="16966" y="14163"/>
                </a:cubicBezTo>
              </a:path>
              <a:path w="12205" h="3499">
                <a:moveTo>
                  <a:pt x="17587" y="14089"/>
                </a:moveTo>
                <a:cubicBezTo>
                  <a:pt x="17531" y="14056"/>
                  <a:pt x="17475" y="14050"/>
                  <a:pt x="17413" y="14089"/>
                </a:cubicBezTo>
                <a:cubicBezTo>
                  <a:pt x="17341" y="14134"/>
                  <a:pt x="17342" y="14181"/>
                  <a:pt x="17314" y="14238"/>
                </a:cubicBezTo>
                <a:cubicBezTo>
                  <a:pt x="17283" y="14301"/>
                  <a:pt x="17292" y="14324"/>
                  <a:pt x="17338" y="14387"/>
                </a:cubicBezTo>
                <a:cubicBezTo>
                  <a:pt x="17362" y="14419"/>
                  <a:pt x="17471" y="14445"/>
                  <a:pt x="17512" y="14436"/>
                </a:cubicBezTo>
                <a:cubicBezTo>
                  <a:pt x="17574" y="14423"/>
                  <a:pt x="17637" y="14406"/>
                  <a:pt x="17686" y="14362"/>
                </a:cubicBezTo>
                <a:cubicBezTo>
                  <a:pt x="17733" y="14320"/>
                  <a:pt x="17774" y="14268"/>
                  <a:pt x="17785" y="14213"/>
                </a:cubicBezTo>
                <a:cubicBezTo>
                  <a:pt x="17802" y="14128"/>
                  <a:pt x="17762" y="14079"/>
                  <a:pt x="17711" y="14015"/>
                </a:cubicBezTo>
                <a:cubicBezTo>
                  <a:pt x="17659" y="13949"/>
                  <a:pt x="17604" y="13960"/>
                  <a:pt x="17537" y="13990"/>
                </a:cubicBezTo>
                <a:cubicBezTo>
                  <a:pt x="17520" y="13998"/>
                  <a:pt x="17504" y="14007"/>
                  <a:pt x="17487" y="14015"/>
                </a:cubicBezTo>
              </a:path>
              <a:path w="12205" h="3499">
                <a:moveTo>
                  <a:pt x="17487" y="14288"/>
                </a:moveTo>
                <a:cubicBezTo>
                  <a:pt x="17419" y="14297"/>
                  <a:pt x="17370" y="14317"/>
                  <a:pt x="17338" y="14387"/>
                </a:cubicBezTo>
                <a:cubicBezTo>
                  <a:pt x="17301" y="14470"/>
                  <a:pt x="17268" y="14546"/>
                  <a:pt x="17264" y="14635"/>
                </a:cubicBezTo>
                <a:cubicBezTo>
                  <a:pt x="17260" y="14717"/>
                  <a:pt x="17275" y="14742"/>
                  <a:pt x="17314" y="14808"/>
                </a:cubicBezTo>
                <a:cubicBezTo>
                  <a:pt x="17351" y="14871"/>
                  <a:pt x="17389" y="14904"/>
                  <a:pt x="17462" y="14908"/>
                </a:cubicBezTo>
                <a:cubicBezTo>
                  <a:pt x="17536" y="14912"/>
                  <a:pt x="17618" y="14906"/>
                  <a:pt x="17686" y="14883"/>
                </a:cubicBezTo>
                <a:cubicBezTo>
                  <a:pt x="17745" y="14863"/>
                  <a:pt x="17823" y="14785"/>
                  <a:pt x="17859" y="14734"/>
                </a:cubicBezTo>
                <a:cubicBezTo>
                  <a:pt x="17893" y="14685"/>
                  <a:pt x="17907" y="14546"/>
                  <a:pt x="17884" y="14486"/>
                </a:cubicBezTo>
                <a:cubicBezTo>
                  <a:pt x="17873" y="14457"/>
                  <a:pt x="17853" y="14374"/>
                  <a:pt x="17810" y="14362"/>
                </a:cubicBezTo>
                <a:cubicBezTo>
                  <a:pt x="17752" y="14345"/>
                  <a:pt x="17701" y="14316"/>
                  <a:pt x="17636" y="14312"/>
                </a:cubicBezTo>
                <a:cubicBezTo>
                  <a:pt x="17620" y="14312"/>
                  <a:pt x="17603" y="14312"/>
                  <a:pt x="17587" y="143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Ink 14"/>
          <p:cNvSpPr/>
          <p:nvPr/>
        </p:nvSpPr>
        <p:spPr>
          <a:xfrm>
            <a:off x="1758960" y="4367160"/>
            <a:ext cx="2955960" cy="901800"/>
          </a:xfrm>
          <a:custGeom>
            <a:avLst/>
            <a:gdLst/>
            <a:ahLst/>
            <a:rect l="l" t="t" r="r" b="b"/>
            <a:pathLst>
              <a:path w="8211" h="2507">
                <a:moveTo>
                  <a:pt x="4887" y="12129"/>
                </a:moveTo>
                <a:cubicBezTo>
                  <a:pt x="4961" y="12268"/>
                  <a:pt x="5006" y="12345"/>
                  <a:pt x="5035" y="12526"/>
                </a:cubicBezTo>
                <a:cubicBezTo>
                  <a:pt x="5054" y="12643"/>
                  <a:pt x="5069" y="12756"/>
                  <a:pt x="5085" y="12874"/>
                </a:cubicBezTo>
                <a:cubicBezTo>
                  <a:pt x="5103" y="13007"/>
                  <a:pt x="5120" y="13138"/>
                  <a:pt x="5135" y="13271"/>
                </a:cubicBezTo>
                <a:cubicBezTo>
                  <a:pt x="5154" y="13436"/>
                  <a:pt x="5164" y="13602"/>
                  <a:pt x="5184" y="13767"/>
                </a:cubicBezTo>
                <a:cubicBezTo>
                  <a:pt x="5202" y="13908"/>
                  <a:pt x="5216" y="14048"/>
                  <a:pt x="5234" y="14188"/>
                </a:cubicBezTo>
                <a:cubicBezTo>
                  <a:pt x="5244" y="14265"/>
                  <a:pt x="5237" y="14339"/>
                  <a:pt x="5259" y="14412"/>
                </a:cubicBezTo>
                <a:cubicBezTo>
                  <a:pt x="5278" y="14477"/>
                  <a:pt x="5278" y="14532"/>
                  <a:pt x="5333" y="14585"/>
                </a:cubicBezTo>
                <a:cubicBezTo>
                  <a:pt x="5426" y="14673"/>
                  <a:pt x="5498" y="14607"/>
                  <a:pt x="5606" y="14610"/>
                </a:cubicBezTo>
                <a:cubicBezTo>
                  <a:pt x="5711" y="14613"/>
                  <a:pt x="5803" y="14630"/>
                  <a:pt x="5904" y="14635"/>
                </a:cubicBezTo>
                <a:cubicBezTo>
                  <a:pt x="6377" y="14656"/>
                  <a:pt x="6847" y="14610"/>
                  <a:pt x="7317" y="14610"/>
                </a:cubicBezTo>
                <a:cubicBezTo>
                  <a:pt x="7658" y="14610"/>
                  <a:pt x="7996" y="14590"/>
                  <a:pt x="8334" y="14585"/>
                </a:cubicBezTo>
                <a:cubicBezTo>
                  <a:pt x="8470" y="14583"/>
                  <a:pt x="8597" y="14614"/>
                  <a:pt x="8731" y="14610"/>
                </a:cubicBezTo>
                <a:cubicBezTo>
                  <a:pt x="8866" y="14606"/>
                  <a:pt x="8991" y="14577"/>
                  <a:pt x="9128" y="14585"/>
                </a:cubicBezTo>
                <a:cubicBezTo>
                  <a:pt x="9254" y="14592"/>
                  <a:pt x="9372" y="14617"/>
                  <a:pt x="9500" y="14610"/>
                </a:cubicBezTo>
                <a:cubicBezTo>
                  <a:pt x="9634" y="14602"/>
                  <a:pt x="9761" y="14587"/>
                  <a:pt x="9897" y="14585"/>
                </a:cubicBezTo>
                <a:cubicBezTo>
                  <a:pt x="10083" y="14582"/>
                  <a:pt x="10262" y="14582"/>
                  <a:pt x="10443" y="14560"/>
                </a:cubicBezTo>
                <a:cubicBezTo>
                  <a:pt x="10567" y="14545"/>
                  <a:pt x="10690" y="14547"/>
                  <a:pt x="10815" y="14536"/>
                </a:cubicBezTo>
                <a:cubicBezTo>
                  <a:pt x="10977" y="14521"/>
                  <a:pt x="11148" y="14506"/>
                  <a:pt x="11311" y="14486"/>
                </a:cubicBezTo>
                <a:cubicBezTo>
                  <a:pt x="11476" y="14466"/>
                  <a:pt x="11644" y="14443"/>
                  <a:pt x="11807" y="14412"/>
                </a:cubicBezTo>
                <a:cubicBezTo>
                  <a:pt x="11943" y="14386"/>
                  <a:pt x="12069" y="14341"/>
                  <a:pt x="12204" y="14312"/>
                </a:cubicBezTo>
                <a:cubicBezTo>
                  <a:pt x="12319" y="14288"/>
                  <a:pt x="12439" y="14264"/>
                  <a:pt x="12551" y="14238"/>
                </a:cubicBezTo>
                <a:cubicBezTo>
                  <a:pt x="12642" y="14217"/>
                  <a:pt x="12733" y="14207"/>
                  <a:pt x="12824" y="14188"/>
                </a:cubicBezTo>
                <a:cubicBezTo>
                  <a:pt x="12917" y="14169"/>
                  <a:pt x="13002" y="14139"/>
                  <a:pt x="13097" y="141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Ink 15"/>
          <p:cNvSpPr/>
          <p:nvPr/>
        </p:nvSpPr>
        <p:spPr>
          <a:xfrm>
            <a:off x="8402760" y="3589200"/>
            <a:ext cx="134640" cy="1800"/>
          </a:xfrm>
          <a:custGeom>
            <a:avLst/>
            <a:gdLst/>
            <a:ahLst/>
            <a:rect l="l" t="t" r="r" b="b"/>
            <a:pathLst>
              <a:path w="373" h="1">
                <a:moveTo>
                  <a:pt x="23341" y="9971"/>
                </a:moveTo>
                <a:cubicBezTo>
                  <a:pt x="23465" y="9971"/>
                  <a:pt x="23589" y="9971"/>
                  <a:pt x="23713" y="99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Ink 16"/>
          <p:cNvSpPr/>
          <p:nvPr/>
        </p:nvSpPr>
        <p:spPr>
          <a:xfrm>
            <a:off x="8589960" y="3510000"/>
            <a:ext cx="125280" cy="133200"/>
          </a:xfrm>
          <a:custGeom>
            <a:avLst/>
            <a:gdLst/>
            <a:ahLst/>
            <a:rect l="l" t="t" r="r" b="b"/>
            <a:pathLst>
              <a:path w="348" h="373">
                <a:moveTo>
                  <a:pt x="23862" y="9748"/>
                </a:moveTo>
                <a:cubicBezTo>
                  <a:pt x="23905" y="9748"/>
                  <a:pt x="24044" y="9718"/>
                  <a:pt x="24061" y="9773"/>
                </a:cubicBezTo>
                <a:cubicBezTo>
                  <a:pt x="24084" y="9847"/>
                  <a:pt x="24047" y="9916"/>
                  <a:pt x="24011" y="9971"/>
                </a:cubicBezTo>
                <a:cubicBezTo>
                  <a:pt x="23979" y="10020"/>
                  <a:pt x="23954" y="10039"/>
                  <a:pt x="23912" y="10071"/>
                </a:cubicBezTo>
                <a:cubicBezTo>
                  <a:pt x="23964" y="10132"/>
                  <a:pt x="23978" y="10120"/>
                  <a:pt x="24061" y="10120"/>
                </a:cubicBezTo>
                <a:cubicBezTo>
                  <a:pt x="24110" y="10120"/>
                  <a:pt x="24160" y="10120"/>
                  <a:pt x="24209" y="101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Ink 17"/>
          <p:cNvSpPr/>
          <p:nvPr/>
        </p:nvSpPr>
        <p:spPr>
          <a:xfrm>
            <a:off x="8732880" y="3510000"/>
            <a:ext cx="125280" cy="88920"/>
          </a:xfrm>
          <a:custGeom>
            <a:avLst/>
            <a:gdLst/>
            <a:ahLst/>
            <a:rect l="l" t="t" r="r" b="b"/>
            <a:pathLst>
              <a:path w="348" h="249">
                <a:moveTo>
                  <a:pt x="24358" y="9773"/>
                </a:moveTo>
                <a:cubicBezTo>
                  <a:pt x="24302" y="9789"/>
                  <a:pt x="24237" y="9836"/>
                  <a:pt x="24259" y="9922"/>
                </a:cubicBezTo>
                <a:cubicBezTo>
                  <a:pt x="24277" y="9992"/>
                  <a:pt x="24347" y="9994"/>
                  <a:pt x="24408" y="9996"/>
                </a:cubicBezTo>
                <a:cubicBezTo>
                  <a:pt x="24493" y="9999"/>
                  <a:pt x="24522" y="9976"/>
                  <a:pt x="24581" y="9922"/>
                </a:cubicBezTo>
                <a:cubicBezTo>
                  <a:pt x="24629" y="9878"/>
                  <a:pt x="24597" y="9788"/>
                  <a:pt x="24557" y="9748"/>
                </a:cubicBezTo>
                <a:cubicBezTo>
                  <a:pt x="24524" y="9714"/>
                  <a:pt x="24357" y="9761"/>
                  <a:pt x="24333" y="97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Ink 18"/>
          <p:cNvSpPr/>
          <p:nvPr/>
        </p:nvSpPr>
        <p:spPr>
          <a:xfrm>
            <a:off x="8912160" y="3463920"/>
            <a:ext cx="81000" cy="73080"/>
          </a:xfrm>
          <a:custGeom>
            <a:avLst/>
            <a:gdLst/>
            <a:ahLst/>
            <a:rect l="l" t="t" r="r" b="b"/>
            <a:pathLst>
              <a:path w="224" h="200">
                <a:moveTo>
                  <a:pt x="24805" y="9674"/>
                </a:moveTo>
                <a:cubicBezTo>
                  <a:pt x="24731" y="9692"/>
                  <a:pt x="24755" y="9752"/>
                  <a:pt x="24755" y="9823"/>
                </a:cubicBezTo>
                <a:cubicBezTo>
                  <a:pt x="24853" y="9823"/>
                  <a:pt x="24898" y="9843"/>
                  <a:pt x="24954" y="9773"/>
                </a:cubicBezTo>
                <a:cubicBezTo>
                  <a:pt x="24981" y="9745"/>
                  <a:pt x="24989" y="9731"/>
                  <a:pt x="24978" y="9699"/>
                </a:cubicBezTo>
                <a:cubicBezTo>
                  <a:pt x="24887" y="9643"/>
                  <a:pt x="24912" y="9646"/>
                  <a:pt x="24829" y="9674"/>
                </a:cubicBezTo>
                <a:cubicBezTo>
                  <a:pt x="24821" y="9674"/>
                  <a:pt x="24813" y="9674"/>
                  <a:pt x="24805" y="96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Ink 19"/>
          <p:cNvSpPr/>
          <p:nvPr/>
        </p:nvSpPr>
        <p:spPr>
          <a:xfrm>
            <a:off x="8902800" y="3510000"/>
            <a:ext cx="117360" cy="106200"/>
          </a:xfrm>
          <a:custGeom>
            <a:avLst/>
            <a:gdLst/>
            <a:ahLst/>
            <a:rect l="l" t="t" r="r" b="b"/>
            <a:pathLst>
              <a:path w="324" h="299">
                <a:moveTo>
                  <a:pt x="24780" y="9773"/>
                </a:moveTo>
                <a:cubicBezTo>
                  <a:pt x="24746" y="9824"/>
                  <a:pt x="24706" y="9847"/>
                  <a:pt x="24730" y="9922"/>
                </a:cubicBezTo>
                <a:cubicBezTo>
                  <a:pt x="24753" y="9994"/>
                  <a:pt x="24811" y="10038"/>
                  <a:pt x="24879" y="10046"/>
                </a:cubicBezTo>
                <a:cubicBezTo>
                  <a:pt x="24990" y="10058"/>
                  <a:pt x="24953" y="10013"/>
                  <a:pt x="25028" y="9971"/>
                </a:cubicBezTo>
                <a:cubicBezTo>
                  <a:pt x="25071" y="9947"/>
                  <a:pt x="25066" y="9866"/>
                  <a:pt x="25028" y="9823"/>
                </a:cubicBezTo>
                <a:cubicBezTo>
                  <a:pt x="24990" y="9780"/>
                  <a:pt x="24933" y="9703"/>
                  <a:pt x="24879" y="9773"/>
                </a:cubicBezTo>
                <a:cubicBezTo>
                  <a:pt x="24871" y="9790"/>
                  <a:pt x="24862" y="9806"/>
                  <a:pt x="24854" y="98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Ink 20"/>
          <p:cNvSpPr/>
          <p:nvPr/>
        </p:nvSpPr>
        <p:spPr>
          <a:xfrm>
            <a:off x="8456760" y="3679920"/>
            <a:ext cx="571320" cy="17280"/>
          </a:xfrm>
          <a:custGeom>
            <a:avLst/>
            <a:gdLst/>
            <a:ahLst/>
            <a:rect l="l" t="t" r="r" b="b"/>
            <a:pathLst>
              <a:path w="1589" h="50">
                <a:moveTo>
                  <a:pt x="23490" y="10269"/>
                </a:moveTo>
                <a:cubicBezTo>
                  <a:pt x="23770" y="10269"/>
                  <a:pt x="24043" y="10248"/>
                  <a:pt x="24309" y="10220"/>
                </a:cubicBezTo>
                <a:cubicBezTo>
                  <a:pt x="24516" y="10198"/>
                  <a:pt x="24892" y="10169"/>
                  <a:pt x="25078" y="102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Ink 21"/>
          <p:cNvSpPr/>
          <p:nvPr/>
        </p:nvSpPr>
        <p:spPr>
          <a:xfrm>
            <a:off x="8491680" y="3776760"/>
            <a:ext cx="179280" cy="144360"/>
          </a:xfrm>
          <a:custGeom>
            <a:avLst/>
            <a:gdLst/>
            <a:ahLst/>
            <a:rect l="l" t="t" r="r" b="b"/>
            <a:pathLst>
              <a:path w="497" h="398">
                <a:moveTo>
                  <a:pt x="23589" y="10492"/>
                </a:moveTo>
                <a:cubicBezTo>
                  <a:pt x="23622" y="10500"/>
                  <a:pt x="23678" y="10549"/>
                  <a:pt x="23688" y="10567"/>
                </a:cubicBezTo>
                <a:cubicBezTo>
                  <a:pt x="23719" y="10625"/>
                  <a:pt x="23757" y="10692"/>
                  <a:pt x="23812" y="10740"/>
                </a:cubicBezTo>
                <a:cubicBezTo>
                  <a:pt x="23860" y="10782"/>
                  <a:pt x="23931" y="10831"/>
                  <a:pt x="23986" y="10864"/>
                </a:cubicBezTo>
                <a:cubicBezTo>
                  <a:pt x="24040" y="10896"/>
                  <a:pt x="24060" y="10902"/>
                  <a:pt x="24085" y="108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Ink 22"/>
          <p:cNvSpPr/>
          <p:nvPr/>
        </p:nvSpPr>
        <p:spPr>
          <a:xfrm>
            <a:off x="8518680" y="3751200"/>
            <a:ext cx="144360" cy="169920"/>
          </a:xfrm>
          <a:custGeom>
            <a:avLst/>
            <a:gdLst/>
            <a:ahLst/>
            <a:rect l="l" t="t" r="r" b="b"/>
            <a:pathLst>
              <a:path w="398" h="472">
                <a:moveTo>
                  <a:pt x="24061" y="10418"/>
                </a:moveTo>
                <a:cubicBezTo>
                  <a:pt x="24028" y="10458"/>
                  <a:pt x="23999" y="10534"/>
                  <a:pt x="23961" y="10567"/>
                </a:cubicBezTo>
                <a:cubicBezTo>
                  <a:pt x="23896" y="10623"/>
                  <a:pt x="23813" y="10689"/>
                  <a:pt x="23763" y="10765"/>
                </a:cubicBezTo>
                <a:cubicBezTo>
                  <a:pt x="23727" y="10819"/>
                  <a:pt x="23712" y="10841"/>
                  <a:pt x="23664" y="108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Ink 23"/>
          <p:cNvSpPr/>
          <p:nvPr/>
        </p:nvSpPr>
        <p:spPr>
          <a:xfrm>
            <a:off x="8777160" y="3732120"/>
            <a:ext cx="9720" cy="142920"/>
          </a:xfrm>
          <a:custGeom>
            <a:avLst/>
            <a:gdLst/>
            <a:ahLst/>
            <a:rect l="l" t="t" r="r" b="b"/>
            <a:pathLst>
              <a:path w="26" h="398">
                <a:moveTo>
                  <a:pt x="24383" y="10368"/>
                </a:moveTo>
                <a:cubicBezTo>
                  <a:pt x="24414" y="10439"/>
                  <a:pt x="24408" y="10487"/>
                  <a:pt x="24408" y="10567"/>
                </a:cubicBezTo>
                <a:cubicBezTo>
                  <a:pt x="24408" y="10641"/>
                  <a:pt x="24383" y="10692"/>
                  <a:pt x="24383" y="107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Ink 24"/>
          <p:cNvSpPr/>
          <p:nvPr/>
        </p:nvSpPr>
        <p:spPr>
          <a:xfrm>
            <a:off x="8724960" y="3786120"/>
            <a:ext cx="106200" cy="19080"/>
          </a:xfrm>
          <a:custGeom>
            <a:avLst/>
            <a:gdLst/>
            <a:ahLst/>
            <a:rect l="l" t="t" r="r" b="b"/>
            <a:pathLst>
              <a:path w="299" h="51">
                <a:moveTo>
                  <a:pt x="24234" y="10567"/>
                </a:moveTo>
                <a:cubicBezTo>
                  <a:pt x="24345" y="10511"/>
                  <a:pt x="24405" y="10517"/>
                  <a:pt x="24532" y="105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Ink 25"/>
          <p:cNvSpPr/>
          <p:nvPr/>
        </p:nvSpPr>
        <p:spPr>
          <a:xfrm>
            <a:off x="8902800" y="3724200"/>
            <a:ext cx="169920" cy="160560"/>
          </a:xfrm>
          <a:custGeom>
            <a:avLst/>
            <a:gdLst/>
            <a:ahLst/>
            <a:rect l="l" t="t" r="r" b="b"/>
            <a:pathLst>
              <a:path w="473" h="447">
                <a:moveTo>
                  <a:pt x="24829" y="10344"/>
                </a:moveTo>
                <a:cubicBezTo>
                  <a:pt x="24907" y="10344"/>
                  <a:pt x="24914" y="10383"/>
                  <a:pt x="24978" y="10418"/>
                </a:cubicBezTo>
                <a:cubicBezTo>
                  <a:pt x="25034" y="10448"/>
                  <a:pt x="25002" y="10540"/>
                  <a:pt x="24954" y="10567"/>
                </a:cubicBezTo>
                <a:cubicBezTo>
                  <a:pt x="24881" y="10609"/>
                  <a:pt x="24825" y="10686"/>
                  <a:pt x="24755" y="10740"/>
                </a:cubicBezTo>
                <a:cubicBezTo>
                  <a:pt x="24747" y="10748"/>
                  <a:pt x="24738" y="10757"/>
                  <a:pt x="24730" y="10765"/>
                </a:cubicBezTo>
                <a:cubicBezTo>
                  <a:pt x="24792" y="10796"/>
                  <a:pt x="24855" y="10790"/>
                  <a:pt x="24929" y="10790"/>
                </a:cubicBezTo>
                <a:cubicBezTo>
                  <a:pt x="25020" y="10790"/>
                  <a:pt x="25111" y="10790"/>
                  <a:pt x="25202" y="107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Test this Friday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2.1 – 2.4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b2b2b2"/>
                </a:solidFill>
                <a:latin typeface="Arial"/>
              </a:rPr>
              <a:t>Lesson 2.4</a:t>
            </a:r>
            <a:endParaRPr b="0" lang="en-US" sz="75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68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68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6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plex numb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= -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= -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=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Standard form of a complex number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95280" y="25142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+ b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is the real number and b is the coefficient of the imaginary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d or subtrac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2 + 3i) + (5 + 4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i – (6 + 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i + (4 – 2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Ink 4"/>
          <p:cNvSpPr/>
          <p:nvPr/>
        </p:nvSpPr>
        <p:spPr>
          <a:xfrm>
            <a:off x="4000680" y="1830240"/>
            <a:ext cx="258480" cy="81000"/>
          </a:xfrm>
          <a:custGeom>
            <a:avLst/>
            <a:gdLst/>
            <a:ahLst/>
            <a:rect l="l" t="t" r="r" b="b"/>
            <a:pathLst>
              <a:path w="721" h="224">
                <a:moveTo>
                  <a:pt x="11137" y="5085"/>
                </a:moveTo>
                <a:cubicBezTo>
                  <a:pt x="11307" y="5085"/>
                  <a:pt x="11468" y="5086"/>
                  <a:pt x="11633" y="5110"/>
                </a:cubicBezTo>
                <a:cubicBezTo>
                  <a:pt x="11664" y="5114"/>
                  <a:pt x="11911" y="5110"/>
                  <a:pt x="11782" y="5110"/>
                </a:cubicBezTo>
                <a:cubicBezTo>
                  <a:pt x="11774" y="5110"/>
                  <a:pt x="11765" y="5110"/>
                  <a:pt x="11757" y="5110"/>
                </a:cubicBezTo>
              </a:path>
              <a:path w="721" h="224">
                <a:moveTo>
                  <a:pt x="11112" y="5283"/>
                </a:moveTo>
                <a:cubicBezTo>
                  <a:pt x="11178" y="5323"/>
                  <a:pt x="11199" y="5295"/>
                  <a:pt x="11261" y="5283"/>
                </a:cubicBezTo>
                <a:cubicBezTo>
                  <a:pt x="11411" y="5253"/>
                  <a:pt x="11603" y="5283"/>
                  <a:pt x="11757" y="52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Ink 5"/>
          <p:cNvSpPr/>
          <p:nvPr/>
        </p:nvSpPr>
        <p:spPr>
          <a:xfrm>
            <a:off x="4491000" y="1500120"/>
            <a:ext cx="3930840" cy="598680"/>
          </a:xfrm>
          <a:custGeom>
            <a:avLst/>
            <a:gdLst/>
            <a:ahLst/>
            <a:rect l="l" t="t" r="r" b="b"/>
            <a:pathLst>
              <a:path w="10915" h="1663">
                <a:moveTo>
                  <a:pt x="12526" y="4887"/>
                </a:moveTo>
                <a:cubicBezTo>
                  <a:pt x="12553" y="4843"/>
                  <a:pt x="12588" y="4743"/>
                  <a:pt x="12601" y="4688"/>
                </a:cubicBezTo>
                <a:cubicBezTo>
                  <a:pt x="12619" y="4611"/>
                  <a:pt x="12626" y="4607"/>
                  <a:pt x="12700" y="4564"/>
                </a:cubicBezTo>
                <a:cubicBezTo>
                  <a:pt x="12761" y="4640"/>
                  <a:pt x="12750" y="4699"/>
                  <a:pt x="12774" y="4787"/>
                </a:cubicBezTo>
                <a:cubicBezTo>
                  <a:pt x="12796" y="4866"/>
                  <a:pt x="12820" y="4952"/>
                  <a:pt x="12824" y="5035"/>
                </a:cubicBezTo>
                <a:cubicBezTo>
                  <a:pt x="12830" y="5164"/>
                  <a:pt x="12818" y="5286"/>
                  <a:pt x="12799" y="5407"/>
                </a:cubicBezTo>
                <a:cubicBezTo>
                  <a:pt x="12786" y="5488"/>
                  <a:pt x="12789" y="5529"/>
                  <a:pt x="12750" y="5606"/>
                </a:cubicBezTo>
                <a:cubicBezTo>
                  <a:pt x="12724" y="5658"/>
                  <a:pt x="12689" y="5712"/>
                  <a:pt x="12650" y="5755"/>
                </a:cubicBezTo>
                <a:cubicBezTo>
                  <a:pt x="12585" y="5828"/>
                  <a:pt x="12552" y="5810"/>
                  <a:pt x="12502" y="5755"/>
                </a:cubicBezTo>
                <a:cubicBezTo>
                  <a:pt x="12472" y="5722"/>
                  <a:pt x="12459" y="5627"/>
                  <a:pt x="12477" y="5581"/>
                </a:cubicBezTo>
                <a:cubicBezTo>
                  <a:pt x="12490" y="5547"/>
                  <a:pt x="12549" y="5427"/>
                  <a:pt x="12601" y="5432"/>
                </a:cubicBezTo>
                <a:cubicBezTo>
                  <a:pt x="12648" y="5437"/>
                  <a:pt x="12703" y="5483"/>
                  <a:pt x="12725" y="5531"/>
                </a:cubicBezTo>
                <a:cubicBezTo>
                  <a:pt x="12757" y="5602"/>
                  <a:pt x="12785" y="5687"/>
                  <a:pt x="12824" y="5755"/>
                </a:cubicBezTo>
                <a:cubicBezTo>
                  <a:pt x="12839" y="5780"/>
                  <a:pt x="12877" y="5808"/>
                  <a:pt x="12898" y="5829"/>
                </a:cubicBezTo>
              </a:path>
              <a:path w="10915" h="1663">
                <a:moveTo>
                  <a:pt x="13320" y="4787"/>
                </a:moveTo>
                <a:cubicBezTo>
                  <a:pt x="13329" y="4848"/>
                  <a:pt x="13349" y="4882"/>
                  <a:pt x="13370" y="4936"/>
                </a:cubicBezTo>
                <a:cubicBezTo>
                  <a:pt x="13397" y="5003"/>
                  <a:pt x="13415" y="5088"/>
                  <a:pt x="13419" y="5159"/>
                </a:cubicBezTo>
                <a:cubicBezTo>
                  <a:pt x="13423" y="5237"/>
                  <a:pt x="13438" y="5306"/>
                  <a:pt x="13444" y="5383"/>
                </a:cubicBezTo>
                <a:cubicBezTo>
                  <a:pt x="13444" y="5391"/>
                  <a:pt x="13444" y="5399"/>
                  <a:pt x="13444" y="5407"/>
                </a:cubicBezTo>
              </a:path>
              <a:path w="10915" h="1663">
                <a:moveTo>
                  <a:pt x="13196" y="5110"/>
                </a:moveTo>
                <a:cubicBezTo>
                  <a:pt x="13266" y="5100"/>
                  <a:pt x="13346" y="5102"/>
                  <a:pt x="13419" y="5085"/>
                </a:cubicBezTo>
                <a:cubicBezTo>
                  <a:pt x="13496" y="5067"/>
                  <a:pt x="13561" y="5060"/>
                  <a:pt x="13643" y="5060"/>
                </a:cubicBezTo>
                <a:cubicBezTo>
                  <a:pt x="13651" y="5060"/>
                  <a:pt x="13659" y="5060"/>
                  <a:pt x="13667" y="5060"/>
                </a:cubicBezTo>
              </a:path>
              <a:path w="10915" h="1663">
                <a:moveTo>
                  <a:pt x="13915" y="4663"/>
                </a:moveTo>
                <a:cubicBezTo>
                  <a:pt x="13954" y="4625"/>
                  <a:pt x="14007" y="4553"/>
                  <a:pt x="14064" y="4539"/>
                </a:cubicBezTo>
                <a:cubicBezTo>
                  <a:pt x="14129" y="4524"/>
                  <a:pt x="14205" y="4510"/>
                  <a:pt x="14263" y="4539"/>
                </a:cubicBezTo>
                <a:cubicBezTo>
                  <a:pt x="14311" y="4563"/>
                  <a:pt x="14348" y="4637"/>
                  <a:pt x="14337" y="4688"/>
                </a:cubicBezTo>
                <a:cubicBezTo>
                  <a:pt x="14323" y="4751"/>
                  <a:pt x="14270" y="4810"/>
                  <a:pt x="14238" y="4862"/>
                </a:cubicBezTo>
                <a:cubicBezTo>
                  <a:pt x="14196" y="4932"/>
                  <a:pt x="14173" y="4976"/>
                  <a:pt x="14114" y="5035"/>
                </a:cubicBezTo>
                <a:cubicBezTo>
                  <a:pt x="14089" y="5060"/>
                  <a:pt x="14064" y="5085"/>
                  <a:pt x="14039" y="5110"/>
                </a:cubicBezTo>
                <a:cubicBezTo>
                  <a:pt x="14073" y="5051"/>
                  <a:pt x="14100" y="5023"/>
                  <a:pt x="14163" y="5011"/>
                </a:cubicBezTo>
                <a:cubicBezTo>
                  <a:pt x="14244" y="4995"/>
                  <a:pt x="14301" y="5048"/>
                  <a:pt x="14362" y="5085"/>
                </a:cubicBezTo>
                <a:cubicBezTo>
                  <a:pt x="14423" y="5122"/>
                  <a:pt x="14474" y="5182"/>
                  <a:pt x="14486" y="5259"/>
                </a:cubicBezTo>
                <a:cubicBezTo>
                  <a:pt x="14495" y="5313"/>
                  <a:pt x="14469" y="5393"/>
                  <a:pt x="14436" y="5432"/>
                </a:cubicBezTo>
                <a:cubicBezTo>
                  <a:pt x="14388" y="5488"/>
                  <a:pt x="14344" y="5514"/>
                  <a:pt x="14288" y="5556"/>
                </a:cubicBezTo>
                <a:cubicBezTo>
                  <a:pt x="14225" y="5604"/>
                  <a:pt x="14193" y="5606"/>
                  <a:pt x="14114" y="5606"/>
                </a:cubicBezTo>
                <a:cubicBezTo>
                  <a:pt x="14088" y="5530"/>
                  <a:pt x="14118" y="5511"/>
                  <a:pt x="14163" y="5432"/>
                </a:cubicBezTo>
              </a:path>
              <a:path w="10915" h="1663">
                <a:moveTo>
                  <a:pt x="14982" y="4961"/>
                </a:moveTo>
                <a:cubicBezTo>
                  <a:pt x="14961" y="5073"/>
                  <a:pt x="14957" y="5200"/>
                  <a:pt x="14932" y="5308"/>
                </a:cubicBezTo>
                <a:cubicBezTo>
                  <a:pt x="14916" y="5379"/>
                  <a:pt x="14908" y="5431"/>
                  <a:pt x="14908" y="5507"/>
                </a:cubicBezTo>
                <a:cubicBezTo>
                  <a:pt x="14908" y="5589"/>
                  <a:pt x="14891" y="5626"/>
                  <a:pt x="14982" y="5631"/>
                </a:cubicBezTo>
                <a:cubicBezTo>
                  <a:pt x="15027" y="5631"/>
                  <a:pt x="15040" y="5635"/>
                  <a:pt x="15056" y="5606"/>
                </a:cubicBezTo>
              </a:path>
              <a:path w="10915" h="1663">
                <a:moveTo>
                  <a:pt x="15081" y="4440"/>
                </a:moveTo>
                <a:cubicBezTo>
                  <a:pt x="15026" y="4448"/>
                  <a:pt x="15012" y="4457"/>
                  <a:pt x="14957" y="4465"/>
                </a:cubicBezTo>
                <a:cubicBezTo>
                  <a:pt x="14982" y="4490"/>
                  <a:pt x="14990" y="4498"/>
                  <a:pt x="15007" y="4465"/>
                </a:cubicBezTo>
              </a:path>
              <a:path w="10915" h="1663">
                <a:moveTo>
                  <a:pt x="15701" y="4589"/>
                </a:moveTo>
                <a:cubicBezTo>
                  <a:pt x="15723" y="4733"/>
                  <a:pt x="15717" y="4783"/>
                  <a:pt x="15701" y="4911"/>
                </a:cubicBezTo>
                <a:cubicBezTo>
                  <a:pt x="15691" y="4992"/>
                  <a:pt x="15726" y="5073"/>
                  <a:pt x="15726" y="5159"/>
                </a:cubicBezTo>
                <a:cubicBezTo>
                  <a:pt x="15726" y="5242"/>
                  <a:pt x="15726" y="5324"/>
                  <a:pt x="15726" y="5407"/>
                </a:cubicBezTo>
              </a:path>
              <a:path w="10915" h="1663">
                <a:moveTo>
                  <a:pt x="15503" y="5035"/>
                </a:moveTo>
                <a:cubicBezTo>
                  <a:pt x="15660" y="5035"/>
                  <a:pt x="15817" y="5035"/>
                  <a:pt x="15974" y="5035"/>
                </a:cubicBezTo>
              </a:path>
              <a:path w="10915" h="1663">
                <a:moveTo>
                  <a:pt x="16495" y="4440"/>
                </a:moveTo>
                <a:cubicBezTo>
                  <a:pt x="16639" y="4440"/>
                  <a:pt x="16788" y="4440"/>
                  <a:pt x="16917" y="4415"/>
                </a:cubicBezTo>
                <a:cubicBezTo>
                  <a:pt x="16977" y="4404"/>
                  <a:pt x="17055" y="4442"/>
                  <a:pt x="17016" y="4366"/>
                </a:cubicBezTo>
              </a:path>
              <a:path w="10915" h="1663">
                <a:moveTo>
                  <a:pt x="16520" y="4465"/>
                </a:moveTo>
                <a:cubicBezTo>
                  <a:pt x="16462" y="4596"/>
                  <a:pt x="16427" y="4672"/>
                  <a:pt x="16421" y="4812"/>
                </a:cubicBezTo>
                <a:cubicBezTo>
                  <a:pt x="16417" y="4896"/>
                  <a:pt x="16419" y="4945"/>
                  <a:pt x="16470" y="5011"/>
                </a:cubicBezTo>
                <a:cubicBezTo>
                  <a:pt x="16515" y="4954"/>
                  <a:pt x="16537" y="4930"/>
                  <a:pt x="16594" y="4887"/>
                </a:cubicBezTo>
                <a:cubicBezTo>
                  <a:pt x="16660" y="4838"/>
                  <a:pt x="16732" y="4817"/>
                  <a:pt x="16818" y="4837"/>
                </a:cubicBezTo>
                <a:cubicBezTo>
                  <a:pt x="16887" y="4853"/>
                  <a:pt x="16953" y="4940"/>
                  <a:pt x="16991" y="4986"/>
                </a:cubicBezTo>
                <a:cubicBezTo>
                  <a:pt x="17031" y="5034"/>
                  <a:pt x="17016" y="5096"/>
                  <a:pt x="17016" y="5159"/>
                </a:cubicBezTo>
                <a:cubicBezTo>
                  <a:pt x="17016" y="5237"/>
                  <a:pt x="16991" y="5341"/>
                  <a:pt x="16942" y="5407"/>
                </a:cubicBezTo>
                <a:cubicBezTo>
                  <a:pt x="16893" y="5474"/>
                  <a:pt x="16825" y="5531"/>
                  <a:pt x="16768" y="5581"/>
                </a:cubicBezTo>
                <a:cubicBezTo>
                  <a:pt x="16729" y="5615"/>
                  <a:pt x="16550" y="5715"/>
                  <a:pt x="16495" y="5655"/>
                </a:cubicBezTo>
                <a:cubicBezTo>
                  <a:pt x="16495" y="5597"/>
                  <a:pt x="16495" y="5572"/>
                  <a:pt x="16495" y="5531"/>
                </a:cubicBezTo>
              </a:path>
              <a:path w="10915" h="1663">
                <a:moveTo>
                  <a:pt x="17413" y="4614"/>
                </a:moveTo>
                <a:cubicBezTo>
                  <a:pt x="17429" y="4743"/>
                  <a:pt x="17410" y="4909"/>
                  <a:pt x="17438" y="5035"/>
                </a:cubicBezTo>
                <a:cubicBezTo>
                  <a:pt x="17454" y="5108"/>
                  <a:pt x="17475" y="5186"/>
                  <a:pt x="17487" y="5259"/>
                </a:cubicBezTo>
                <a:cubicBezTo>
                  <a:pt x="17497" y="5322"/>
                  <a:pt x="17487" y="5393"/>
                  <a:pt x="17487" y="5457"/>
                </a:cubicBezTo>
              </a:path>
              <a:path w="10915" h="1663">
                <a:moveTo>
                  <a:pt x="17239" y="5110"/>
                </a:moveTo>
                <a:cubicBezTo>
                  <a:pt x="17333" y="5102"/>
                  <a:pt x="17416" y="5085"/>
                  <a:pt x="17512" y="5085"/>
                </a:cubicBezTo>
                <a:cubicBezTo>
                  <a:pt x="17584" y="5085"/>
                  <a:pt x="17643" y="5058"/>
                  <a:pt x="17711" y="5035"/>
                </a:cubicBezTo>
              </a:path>
              <a:path w="10915" h="1663">
                <a:moveTo>
                  <a:pt x="18033" y="4564"/>
                </a:moveTo>
                <a:cubicBezTo>
                  <a:pt x="18007" y="4653"/>
                  <a:pt x="17969" y="4746"/>
                  <a:pt x="17959" y="4837"/>
                </a:cubicBezTo>
                <a:cubicBezTo>
                  <a:pt x="17953" y="4893"/>
                  <a:pt x="17959" y="4955"/>
                  <a:pt x="17959" y="5011"/>
                </a:cubicBezTo>
                <a:cubicBezTo>
                  <a:pt x="18057" y="5011"/>
                  <a:pt x="18141" y="4998"/>
                  <a:pt x="18231" y="4986"/>
                </a:cubicBezTo>
                <a:cubicBezTo>
                  <a:pt x="18324" y="4974"/>
                  <a:pt x="18391" y="4951"/>
                  <a:pt x="18479" y="4911"/>
                </a:cubicBezTo>
              </a:path>
              <a:path w="10915" h="1663">
                <a:moveTo>
                  <a:pt x="18380" y="4316"/>
                </a:moveTo>
                <a:cubicBezTo>
                  <a:pt x="18398" y="4386"/>
                  <a:pt x="18380" y="4434"/>
                  <a:pt x="18380" y="4514"/>
                </a:cubicBezTo>
                <a:cubicBezTo>
                  <a:pt x="18380" y="4632"/>
                  <a:pt x="18355" y="4742"/>
                  <a:pt x="18355" y="4862"/>
                </a:cubicBezTo>
                <a:cubicBezTo>
                  <a:pt x="18355" y="5014"/>
                  <a:pt x="18341" y="5160"/>
                  <a:pt x="18331" y="5308"/>
                </a:cubicBezTo>
                <a:cubicBezTo>
                  <a:pt x="18330" y="5325"/>
                  <a:pt x="18301" y="5660"/>
                  <a:pt x="18355" y="5680"/>
                </a:cubicBezTo>
                <a:cubicBezTo>
                  <a:pt x="18363" y="5672"/>
                  <a:pt x="18372" y="5663"/>
                  <a:pt x="18380" y="5655"/>
                </a:cubicBezTo>
              </a:path>
              <a:path w="10915" h="1663">
                <a:moveTo>
                  <a:pt x="18827" y="4936"/>
                </a:moveTo>
                <a:cubicBezTo>
                  <a:pt x="18819" y="5020"/>
                  <a:pt x="18804" y="5081"/>
                  <a:pt x="18777" y="5159"/>
                </a:cubicBezTo>
                <a:cubicBezTo>
                  <a:pt x="18750" y="5236"/>
                  <a:pt x="18731" y="5326"/>
                  <a:pt x="18728" y="5407"/>
                </a:cubicBezTo>
                <a:cubicBezTo>
                  <a:pt x="18725" y="5492"/>
                  <a:pt x="18727" y="5559"/>
                  <a:pt x="18777" y="5631"/>
                </a:cubicBezTo>
                <a:cubicBezTo>
                  <a:pt x="18823" y="5696"/>
                  <a:pt x="18866" y="5672"/>
                  <a:pt x="18926" y="5631"/>
                </a:cubicBezTo>
                <a:cubicBezTo>
                  <a:pt x="18973" y="5599"/>
                  <a:pt x="18970" y="5556"/>
                  <a:pt x="18976" y="5507"/>
                </a:cubicBezTo>
              </a:path>
              <a:path w="10915" h="1663">
                <a:moveTo>
                  <a:pt x="18852" y="4440"/>
                </a:moveTo>
                <a:cubicBezTo>
                  <a:pt x="18804" y="4499"/>
                  <a:pt x="18788" y="4524"/>
                  <a:pt x="18827" y="4589"/>
                </a:cubicBezTo>
                <a:cubicBezTo>
                  <a:pt x="18879" y="4523"/>
                  <a:pt x="18899" y="4487"/>
                  <a:pt x="18802" y="4514"/>
                </a:cubicBezTo>
              </a:path>
              <a:path w="10915" h="1663">
                <a:moveTo>
                  <a:pt x="19273" y="4837"/>
                </a:moveTo>
                <a:cubicBezTo>
                  <a:pt x="19362" y="4837"/>
                  <a:pt x="19462" y="4836"/>
                  <a:pt x="19546" y="4812"/>
                </a:cubicBezTo>
                <a:cubicBezTo>
                  <a:pt x="19611" y="4793"/>
                  <a:pt x="19685" y="4759"/>
                  <a:pt x="19720" y="4812"/>
                </a:cubicBezTo>
              </a:path>
              <a:path w="10915" h="1663">
                <a:moveTo>
                  <a:pt x="19323" y="5085"/>
                </a:moveTo>
                <a:cubicBezTo>
                  <a:pt x="19378" y="5141"/>
                  <a:pt x="19439" y="5154"/>
                  <a:pt x="19521" y="5135"/>
                </a:cubicBezTo>
                <a:cubicBezTo>
                  <a:pt x="19600" y="5117"/>
                  <a:pt x="19690" y="5129"/>
                  <a:pt x="19769" y="5110"/>
                </a:cubicBezTo>
                <a:cubicBezTo>
                  <a:pt x="19841" y="5093"/>
                  <a:pt x="19920" y="5072"/>
                  <a:pt x="19993" y="5060"/>
                </a:cubicBezTo>
                <a:cubicBezTo>
                  <a:pt x="20009" y="5060"/>
                  <a:pt x="20026" y="5060"/>
                  <a:pt x="20042" y="5060"/>
                </a:cubicBezTo>
              </a:path>
              <a:path w="10915" h="1663">
                <a:moveTo>
                  <a:pt x="20241" y="4291"/>
                </a:moveTo>
                <a:cubicBezTo>
                  <a:pt x="20307" y="4331"/>
                  <a:pt x="20338" y="4295"/>
                  <a:pt x="20414" y="4291"/>
                </a:cubicBezTo>
                <a:cubicBezTo>
                  <a:pt x="20483" y="4287"/>
                  <a:pt x="20550" y="4272"/>
                  <a:pt x="20613" y="4266"/>
                </a:cubicBezTo>
                <a:cubicBezTo>
                  <a:pt x="20703" y="4258"/>
                  <a:pt x="20879" y="4245"/>
                  <a:pt x="20960" y="4291"/>
                </a:cubicBezTo>
                <a:cubicBezTo>
                  <a:pt x="20995" y="4311"/>
                  <a:pt x="21008" y="4403"/>
                  <a:pt x="21010" y="4440"/>
                </a:cubicBezTo>
                <a:cubicBezTo>
                  <a:pt x="21014" y="4530"/>
                  <a:pt x="20989" y="4601"/>
                  <a:pt x="20985" y="4688"/>
                </a:cubicBezTo>
                <a:cubicBezTo>
                  <a:pt x="20981" y="4790"/>
                  <a:pt x="20960" y="4881"/>
                  <a:pt x="20960" y="4986"/>
                </a:cubicBezTo>
                <a:cubicBezTo>
                  <a:pt x="20960" y="5163"/>
                  <a:pt x="21162" y="5507"/>
                  <a:pt x="20985" y="5507"/>
                </a:cubicBezTo>
                <a:cubicBezTo>
                  <a:pt x="20957" y="5479"/>
                  <a:pt x="20948" y="5465"/>
                  <a:pt x="20960" y="5432"/>
                </a:cubicBezTo>
              </a:path>
              <a:path w="10915" h="1663">
                <a:moveTo>
                  <a:pt x="21555" y="4589"/>
                </a:moveTo>
                <a:lnTo>
                  <a:pt x="21555" y="4638"/>
                </a:lnTo>
                <a:lnTo>
                  <a:pt x="21555" y="4713"/>
                </a:lnTo>
                <a:lnTo>
                  <a:pt x="21555" y="4787"/>
                </a:lnTo>
                <a:lnTo>
                  <a:pt x="21555" y="4837"/>
                </a:lnTo>
                <a:lnTo>
                  <a:pt x="21555" y="4887"/>
                </a:lnTo>
                <a:lnTo>
                  <a:pt x="21555" y="4936"/>
                </a:lnTo>
                <a:lnTo>
                  <a:pt x="21555" y="4986"/>
                </a:lnTo>
                <a:lnTo>
                  <a:pt x="21555" y="5035"/>
                </a:lnTo>
                <a:lnTo>
                  <a:pt x="21555" y="5085"/>
                </a:lnTo>
                <a:lnTo>
                  <a:pt x="21555" y="5135"/>
                </a:lnTo>
                <a:lnTo>
                  <a:pt x="21580" y="5159"/>
                </a:lnTo>
                <a:lnTo>
                  <a:pt x="21580" y="5234"/>
                </a:lnTo>
                <a:lnTo>
                  <a:pt x="21580" y="5209"/>
                </a:lnTo>
              </a:path>
              <a:path w="10915" h="1663">
                <a:moveTo>
                  <a:pt x="21382" y="4936"/>
                </a:moveTo>
                <a:cubicBezTo>
                  <a:pt x="21455" y="4936"/>
                  <a:pt x="21514" y="4918"/>
                  <a:pt x="21580" y="4911"/>
                </a:cubicBezTo>
                <a:cubicBezTo>
                  <a:pt x="21663" y="4902"/>
                  <a:pt x="21748" y="4891"/>
                  <a:pt x="21828" y="4887"/>
                </a:cubicBezTo>
                <a:cubicBezTo>
                  <a:pt x="21873" y="4887"/>
                  <a:pt x="21893" y="4890"/>
                  <a:pt x="21853" y="4862"/>
                </a:cubicBezTo>
              </a:path>
              <a:path w="10915" h="1663">
                <a:moveTo>
                  <a:pt x="22027" y="4217"/>
                </a:moveTo>
                <a:cubicBezTo>
                  <a:pt x="22077" y="4247"/>
                  <a:pt x="22161" y="4259"/>
                  <a:pt x="22225" y="4242"/>
                </a:cubicBezTo>
                <a:cubicBezTo>
                  <a:pt x="22299" y="4222"/>
                  <a:pt x="22374" y="4235"/>
                  <a:pt x="22448" y="4217"/>
                </a:cubicBezTo>
                <a:cubicBezTo>
                  <a:pt x="22528" y="4198"/>
                  <a:pt x="22584" y="4192"/>
                  <a:pt x="22671" y="4192"/>
                </a:cubicBezTo>
                <a:cubicBezTo>
                  <a:pt x="22688" y="4192"/>
                  <a:pt x="22704" y="4192"/>
                  <a:pt x="22721" y="4192"/>
                </a:cubicBezTo>
                <a:cubicBezTo>
                  <a:pt x="22713" y="4248"/>
                  <a:pt x="22681" y="4291"/>
                  <a:pt x="22671" y="4341"/>
                </a:cubicBezTo>
                <a:cubicBezTo>
                  <a:pt x="22617" y="4605"/>
                  <a:pt x="22671" y="5070"/>
                  <a:pt x="22671" y="5259"/>
                </a:cubicBezTo>
              </a:path>
              <a:path w="10915" h="1663">
                <a:moveTo>
                  <a:pt x="22994" y="4787"/>
                </a:moveTo>
                <a:cubicBezTo>
                  <a:pt x="22986" y="4881"/>
                  <a:pt x="22969" y="4964"/>
                  <a:pt x="22969" y="5060"/>
                </a:cubicBezTo>
                <a:cubicBezTo>
                  <a:pt x="22969" y="5143"/>
                  <a:pt x="22966" y="5214"/>
                  <a:pt x="22994" y="5283"/>
                </a:cubicBezTo>
                <a:cubicBezTo>
                  <a:pt x="23023" y="5356"/>
                  <a:pt x="23044" y="5424"/>
                  <a:pt x="23143" y="5407"/>
                </a:cubicBezTo>
                <a:cubicBezTo>
                  <a:pt x="23221" y="5394"/>
                  <a:pt x="23296" y="5339"/>
                  <a:pt x="23341" y="5283"/>
                </a:cubicBezTo>
                <a:cubicBezTo>
                  <a:pt x="23366" y="5234"/>
                  <a:pt x="23375" y="5217"/>
                  <a:pt x="23391" y="5184"/>
                </a:cubicBezTo>
              </a:path>
              <a:path w="10915" h="1663">
                <a:moveTo>
                  <a:pt x="23068" y="4167"/>
                </a:moveTo>
                <a:cubicBezTo>
                  <a:pt x="23038" y="4275"/>
                  <a:pt x="23135" y="4253"/>
                  <a:pt x="23118" y="4192"/>
                </a:cubicBezTo>
                <a:cubicBezTo>
                  <a:pt x="23103" y="4136"/>
                  <a:pt x="23035" y="4232"/>
                  <a:pt x="23143" y="41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Ink 6"/>
          <p:cNvSpPr/>
          <p:nvPr/>
        </p:nvSpPr>
        <p:spPr>
          <a:xfrm>
            <a:off x="2830680" y="2446200"/>
            <a:ext cx="152280" cy="90720"/>
          </a:xfrm>
          <a:custGeom>
            <a:avLst/>
            <a:gdLst/>
            <a:ahLst/>
            <a:rect l="l" t="t" r="r" b="b"/>
            <a:pathLst>
              <a:path w="423" h="250">
                <a:moveTo>
                  <a:pt x="7863" y="6821"/>
                </a:moveTo>
                <a:cubicBezTo>
                  <a:pt x="7943" y="6821"/>
                  <a:pt x="8013" y="6805"/>
                  <a:pt x="8086" y="6796"/>
                </a:cubicBezTo>
                <a:cubicBezTo>
                  <a:pt x="8155" y="6787"/>
                  <a:pt x="8231" y="6788"/>
                  <a:pt x="8285" y="6821"/>
                </a:cubicBezTo>
              </a:path>
              <a:path w="423" h="250">
                <a:moveTo>
                  <a:pt x="7938" y="7045"/>
                </a:moveTo>
                <a:cubicBezTo>
                  <a:pt x="8009" y="7045"/>
                  <a:pt x="8047" y="7024"/>
                  <a:pt x="8111" y="7020"/>
                </a:cubicBezTo>
                <a:cubicBezTo>
                  <a:pt x="8187" y="7016"/>
                  <a:pt x="8190" y="6999"/>
                  <a:pt x="8260" y="7020"/>
                </a:cubicBezTo>
                <a:cubicBezTo>
                  <a:pt x="8268" y="7020"/>
                  <a:pt x="8277" y="7020"/>
                  <a:pt x="8285" y="70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Ink 7"/>
          <p:cNvSpPr/>
          <p:nvPr/>
        </p:nvSpPr>
        <p:spPr>
          <a:xfrm>
            <a:off x="3152880" y="2170080"/>
            <a:ext cx="1650960" cy="473040"/>
          </a:xfrm>
          <a:custGeom>
            <a:avLst/>
            <a:gdLst/>
            <a:ahLst/>
            <a:rect l="l" t="t" r="r" b="b"/>
            <a:pathLst>
              <a:path w="4590" h="1315">
                <a:moveTo>
                  <a:pt x="8781" y="6424"/>
                </a:moveTo>
                <a:cubicBezTo>
                  <a:pt x="8781" y="6521"/>
                  <a:pt x="8770" y="6606"/>
                  <a:pt x="8756" y="6697"/>
                </a:cubicBezTo>
                <a:cubicBezTo>
                  <a:pt x="8746" y="6759"/>
                  <a:pt x="8752" y="6822"/>
                  <a:pt x="8781" y="6871"/>
                </a:cubicBezTo>
                <a:cubicBezTo>
                  <a:pt x="8842" y="6822"/>
                  <a:pt x="8876" y="6821"/>
                  <a:pt x="8954" y="6821"/>
                </a:cubicBezTo>
                <a:cubicBezTo>
                  <a:pt x="9045" y="6821"/>
                  <a:pt x="9126" y="6830"/>
                  <a:pt x="9203" y="6846"/>
                </a:cubicBezTo>
                <a:cubicBezTo>
                  <a:pt x="9244" y="6846"/>
                  <a:pt x="9252" y="6846"/>
                  <a:pt x="9277" y="6846"/>
                </a:cubicBezTo>
              </a:path>
              <a:path w="4590" h="1315">
                <a:moveTo>
                  <a:pt x="9203" y="6226"/>
                </a:moveTo>
                <a:cubicBezTo>
                  <a:pt x="9203" y="6299"/>
                  <a:pt x="9223" y="6354"/>
                  <a:pt x="9227" y="6424"/>
                </a:cubicBezTo>
                <a:cubicBezTo>
                  <a:pt x="9231" y="6500"/>
                  <a:pt x="9228" y="6577"/>
                  <a:pt x="9252" y="6648"/>
                </a:cubicBezTo>
                <a:cubicBezTo>
                  <a:pt x="9276" y="6719"/>
                  <a:pt x="9291" y="6798"/>
                  <a:pt x="9302" y="6871"/>
                </a:cubicBezTo>
                <a:cubicBezTo>
                  <a:pt x="9315" y="6955"/>
                  <a:pt x="9270" y="7213"/>
                  <a:pt x="9327" y="7193"/>
                </a:cubicBezTo>
              </a:path>
              <a:path w="4590" h="1315">
                <a:moveTo>
                  <a:pt x="9649" y="6747"/>
                </a:moveTo>
                <a:cubicBezTo>
                  <a:pt x="9649" y="6836"/>
                  <a:pt x="9650" y="6937"/>
                  <a:pt x="9674" y="7020"/>
                </a:cubicBezTo>
                <a:cubicBezTo>
                  <a:pt x="9689" y="7072"/>
                  <a:pt x="9701" y="7149"/>
                  <a:pt x="9723" y="7193"/>
                </a:cubicBezTo>
                <a:cubicBezTo>
                  <a:pt x="9745" y="7236"/>
                  <a:pt x="9786" y="7314"/>
                  <a:pt x="9847" y="7293"/>
                </a:cubicBezTo>
                <a:cubicBezTo>
                  <a:pt x="9900" y="7275"/>
                  <a:pt x="9915" y="7160"/>
                  <a:pt x="9922" y="7119"/>
                </a:cubicBezTo>
              </a:path>
              <a:path w="4590" h="1315">
                <a:moveTo>
                  <a:pt x="9723" y="6325"/>
                </a:moveTo>
                <a:cubicBezTo>
                  <a:pt x="9707" y="6333"/>
                  <a:pt x="9690" y="6342"/>
                  <a:pt x="9674" y="6350"/>
                </a:cubicBezTo>
                <a:cubicBezTo>
                  <a:pt x="9737" y="6382"/>
                  <a:pt x="9719" y="6343"/>
                  <a:pt x="9649" y="6400"/>
                </a:cubicBezTo>
              </a:path>
              <a:path w="4590" h="1315">
                <a:moveTo>
                  <a:pt x="10244" y="6697"/>
                </a:moveTo>
                <a:cubicBezTo>
                  <a:pt x="10345" y="6690"/>
                  <a:pt x="10444" y="6673"/>
                  <a:pt x="10542" y="6648"/>
                </a:cubicBezTo>
                <a:cubicBezTo>
                  <a:pt x="10614" y="6630"/>
                  <a:pt x="10672" y="6602"/>
                  <a:pt x="10740" y="6598"/>
                </a:cubicBezTo>
                <a:cubicBezTo>
                  <a:pt x="10841" y="6592"/>
                  <a:pt x="10812" y="6626"/>
                  <a:pt x="10840" y="6598"/>
                </a:cubicBezTo>
              </a:path>
              <a:path w="4590" h="1315">
                <a:moveTo>
                  <a:pt x="11162" y="6226"/>
                </a:moveTo>
                <a:cubicBezTo>
                  <a:pt x="11136" y="6296"/>
                  <a:pt x="11137" y="6348"/>
                  <a:pt x="11137" y="6424"/>
                </a:cubicBezTo>
                <a:cubicBezTo>
                  <a:pt x="11137" y="6609"/>
                  <a:pt x="11132" y="6794"/>
                  <a:pt x="11162" y="6970"/>
                </a:cubicBezTo>
                <a:cubicBezTo>
                  <a:pt x="11173" y="7036"/>
                  <a:pt x="11178" y="7108"/>
                  <a:pt x="11212" y="7169"/>
                </a:cubicBezTo>
                <a:cubicBezTo>
                  <a:pt x="11254" y="7244"/>
                  <a:pt x="11292" y="7294"/>
                  <a:pt x="11385" y="7268"/>
                </a:cubicBezTo>
                <a:cubicBezTo>
                  <a:pt x="11431" y="7255"/>
                  <a:pt x="11512" y="7190"/>
                  <a:pt x="11534" y="7144"/>
                </a:cubicBezTo>
                <a:cubicBezTo>
                  <a:pt x="11563" y="7082"/>
                  <a:pt x="11579" y="6998"/>
                  <a:pt x="11534" y="6945"/>
                </a:cubicBezTo>
                <a:cubicBezTo>
                  <a:pt x="11472" y="6873"/>
                  <a:pt x="11426" y="6886"/>
                  <a:pt x="11361" y="6945"/>
                </a:cubicBezTo>
                <a:cubicBezTo>
                  <a:pt x="11310" y="6990"/>
                  <a:pt x="11290" y="7055"/>
                  <a:pt x="11286" y="7119"/>
                </a:cubicBezTo>
                <a:cubicBezTo>
                  <a:pt x="11282" y="7195"/>
                  <a:pt x="11274" y="7281"/>
                  <a:pt x="11311" y="7342"/>
                </a:cubicBezTo>
              </a:path>
              <a:path w="4590" h="1315">
                <a:moveTo>
                  <a:pt x="11881" y="6598"/>
                </a:moveTo>
                <a:cubicBezTo>
                  <a:pt x="11936" y="6631"/>
                  <a:pt x="11987" y="6623"/>
                  <a:pt x="12055" y="6623"/>
                </a:cubicBezTo>
                <a:cubicBezTo>
                  <a:pt x="12141" y="6623"/>
                  <a:pt x="12414" y="6655"/>
                  <a:pt x="12452" y="6598"/>
                </a:cubicBezTo>
              </a:path>
              <a:path w="4590" h="1315">
                <a:moveTo>
                  <a:pt x="12849" y="6449"/>
                </a:moveTo>
                <a:cubicBezTo>
                  <a:pt x="12830" y="6545"/>
                  <a:pt x="12824" y="6625"/>
                  <a:pt x="12824" y="6722"/>
                </a:cubicBezTo>
                <a:cubicBezTo>
                  <a:pt x="12824" y="6797"/>
                  <a:pt x="12818" y="6853"/>
                  <a:pt x="12849" y="6921"/>
                </a:cubicBezTo>
                <a:cubicBezTo>
                  <a:pt x="12868" y="6964"/>
                  <a:pt x="12894" y="7065"/>
                  <a:pt x="12923" y="7094"/>
                </a:cubicBezTo>
                <a:cubicBezTo>
                  <a:pt x="12968" y="7139"/>
                  <a:pt x="13021" y="7151"/>
                  <a:pt x="13072" y="7169"/>
                </a:cubicBezTo>
                <a:cubicBezTo>
                  <a:pt x="13141" y="7193"/>
                  <a:pt x="13208" y="7169"/>
                  <a:pt x="13271" y="7119"/>
                </a:cubicBezTo>
                <a:cubicBezTo>
                  <a:pt x="13317" y="7073"/>
                  <a:pt x="13331" y="7060"/>
                  <a:pt x="13345" y="7020"/>
                </a:cubicBezTo>
              </a:path>
              <a:path w="4590" h="1315">
                <a:moveTo>
                  <a:pt x="12998" y="6028"/>
                </a:moveTo>
                <a:cubicBezTo>
                  <a:pt x="12946" y="6069"/>
                  <a:pt x="12889" y="6056"/>
                  <a:pt x="12973" y="6077"/>
                </a:cubicBezTo>
                <a:cubicBezTo>
                  <a:pt x="13014" y="5995"/>
                  <a:pt x="12880" y="6109"/>
                  <a:pt x="12874" y="6127"/>
                </a:cubicBezTo>
                <a:cubicBezTo>
                  <a:pt x="12874" y="6143"/>
                  <a:pt x="12874" y="6160"/>
                  <a:pt x="12874" y="61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Ink 8"/>
          <p:cNvSpPr/>
          <p:nvPr/>
        </p:nvSpPr>
        <p:spPr>
          <a:xfrm>
            <a:off x="4991040" y="2320920"/>
            <a:ext cx="162000" cy="108000"/>
          </a:xfrm>
          <a:custGeom>
            <a:avLst/>
            <a:gdLst/>
            <a:ahLst/>
            <a:rect l="l" t="t" r="r" b="b"/>
            <a:pathLst>
              <a:path w="447" h="299">
                <a:moveTo>
                  <a:pt x="13866" y="6449"/>
                </a:moveTo>
                <a:cubicBezTo>
                  <a:pt x="13921" y="6482"/>
                  <a:pt x="13971" y="6474"/>
                  <a:pt x="14039" y="6474"/>
                </a:cubicBezTo>
                <a:cubicBezTo>
                  <a:pt x="14130" y="6474"/>
                  <a:pt x="14221" y="6474"/>
                  <a:pt x="14312" y="6474"/>
                </a:cubicBezTo>
              </a:path>
              <a:path w="447" h="299">
                <a:moveTo>
                  <a:pt x="14089" y="6722"/>
                </a:moveTo>
                <a:cubicBezTo>
                  <a:pt x="14181" y="6747"/>
                  <a:pt x="14187" y="6741"/>
                  <a:pt x="14263" y="67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Ink 9"/>
          <p:cNvSpPr/>
          <p:nvPr/>
        </p:nvSpPr>
        <p:spPr>
          <a:xfrm>
            <a:off x="5348160" y="2187720"/>
            <a:ext cx="546120" cy="420480"/>
          </a:xfrm>
          <a:custGeom>
            <a:avLst/>
            <a:gdLst/>
            <a:ahLst/>
            <a:rect l="l" t="t" r="r" b="b"/>
            <a:pathLst>
              <a:path w="1514" h="1167">
                <a:moveTo>
                  <a:pt x="14858" y="6573"/>
                </a:moveTo>
                <a:cubicBezTo>
                  <a:pt x="14941" y="6573"/>
                  <a:pt x="15027" y="6567"/>
                  <a:pt x="15106" y="6548"/>
                </a:cubicBezTo>
                <a:cubicBezTo>
                  <a:pt x="15220" y="6521"/>
                  <a:pt x="15308" y="6487"/>
                  <a:pt x="15429" y="6474"/>
                </a:cubicBezTo>
                <a:cubicBezTo>
                  <a:pt x="15510" y="6465"/>
                  <a:pt x="15584" y="6490"/>
                  <a:pt x="15652" y="6449"/>
                </a:cubicBezTo>
              </a:path>
              <a:path w="1514" h="1167">
                <a:moveTo>
                  <a:pt x="15999" y="6077"/>
                </a:moveTo>
                <a:cubicBezTo>
                  <a:pt x="15953" y="6157"/>
                  <a:pt x="15929" y="6203"/>
                  <a:pt x="15925" y="6300"/>
                </a:cubicBezTo>
                <a:cubicBezTo>
                  <a:pt x="15922" y="6379"/>
                  <a:pt x="15900" y="6440"/>
                  <a:pt x="15900" y="6524"/>
                </a:cubicBezTo>
                <a:cubicBezTo>
                  <a:pt x="15900" y="6690"/>
                  <a:pt x="15859" y="6918"/>
                  <a:pt x="15925" y="7069"/>
                </a:cubicBezTo>
                <a:cubicBezTo>
                  <a:pt x="15949" y="7123"/>
                  <a:pt x="15989" y="7200"/>
                  <a:pt x="16049" y="7218"/>
                </a:cubicBezTo>
                <a:cubicBezTo>
                  <a:pt x="16116" y="7238"/>
                  <a:pt x="16173" y="7173"/>
                  <a:pt x="16222" y="7144"/>
                </a:cubicBezTo>
                <a:cubicBezTo>
                  <a:pt x="16268" y="7116"/>
                  <a:pt x="16331" y="7050"/>
                  <a:pt x="16346" y="6995"/>
                </a:cubicBezTo>
                <a:cubicBezTo>
                  <a:pt x="16361" y="6938"/>
                  <a:pt x="16385" y="6858"/>
                  <a:pt x="16371" y="6796"/>
                </a:cubicBezTo>
                <a:cubicBezTo>
                  <a:pt x="16348" y="6692"/>
                  <a:pt x="16294" y="6642"/>
                  <a:pt x="16197" y="6697"/>
                </a:cubicBezTo>
                <a:cubicBezTo>
                  <a:pt x="16116" y="6743"/>
                  <a:pt x="16082" y="6811"/>
                  <a:pt x="16049" y="6896"/>
                </a:cubicBezTo>
                <a:cubicBezTo>
                  <a:pt x="16025" y="6958"/>
                  <a:pt x="16000" y="7078"/>
                  <a:pt x="16024" y="7144"/>
                </a:cubicBezTo>
                <a:cubicBezTo>
                  <a:pt x="16041" y="7190"/>
                  <a:pt x="16047" y="7230"/>
                  <a:pt x="16098" y="72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Ink 10"/>
          <p:cNvSpPr/>
          <p:nvPr/>
        </p:nvSpPr>
        <p:spPr>
          <a:xfrm>
            <a:off x="6089760" y="2160720"/>
            <a:ext cx="669960" cy="428400"/>
          </a:xfrm>
          <a:custGeom>
            <a:avLst/>
            <a:gdLst/>
            <a:ahLst/>
            <a:rect l="l" t="t" r="r" b="b"/>
            <a:pathLst>
              <a:path w="1861" h="1191">
                <a:moveTo>
                  <a:pt x="17041" y="6350"/>
                </a:moveTo>
                <a:cubicBezTo>
                  <a:pt x="17049" y="6406"/>
                  <a:pt x="17080" y="6449"/>
                  <a:pt x="17090" y="6499"/>
                </a:cubicBezTo>
                <a:cubicBezTo>
                  <a:pt x="17103" y="6567"/>
                  <a:pt x="17115" y="6625"/>
                  <a:pt x="17115" y="6697"/>
                </a:cubicBezTo>
                <a:cubicBezTo>
                  <a:pt x="17115" y="6785"/>
                  <a:pt x="17084" y="6864"/>
                  <a:pt x="17066" y="6945"/>
                </a:cubicBezTo>
                <a:cubicBezTo>
                  <a:pt x="17066" y="6953"/>
                  <a:pt x="17066" y="6962"/>
                  <a:pt x="17066" y="6970"/>
                </a:cubicBezTo>
              </a:path>
              <a:path w="1861" h="1191">
                <a:moveTo>
                  <a:pt x="16917" y="6598"/>
                </a:moveTo>
                <a:cubicBezTo>
                  <a:pt x="17006" y="6628"/>
                  <a:pt x="17034" y="6602"/>
                  <a:pt x="17115" y="6598"/>
                </a:cubicBezTo>
                <a:cubicBezTo>
                  <a:pt x="17180" y="6595"/>
                  <a:pt x="17301" y="6593"/>
                  <a:pt x="17363" y="6573"/>
                </a:cubicBezTo>
                <a:cubicBezTo>
                  <a:pt x="17391" y="6545"/>
                  <a:pt x="17405" y="6536"/>
                  <a:pt x="17438" y="6548"/>
                </a:cubicBezTo>
              </a:path>
              <a:path w="1861" h="1191">
                <a:moveTo>
                  <a:pt x="17686" y="6127"/>
                </a:moveTo>
                <a:cubicBezTo>
                  <a:pt x="17764" y="6028"/>
                  <a:pt x="17804" y="6009"/>
                  <a:pt x="17934" y="6003"/>
                </a:cubicBezTo>
                <a:cubicBezTo>
                  <a:pt x="17969" y="6001"/>
                  <a:pt x="18048" y="6031"/>
                  <a:pt x="18058" y="6077"/>
                </a:cubicBezTo>
                <a:cubicBezTo>
                  <a:pt x="18071" y="6140"/>
                  <a:pt x="18034" y="6202"/>
                  <a:pt x="18008" y="6251"/>
                </a:cubicBezTo>
                <a:cubicBezTo>
                  <a:pt x="17969" y="6324"/>
                  <a:pt x="17943" y="6365"/>
                  <a:pt x="17884" y="6424"/>
                </a:cubicBezTo>
                <a:cubicBezTo>
                  <a:pt x="17851" y="6457"/>
                  <a:pt x="17818" y="6491"/>
                  <a:pt x="17785" y="6524"/>
                </a:cubicBezTo>
                <a:cubicBezTo>
                  <a:pt x="17749" y="6451"/>
                  <a:pt x="17807" y="6475"/>
                  <a:pt x="17859" y="6449"/>
                </a:cubicBezTo>
                <a:cubicBezTo>
                  <a:pt x="17907" y="6425"/>
                  <a:pt x="17928" y="6452"/>
                  <a:pt x="17983" y="6474"/>
                </a:cubicBezTo>
                <a:cubicBezTo>
                  <a:pt x="18062" y="6506"/>
                  <a:pt x="18086" y="6552"/>
                  <a:pt x="18132" y="6623"/>
                </a:cubicBezTo>
                <a:cubicBezTo>
                  <a:pt x="18163" y="6670"/>
                  <a:pt x="18179" y="6743"/>
                  <a:pt x="18182" y="6796"/>
                </a:cubicBezTo>
                <a:cubicBezTo>
                  <a:pt x="18185" y="6845"/>
                  <a:pt x="18161" y="6909"/>
                  <a:pt x="18132" y="6945"/>
                </a:cubicBezTo>
                <a:cubicBezTo>
                  <a:pt x="18105" y="6978"/>
                  <a:pt x="18045" y="7021"/>
                  <a:pt x="18008" y="7045"/>
                </a:cubicBezTo>
                <a:cubicBezTo>
                  <a:pt x="17959" y="7076"/>
                  <a:pt x="17840" y="7086"/>
                  <a:pt x="17785" y="7069"/>
                </a:cubicBezTo>
                <a:cubicBezTo>
                  <a:pt x="17734" y="7054"/>
                  <a:pt x="17673" y="7043"/>
                  <a:pt x="17686" y="6970"/>
                </a:cubicBezTo>
                <a:cubicBezTo>
                  <a:pt x="17694" y="6945"/>
                  <a:pt x="17703" y="6921"/>
                  <a:pt x="17711" y="6896"/>
                </a:cubicBezTo>
              </a:path>
              <a:path w="1861" h="1191">
                <a:moveTo>
                  <a:pt x="18405" y="6548"/>
                </a:moveTo>
                <a:cubicBezTo>
                  <a:pt x="18405" y="6730"/>
                  <a:pt x="18397" y="6928"/>
                  <a:pt x="18430" y="7094"/>
                </a:cubicBezTo>
                <a:cubicBezTo>
                  <a:pt x="18443" y="7157"/>
                  <a:pt x="18449" y="7215"/>
                  <a:pt x="18529" y="7169"/>
                </a:cubicBezTo>
                <a:cubicBezTo>
                  <a:pt x="18596" y="7130"/>
                  <a:pt x="18612" y="7075"/>
                  <a:pt x="18653" y="7020"/>
                </a:cubicBezTo>
                <a:cubicBezTo>
                  <a:pt x="18694" y="6965"/>
                  <a:pt x="18740" y="6930"/>
                  <a:pt x="18777" y="6871"/>
                </a:cubicBezTo>
              </a:path>
              <a:path w="1861" h="1191">
                <a:moveTo>
                  <a:pt x="18504" y="6077"/>
                </a:moveTo>
                <a:cubicBezTo>
                  <a:pt x="18421" y="6136"/>
                  <a:pt x="18417" y="6116"/>
                  <a:pt x="18405" y="6201"/>
                </a:cubicBezTo>
                <a:cubicBezTo>
                  <a:pt x="18468" y="6239"/>
                  <a:pt x="18478" y="6226"/>
                  <a:pt x="18529" y="6176"/>
                </a:cubicBezTo>
                <a:cubicBezTo>
                  <a:pt x="18602" y="6105"/>
                  <a:pt x="18553" y="6043"/>
                  <a:pt x="18455" y="6102"/>
                </a:cubicBezTo>
                <a:cubicBezTo>
                  <a:pt x="18427" y="6130"/>
                  <a:pt x="18418" y="6143"/>
                  <a:pt x="18430" y="6176"/>
                </a:cubicBezTo>
                <a:cubicBezTo>
                  <a:pt x="18448" y="6166"/>
                  <a:pt x="18580" y="6101"/>
                  <a:pt x="18455" y="61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Ink 11"/>
          <p:cNvSpPr/>
          <p:nvPr/>
        </p:nvSpPr>
        <p:spPr>
          <a:xfrm>
            <a:off x="3081240" y="3009960"/>
            <a:ext cx="249480" cy="98280"/>
          </a:xfrm>
          <a:custGeom>
            <a:avLst/>
            <a:gdLst/>
            <a:ahLst/>
            <a:rect l="l" t="t" r="r" b="b"/>
            <a:pathLst>
              <a:path w="695" h="274">
                <a:moveTo>
                  <a:pt x="8558" y="8359"/>
                </a:moveTo>
                <a:cubicBezTo>
                  <a:pt x="8603" y="8428"/>
                  <a:pt x="8620" y="8409"/>
                  <a:pt x="8706" y="8409"/>
                </a:cubicBezTo>
                <a:cubicBezTo>
                  <a:pt x="8764" y="8409"/>
                  <a:pt x="8822" y="8409"/>
                  <a:pt x="8880" y="8409"/>
                </a:cubicBezTo>
              </a:path>
              <a:path w="695" h="274">
                <a:moveTo>
                  <a:pt x="8682" y="8434"/>
                </a:moveTo>
                <a:cubicBezTo>
                  <a:pt x="8773" y="8434"/>
                  <a:pt x="8863" y="8434"/>
                  <a:pt x="8954" y="8434"/>
                </a:cubicBezTo>
              </a:path>
              <a:path w="695" h="274">
                <a:moveTo>
                  <a:pt x="8706" y="8632"/>
                </a:moveTo>
                <a:cubicBezTo>
                  <a:pt x="8888" y="8632"/>
                  <a:pt x="9070" y="8632"/>
                  <a:pt x="9252" y="86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Ink 12"/>
          <p:cNvSpPr/>
          <p:nvPr/>
        </p:nvSpPr>
        <p:spPr>
          <a:xfrm>
            <a:off x="3500280" y="2759040"/>
            <a:ext cx="2840040" cy="438120"/>
          </a:xfrm>
          <a:custGeom>
            <a:avLst/>
            <a:gdLst/>
            <a:ahLst/>
            <a:rect l="l" t="t" r="r" b="b"/>
            <a:pathLst>
              <a:path w="7889" h="1216">
                <a:moveTo>
                  <a:pt x="9748" y="7913"/>
                </a:moveTo>
                <a:cubicBezTo>
                  <a:pt x="9867" y="7913"/>
                  <a:pt x="9992" y="7920"/>
                  <a:pt x="10096" y="7888"/>
                </a:cubicBezTo>
                <a:cubicBezTo>
                  <a:pt x="10104" y="7888"/>
                  <a:pt x="10112" y="7888"/>
                  <a:pt x="10120" y="7888"/>
                </a:cubicBezTo>
              </a:path>
              <a:path w="7889" h="1216">
                <a:moveTo>
                  <a:pt x="9723" y="7913"/>
                </a:moveTo>
                <a:cubicBezTo>
                  <a:pt x="9723" y="7968"/>
                  <a:pt x="9691" y="8213"/>
                  <a:pt x="9748" y="8235"/>
                </a:cubicBezTo>
                <a:cubicBezTo>
                  <a:pt x="9804" y="8256"/>
                  <a:pt x="9877" y="8195"/>
                  <a:pt x="9922" y="8186"/>
                </a:cubicBezTo>
                <a:cubicBezTo>
                  <a:pt x="10003" y="8170"/>
                  <a:pt x="10072" y="8198"/>
                  <a:pt x="10145" y="8210"/>
                </a:cubicBezTo>
                <a:cubicBezTo>
                  <a:pt x="10205" y="8220"/>
                  <a:pt x="10242" y="8245"/>
                  <a:pt x="10294" y="8285"/>
                </a:cubicBezTo>
                <a:cubicBezTo>
                  <a:pt x="10335" y="8316"/>
                  <a:pt x="10356" y="8360"/>
                  <a:pt x="10368" y="8409"/>
                </a:cubicBezTo>
                <a:cubicBezTo>
                  <a:pt x="10391" y="8503"/>
                  <a:pt x="10273" y="8601"/>
                  <a:pt x="10220" y="8657"/>
                </a:cubicBezTo>
                <a:cubicBezTo>
                  <a:pt x="10186" y="8692"/>
                  <a:pt x="10068" y="8763"/>
                  <a:pt x="10021" y="8781"/>
                </a:cubicBezTo>
                <a:cubicBezTo>
                  <a:pt x="9971" y="8800"/>
                  <a:pt x="9944" y="8777"/>
                  <a:pt x="9897" y="8806"/>
                </a:cubicBezTo>
              </a:path>
              <a:path w="7889" h="1216">
                <a:moveTo>
                  <a:pt x="10517" y="8235"/>
                </a:moveTo>
                <a:cubicBezTo>
                  <a:pt x="10517" y="8347"/>
                  <a:pt x="10530" y="8450"/>
                  <a:pt x="10542" y="8558"/>
                </a:cubicBezTo>
                <a:cubicBezTo>
                  <a:pt x="10553" y="8652"/>
                  <a:pt x="10545" y="8652"/>
                  <a:pt x="10592" y="8731"/>
                </a:cubicBezTo>
                <a:cubicBezTo>
                  <a:pt x="10615" y="8770"/>
                  <a:pt x="10673" y="8896"/>
                  <a:pt x="10740" y="8855"/>
                </a:cubicBezTo>
                <a:cubicBezTo>
                  <a:pt x="10802" y="8817"/>
                  <a:pt x="10834" y="8725"/>
                  <a:pt x="10864" y="8657"/>
                </a:cubicBezTo>
              </a:path>
              <a:path w="7889" h="1216">
                <a:moveTo>
                  <a:pt x="10616" y="7938"/>
                </a:moveTo>
                <a:cubicBezTo>
                  <a:pt x="10567" y="7938"/>
                  <a:pt x="10551" y="7938"/>
                  <a:pt x="10567" y="7987"/>
                </a:cubicBezTo>
              </a:path>
              <a:path w="7889" h="1216">
                <a:moveTo>
                  <a:pt x="11385" y="8136"/>
                </a:moveTo>
                <a:cubicBezTo>
                  <a:pt x="11353" y="8191"/>
                  <a:pt x="11361" y="8243"/>
                  <a:pt x="11361" y="8310"/>
                </a:cubicBezTo>
                <a:cubicBezTo>
                  <a:pt x="11361" y="8382"/>
                  <a:pt x="11340" y="8440"/>
                  <a:pt x="11336" y="8508"/>
                </a:cubicBezTo>
                <a:cubicBezTo>
                  <a:pt x="11332" y="8579"/>
                  <a:pt x="11326" y="8672"/>
                  <a:pt x="11361" y="8706"/>
                </a:cubicBezTo>
              </a:path>
              <a:path w="7889" h="1216">
                <a:moveTo>
                  <a:pt x="11237" y="8334"/>
                </a:moveTo>
                <a:cubicBezTo>
                  <a:pt x="11402" y="8334"/>
                  <a:pt x="11568" y="8334"/>
                  <a:pt x="11733" y="8334"/>
                </a:cubicBezTo>
              </a:path>
              <a:path w="7889" h="1216">
                <a:moveTo>
                  <a:pt x="12179" y="8012"/>
                </a:moveTo>
                <a:cubicBezTo>
                  <a:pt x="12179" y="8092"/>
                  <a:pt x="12189" y="8169"/>
                  <a:pt x="12154" y="8235"/>
                </a:cubicBezTo>
                <a:cubicBezTo>
                  <a:pt x="12115" y="8307"/>
                  <a:pt x="12113" y="8336"/>
                  <a:pt x="12105" y="8409"/>
                </a:cubicBezTo>
                <a:cubicBezTo>
                  <a:pt x="12237" y="8409"/>
                  <a:pt x="12333" y="8387"/>
                  <a:pt x="12427" y="8359"/>
                </a:cubicBezTo>
                <a:cubicBezTo>
                  <a:pt x="12498" y="8338"/>
                  <a:pt x="12552" y="8337"/>
                  <a:pt x="12626" y="8310"/>
                </a:cubicBezTo>
              </a:path>
              <a:path w="7889" h="1216">
                <a:moveTo>
                  <a:pt x="12750" y="7665"/>
                </a:moveTo>
                <a:cubicBezTo>
                  <a:pt x="12735" y="7763"/>
                  <a:pt x="12705" y="7866"/>
                  <a:pt x="12700" y="7962"/>
                </a:cubicBezTo>
                <a:cubicBezTo>
                  <a:pt x="12695" y="8055"/>
                  <a:pt x="12675" y="8139"/>
                  <a:pt x="12675" y="8235"/>
                </a:cubicBezTo>
                <a:cubicBezTo>
                  <a:pt x="12675" y="8396"/>
                  <a:pt x="12667" y="8549"/>
                  <a:pt x="12650" y="8706"/>
                </a:cubicBezTo>
                <a:cubicBezTo>
                  <a:pt x="12643" y="8765"/>
                  <a:pt x="12566" y="8880"/>
                  <a:pt x="12626" y="8880"/>
                </a:cubicBezTo>
                <a:cubicBezTo>
                  <a:pt x="12642" y="8872"/>
                  <a:pt x="12659" y="8863"/>
                  <a:pt x="12675" y="8855"/>
                </a:cubicBezTo>
              </a:path>
              <a:path w="7889" h="1216">
                <a:moveTo>
                  <a:pt x="13171" y="8334"/>
                </a:moveTo>
                <a:cubicBezTo>
                  <a:pt x="13260" y="8344"/>
                  <a:pt x="13318" y="8349"/>
                  <a:pt x="13395" y="8334"/>
                </a:cubicBezTo>
                <a:cubicBezTo>
                  <a:pt x="13448" y="8324"/>
                  <a:pt x="13514" y="8334"/>
                  <a:pt x="13568" y="8334"/>
                </a:cubicBezTo>
              </a:path>
              <a:path w="7889" h="1216">
                <a:moveTo>
                  <a:pt x="13866" y="7987"/>
                </a:moveTo>
                <a:cubicBezTo>
                  <a:pt x="13906" y="7929"/>
                  <a:pt x="13948" y="7868"/>
                  <a:pt x="13990" y="7813"/>
                </a:cubicBezTo>
                <a:cubicBezTo>
                  <a:pt x="14019" y="7775"/>
                  <a:pt x="14126" y="7721"/>
                  <a:pt x="14163" y="7714"/>
                </a:cubicBezTo>
                <a:cubicBezTo>
                  <a:pt x="14244" y="7698"/>
                  <a:pt x="14284" y="7711"/>
                  <a:pt x="14337" y="7764"/>
                </a:cubicBezTo>
                <a:cubicBezTo>
                  <a:pt x="14390" y="7818"/>
                  <a:pt x="14355" y="7877"/>
                  <a:pt x="14337" y="7938"/>
                </a:cubicBezTo>
                <a:cubicBezTo>
                  <a:pt x="14308" y="8040"/>
                  <a:pt x="14260" y="8116"/>
                  <a:pt x="14213" y="8210"/>
                </a:cubicBezTo>
                <a:cubicBezTo>
                  <a:pt x="14184" y="8268"/>
                  <a:pt x="14147" y="8307"/>
                  <a:pt x="14114" y="8359"/>
                </a:cubicBezTo>
                <a:cubicBezTo>
                  <a:pt x="14063" y="8438"/>
                  <a:pt x="14033" y="8500"/>
                  <a:pt x="13990" y="8582"/>
                </a:cubicBezTo>
                <a:cubicBezTo>
                  <a:pt x="13959" y="8641"/>
                  <a:pt x="13949" y="8643"/>
                  <a:pt x="13940" y="8706"/>
                </a:cubicBezTo>
                <a:cubicBezTo>
                  <a:pt x="14059" y="8706"/>
                  <a:pt x="14108" y="8689"/>
                  <a:pt x="14188" y="8657"/>
                </a:cubicBezTo>
                <a:cubicBezTo>
                  <a:pt x="14275" y="8623"/>
                  <a:pt x="14348" y="8686"/>
                  <a:pt x="14412" y="8706"/>
                </a:cubicBezTo>
                <a:cubicBezTo>
                  <a:pt x="14491" y="8731"/>
                  <a:pt x="14542" y="8704"/>
                  <a:pt x="14585" y="8657"/>
                </a:cubicBezTo>
                <a:cubicBezTo>
                  <a:pt x="14593" y="8649"/>
                  <a:pt x="14602" y="8640"/>
                  <a:pt x="14610" y="8632"/>
                </a:cubicBezTo>
              </a:path>
              <a:path w="7889" h="1216">
                <a:moveTo>
                  <a:pt x="14833" y="8260"/>
                </a:moveTo>
                <a:cubicBezTo>
                  <a:pt x="14820" y="8348"/>
                  <a:pt x="14822" y="8387"/>
                  <a:pt x="14833" y="8483"/>
                </a:cubicBezTo>
                <a:cubicBezTo>
                  <a:pt x="14838" y="8531"/>
                  <a:pt x="14850" y="8650"/>
                  <a:pt x="14932" y="8657"/>
                </a:cubicBezTo>
                <a:cubicBezTo>
                  <a:pt x="15013" y="8664"/>
                  <a:pt x="15025" y="8575"/>
                  <a:pt x="15032" y="8508"/>
                </a:cubicBezTo>
              </a:path>
              <a:path w="7889" h="1216">
                <a:moveTo>
                  <a:pt x="14957" y="7813"/>
                </a:moveTo>
                <a:cubicBezTo>
                  <a:pt x="14897" y="7833"/>
                  <a:pt x="14882" y="7832"/>
                  <a:pt x="14858" y="7863"/>
                </a:cubicBezTo>
              </a:path>
              <a:path w="7889" h="1216">
                <a:moveTo>
                  <a:pt x="15404" y="8086"/>
                </a:moveTo>
                <a:cubicBezTo>
                  <a:pt x="15520" y="8127"/>
                  <a:pt x="15562" y="8136"/>
                  <a:pt x="15677" y="8136"/>
                </a:cubicBezTo>
                <a:cubicBezTo>
                  <a:pt x="15718" y="8136"/>
                  <a:pt x="15726" y="8136"/>
                  <a:pt x="15751" y="8136"/>
                </a:cubicBezTo>
              </a:path>
              <a:path w="7889" h="1216">
                <a:moveTo>
                  <a:pt x="15478" y="8334"/>
                </a:moveTo>
                <a:cubicBezTo>
                  <a:pt x="15536" y="8349"/>
                  <a:pt x="15579" y="8373"/>
                  <a:pt x="15652" y="8359"/>
                </a:cubicBezTo>
                <a:cubicBezTo>
                  <a:pt x="15717" y="8337"/>
                  <a:pt x="15732" y="8329"/>
                  <a:pt x="15776" y="8334"/>
                </a:cubicBezTo>
              </a:path>
              <a:path w="7889" h="1216">
                <a:moveTo>
                  <a:pt x="16297" y="7913"/>
                </a:moveTo>
                <a:cubicBezTo>
                  <a:pt x="16347" y="7819"/>
                  <a:pt x="16360" y="7791"/>
                  <a:pt x="16446" y="7739"/>
                </a:cubicBezTo>
                <a:cubicBezTo>
                  <a:pt x="16502" y="7705"/>
                  <a:pt x="16581" y="7673"/>
                  <a:pt x="16644" y="7665"/>
                </a:cubicBezTo>
                <a:cubicBezTo>
                  <a:pt x="16716" y="7656"/>
                  <a:pt x="16854" y="7670"/>
                  <a:pt x="16842" y="7764"/>
                </a:cubicBezTo>
                <a:cubicBezTo>
                  <a:pt x="16829" y="7863"/>
                  <a:pt x="16784" y="7921"/>
                  <a:pt x="16718" y="7987"/>
                </a:cubicBezTo>
                <a:cubicBezTo>
                  <a:pt x="16670" y="8035"/>
                  <a:pt x="16642" y="8088"/>
                  <a:pt x="16594" y="8136"/>
                </a:cubicBezTo>
                <a:cubicBezTo>
                  <a:pt x="16650" y="8128"/>
                  <a:pt x="16694" y="8096"/>
                  <a:pt x="16743" y="8086"/>
                </a:cubicBezTo>
                <a:cubicBezTo>
                  <a:pt x="16813" y="8072"/>
                  <a:pt x="16885" y="8096"/>
                  <a:pt x="16942" y="8136"/>
                </a:cubicBezTo>
                <a:cubicBezTo>
                  <a:pt x="16978" y="8161"/>
                  <a:pt x="17053" y="8251"/>
                  <a:pt x="17066" y="8285"/>
                </a:cubicBezTo>
                <a:cubicBezTo>
                  <a:pt x="17083" y="8329"/>
                  <a:pt x="17070" y="8407"/>
                  <a:pt x="17066" y="8434"/>
                </a:cubicBezTo>
                <a:cubicBezTo>
                  <a:pt x="17057" y="8504"/>
                  <a:pt x="17016" y="8574"/>
                  <a:pt x="16966" y="8632"/>
                </a:cubicBezTo>
                <a:cubicBezTo>
                  <a:pt x="16929" y="8676"/>
                  <a:pt x="16871" y="8695"/>
                  <a:pt x="16818" y="8731"/>
                </a:cubicBezTo>
                <a:cubicBezTo>
                  <a:pt x="16768" y="8764"/>
                  <a:pt x="16634" y="8824"/>
                  <a:pt x="16570" y="8781"/>
                </a:cubicBezTo>
                <a:cubicBezTo>
                  <a:pt x="16570" y="8764"/>
                  <a:pt x="16570" y="8748"/>
                  <a:pt x="16570" y="8731"/>
                </a:cubicBezTo>
              </a:path>
              <a:path w="7889" h="1216">
                <a:moveTo>
                  <a:pt x="17289" y="8161"/>
                </a:moveTo>
                <a:cubicBezTo>
                  <a:pt x="17307" y="8262"/>
                  <a:pt x="17314" y="8333"/>
                  <a:pt x="17314" y="8434"/>
                </a:cubicBezTo>
                <a:cubicBezTo>
                  <a:pt x="17314" y="8496"/>
                  <a:pt x="17334" y="8590"/>
                  <a:pt x="17388" y="8632"/>
                </a:cubicBezTo>
                <a:cubicBezTo>
                  <a:pt x="17445" y="8676"/>
                  <a:pt x="17511" y="8610"/>
                  <a:pt x="17537" y="8582"/>
                </a:cubicBezTo>
                <a:cubicBezTo>
                  <a:pt x="17575" y="8545"/>
                  <a:pt x="17594" y="8522"/>
                  <a:pt x="17611" y="8483"/>
                </a:cubicBezTo>
              </a:path>
              <a:path w="7889" h="1216">
                <a:moveTo>
                  <a:pt x="17462" y="7739"/>
                </a:moveTo>
                <a:cubicBezTo>
                  <a:pt x="17390" y="7754"/>
                  <a:pt x="17414" y="7752"/>
                  <a:pt x="17462" y="7764"/>
                </a:cubicBezTo>
              </a:path>
              <a:path w="7889" h="1216">
                <a:moveTo>
                  <a:pt x="15925" y="7813"/>
                </a:moveTo>
                <a:cubicBezTo>
                  <a:pt x="15894" y="7865"/>
                  <a:pt x="15897" y="7925"/>
                  <a:pt x="15875" y="7987"/>
                </a:cubicBezTo>
                <a:cubicBezTo>
                  <a:pt x="15850" y="8060"/>
                  <a:pt x="15829" y="8139"/>
                  <a:pt x="15825" y="8210"/>
                </a:cubicBezTo>
                <a:cubicBezTo>
                  <a:pt x="15819" y="8315"/>
                  <a:pt x="15863" y="8310"/>
                  <a:pt x="15949" y="8310"/>
                </a:cubicBezTo>
                <a:cubicBezTo>
                  <a:pt x="16015" y="8310"/>
                  <a:pt x="16044" y="8274"/>
                  <a:pt x="16098" y="8260"/>
                </a:cubicBezTo>
              </a:path>
              <a:path w="7889" h="1216">
                <a:moveTo>
                  <a:pt x="16197" y="7789"/>
                </a:moveTo>
                <a:cubicBezTo>
                  <a:pt x="16189" y="7864"/>
                  <a:pt x="16191" y="7964"/>
                  <a:pt x="16173" y="8037"/>
                </a:cubicBezTo>
                <a:cubicBezTo>
                  <a:pt x="16150" y="8131"/>
                  <a:pt x="16127" y="8237"/>
                  <a:pt x="16123" y="8334"/>
                </a:cubicBezTo>
                <a:cubicBezTo>
                  <a:pt x="16118" y="8438"/>
                  <a:pt x="16103" y="8527"/>
                  <a:pt x="16098" y="8632"/>
                </a:cubicBezTo>
                <a:cubicBezTo>
                  <a:pt x="16096" y="8672"/>
                  <a:pt x="16098" y="8894"/>
                  <a:pt x="16098" y="8706"/>
                </a:cubicBezTo>
              </a:path>
              <a:path w="7889" h="1216">
                <a:moveTo>
                  <a:pt x="16371" y="8037"/>
                </a:moveTo>
                <a:cubicBezTo>
                  <a:pt x="16371" y="8136"/>
                  <a:pt x="16362" y="8223"/>
                  <a:pt x="16371" y="8310"/>
                </a:cubicBezTo>
                <a:cubicBezTo>
                  <a:pt x="16377" y="8365"/>
                  <a:pt x="16371" y="8428"/>
                  <a:pt x="16371" y="8483"/>
                </a:cubicBezTo>
              </a:path>
              <a:path w="7889" h="1216">
                <a:moveTo>
                  <a:pt x="16222" y="8285"/>
                </a:moveTo>
                <a:cubicBezTo>
                  <a:pt x="16318" y="8285"/>
                  <a:pt x="16401" y="8264"/>
                  <a:pt x="16495" y="8260"/>
                </a:cubicBezTo>
                <a:cubicBezTo>
                  <a:pt x="16536" y="8258"/>
                  <a:pt x="16611" y="8260"/>
                  <a:pt x="16570" y="82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9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98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98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8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ultipl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2i)(3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i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• √-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(4 + 2i)(2 – 3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(4 + 5i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Ink 4"/>
          <p:cNvSpPr/>
          <p:nvPr/>
        </p:nvSpPr>
        <p:spPr>
          <a:xfrm>
            <a:off x="2197080" y="1517760"/>
            <a:ext cx="1108080" cy="501480"/>
          </a:xfrm>
          <a:custGeom>
            <a:avLst/>
            <a:gdLst/>
            <a:ahLst/>
            <a:rect l="l" t="t" r="r" b="b"/>
            <a:pathLst>
              <a:path w="3077" h="1390">
                <a:moveTo>
                  <a:pt x="6176" y="4961"/>
                </a:moveTo>
                <a:cubicBezTo>
                  <a:pt x="6366" y="4961"/>
                  <a:pt x="6557" y="4961"/>
                  <a:pt x="6747" y="4961"/>
                </a:cubicBezTo>
              </a:path>
              <a:path w="3077" h="1390">
                <a:moveTo>
                  <a:pt x="6102" y="5135"/>
                </a:moveTo>
                <a:cubicBezTo>
                  <a:pt x="6223" y="5135"/>
                  <a:pt x="6335" y="5124"/>
                  <a:pt x="6449" y="5110"/>
                </a:cubicBezTo>
                <a:cubicBezTo>
                  <a:pt x="6528" y="5100"/>
                  <a:pt x="6617" y="5110"/>
                  <a:pt x="6697" y="5110"/>
                </a:cubicBezTo>
              </a:path>
              <a:path w="3077" h="1390">
                <a:moveTo>
                  <a:pt x="7218" y="4564"/>
                </a:moveTo>
                <a:cubicBezTo>
                  <a:pt x="7196" y="4642"/>
                  <a:pt x="7159" y="4709"/>
                  <a:pt x="7144" y="4787"/>
                </a:cubicBezTo>
                <a:cubicBezTo>
                  <a:pt x="7129" y="4860"/>
                  <a:pt x="7112" y="4938"/>
                  <a:pt x="7094" y="5011"/>
                </a:cubicBezTo>
                <a:cubicBezTo>
                  <a:pt x="7071" y="5101"/>
                  <a:pt x="7070" y="5196"/>
                  <a:pt x="7045" y="5283"/>
                </a:cubicBezTo>
                <a:cubicBezTo>
                  <a:pt x="7028" y="5342"/>
                  <a:pt x="6995" y="5442"/>
                  <a:pt x="7020" y="5507"/>
                </a:cubicBezTo>
                <a:cubicBezTo>
                  <a:pt x="7042" y="5563"/>
                  <a:pt x="7119" y="5600"/>
                  <a:pt x="7169" y="5606"/>
                </a:cubicBezTo>
                <a:cubicBezTo>
                  <a:pt x="7213" y="5611"/>
                  <a:pt x="7311" y="5564"/>
                  <a:pt x="7342" y="5531"/>
                </a:cubicBezTo>
                <a:cubicBezTo>
                  <a:pt x="7393" y="5476"/>
                  <a:pt x="7430" y="5430"/>
                  <a:pt x="7466" y="5358"/>
                </a:cubicBezTo>
                <a:cubicBezTo>
                  <a:pt x="7502" y="5287"/>
                  <a:pt x="7545" y="5167"/>
                  <a:pt x="7516" y="5085"/>
                </a:cubicBezTo>
                <a:cubicBezTo>
                  <a:pt x="7508" y="5077"/>
                  <a:pt x="7499" y="5068"/>
                  <a:pt x="7491" y="5060"/>
                </a:cubicBezTo>
                <a:cubicBezTo>
                  <a:pt x="7418" y="5069"/>
                  <a:pt x="7394" y="5084"/>
                  <a:pt x="7342" y="5135"/>
                </a:cubicBezTo>
                <a:cubicBezTo>
                  <a:pt x="7320" y="5156"/>
                  <a:pt x="7276" y="5253"/>
                  <a:pt x="7268" y="5283"/>
                </a:cubicBezTo>
                <a:cubicBezTo>
                  <a:pt x="7251" y="5346"/>
                  <a:pt x="7269" y="5426"/>
                  <a:pt x="7293" y="5482"/>
                </a:cubicBezTo>
                <a:cubicBezTo>
                  <a:pt x="7316" y="5534"/>
                  <a:pt x="7340" y="5568"/>
                  <a:pt x="7392" y="5581"/>
                </a:cubicBezTo>
              </a:path>
              <a:path w="3077" h="1390">
                <a:moveTo>
                  <a:pt x="7913" y="4961"/>
                </a:moveTo>
                <a:cubicBezTo>
                  <a:pt x="7903" y="5037"/>
                  <a:pt x="7875" y="5110"/>
                  <a:pt x="7863" y="5184"/>
                </a:cubicBezTo>
                <a:cubicBezTo>
                  <a:pt x="7850" y="5263"/>
                  <a:pt x="7852" y="5386"/>
                  <a:pt x="7888" y="5457"/>
                </a:cubicBezTo>
                <a:cubicBezTo>
                  <a:pt x="7925" y="5530"/>
                  <a:pt x="8007" y="5507"/>
                  <a:pt x="8062" y="5482"/>
                </a:cubicBezTo>
                <a:cubicBezTo>
                  <a:pt x="8111" y="5457"/>
                  <a:pt x="8128" y="5448"/>
                  <a:pt x="8136" y="5407"/>
                </a:cubicBezTo>
              </a:path>
              <a:path w="3077" h="1390">
                <a:moveTo>
                  <a:pt x="7962" y="4614"/>
                </a:moveTo>
                <a:cubicBezTo>
                  <a:pt x="7940" y="4636"/>
                  <a:pt x="7935" y="4644"/>
                  <a:pt x="7913" y="4638"/>
                </a:cubicBezTo>
              </a:path>
              <a:path w="3077" h="1390">
                <a:moveTo>
                  <a:pt x="8186" y="4291"/>
                </a:moveTo>
                <a:cubicBezTo>
                  <a:pt x="8210" y="4279"/>
                  <a:pt x="8419" y="4140"/>
                  <a:pt x="8458" y="4242"/>
                </a:cubicBezTo>
                <a:cubicBezTo>
                  <a:pt x="8473" y="4282"/>
                  <a:pt x="8451" y="4382"/>
                  <a:pt x="8434" y="4415"/>
                </a:cubicBezTo>
                <a:cubicBezTo>
                  <a:pt x="8412" y="4458"/>
                  <a:pt x="8359" y="4496"/>
                  <a:pt x="8334" y="4539"/>
                </a:cubicBezTo>
                <a:cubicBezTo>
                  <a:pt x="8304" y="4591"/>
                  <a:pt x="8277" y="4621"/>
                  <a:pt x="8235" y="4663"/>
                </a:cubicBezTo>
                <a:cubicBezTo>
                  <a:pt x="8210" y="4688"/>
                  <a:pt x="8186" y="4713"/>
                  <a:pt x="8161" y="4738"/>
                </a:cubicBezTo>
                <a:cubicBezTo>
                  <a:pt x="8214" y="4769"/>
                  <a:pt x="8293" y="4775"/>
                  <a:pt x="8359" y="4762"/>
                </a:cubicBezTo>
                <a:cubicBezTo>
                  <a:pt x="8438" y="4746"/>
                  <a:pt x="8476" y="4738"/>
                  <a:pt x="8558" y="4738"/>
                </a:cubicBezTo>
              </a:path>
              <a:path w="3077" h="1390">
                <a:moveTo>
                  <a:pt x="8706" y="4961"/>
                </a:moveTo>
                <a:cubicBezTo>
                  <a:pt x="8803" y="4961"/>
                  <a:pt x="8897" y="4953"/>
                  <a:pt x="8979" y="4936"/>
                </a:cubicBezTo>
                <a:cubicBezTo>
                  <a:pt x="8996" y="4936"/>
                  <a:pt x="9012" y="4936"/>
                  <a:pt x="9029" y="4936"/>
                </a:cubicBezTo>
              </a:path>
              <a:path w="3077" h="1390">
                <a:moveTo>
                  <a:pt x="8657" y="5110"/>
                </a:moveTo>
                <a:cubicBezTo>
                  <a:pt x="8723" y="5150"/>
                  <a:pt x="8754" y="5114"/>
                  <a:pt x="8830" y="5110"/>
                </a:cubicBezTo>
                <a:cubicBezTo>
                  <a:pt x="8945" y="5104"/>
                  <a:pt x="9063" y="5110"/>
                  <a:pt x="9178" y="51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Ink 5"/>
          <p:cNvSpPr/>
          <p:nvPr/>
        </p:nvSpPr>
        <p:spPr>
          <a:xfrm>
            <a:off x="3456000" y="1482840"/>
            <a:ext cx="1554120" cy="446040"/>
          </a:xfrm>
          <a:custGeom>
            <a:avLst/>
            <a:gdLst/>
            <a:ahLst/>
            <a:rect l="l" t="t" r="r" b="b"/>
            <a:pathLst>
              <a:path w="4317" h="1241">
                <a:moveTo>
                  <a:pt x="9823" y="4242"/>
                </a:moveTo>
                <a:cubicBezTo>
                  <a:pt x="9813" y="4318"/>
                  <a:pt x="9764" y="4367"/>
                  <a:pt x="9748" y="4440"/>
                </a:cubicBezTo>
                <a:cubicBezTo>
                  <a:pt x="9729" y="4526"/>
                  <a:pt x="9704" y="4603"/>
                  <a:pt x="9674" y="4688"/>
                </a:cubicBezTo>
                <a:cubicBezTo>
                  <a:pt x="9640" y="4784"/>
                  <a:pt x="9610" y="4886"/>
                  <a:pt x="9599" y="4986"/>
                </a:cubicBezTo>
                <a:cubicBezTo>
                  <a:pt x="9589" y="5079"/>
                  <a:pt x="9586" y="5198"/>
                  <a:pt x="9624" y="5283"/>
                </a:cubicBezTo>
                <a:cubicBezTo>
                  <a:pt x="9664" y="5372"/>
                  <a:pt x="9719" y="5368"/>
                  <a:pt x="9798" y="5333"/>
                </a:cubicBezTo>
                <a:cubicBezTo>
                  <a:pt x="9868" y="5301"/>
                  <a:pt x="9911" y="5250"/>
                  <a:pt x="9947" y="5184"/>
                </a:cubicBezTo>
                <a:cubicBezTo>
                  <a:pt x="9979" y="5126"/>
                  <a:pt x="10069" y="5034"/>
                  <a:pt x="10046" y="4961"/>
                </a:cubicBezTo>
                <a:cubicBezTo>
                  <a:pt x="10029" y="4907"/>
                  <a:pt x="9981" y="4870"/>
                  <a:pt x="9922" y="4887"/>
                </a:cubicBezTo>
                <a:cubicBezTo>
                  <a:pt x="9860" y="4905"/>
                  <a:pt x="9829" y="4961"/>
                  <a:pt x="9798" y="5011"/>
                </a:cubicBezTo>
                <a:cubicBezTo>
                  <a:pt x="9764" y="5067"/>
                  <a:pt x="9734" y="5120"/>
                  <a:pt x="9723" y="5184"/>
                </a:cubicBezTo>
                <a:cubicBezTo>
                  <a:pt x="9718" y="5212"/>
                  <a:pt x="9728" y="5345"/>
                  <a:pt x="9748" y="5358"/>
                </a:cubicBezTo>
                <a:cubicBezTo>
                  <a:pt x="9765" y="5358"/>
                  <a:pt x="9781" y="5358"/>
                  <a:pt x="9798" y="5358"/>
                </a:cubicBezTo>
              </a:path>
              <a:path w="4317" h="1241">
                <a:moveTo>
                  <a:pt x="10567" y="4167"/>
                </a:moveTo>
                <a:cubicBezTo>
                  <a:pt x="10541" y="4237"/>
                  <a:pt x="10526" y="4297"/>
                  <a:pt x="10492" y="4366"/>
                </a:cubicBezTo>
                <a:cubicBezTo>
                  <a:pt x="10449" y="4452"/>
                  <a:pt x="10424" y="4547"/>
                  <a:pt x="10393" y="4638"/>
                </a:cubicBezTo>
                <a:cubicBezTo>
                  <a:pt x="10357" y="4745"/>
                  <a:pt x="10344" y="4824"/>
                  <a:pt x="10344" y="4936"/>
                </a:cubicBezTo>
                <a:cubicBezTo>
                  <a:pt x="10344" y="5011"/>
                  <a:pt x="10345" y="5090"/>
                  <a:pt x="10368" y="5159"/>
                </a:cubicBezTo>
                <a:cubicBezTo>
                  <a:pt x="10399" y="5252"/>
                  <a:pt x="10441" y="5238"/>
                  <a:pt x="10517" y="5209"/>
                </a:cubicBezTo>
              </a:path>
              <a:path w="4317" h="1241">
                <a:moveTo>
                  <a:pt x="10517" y="4812"/>
                </a:moveTo>
                <a:cubicBezTo>
                  <a:pt x="10649" y="4812"/>
                  <a:pt x="10782" y="4812"/>
                  <a:pt x="10914" y="4812"/>
                </a:cubicBezTo>
              </a:path>
              <a:path w="4317" h="1241">
                <a:moveTo>
                  <a:pt x="11261" y="4514"/>
                </a:moveTo>
                <a:cubicBezTo>
                  <a:pt x="11254" y="4630"/>
                  <a:pt x="11229" y="4727"/>
                  <a:pt x="11212" y="4837"/>
                </a:cubicBezTo>
                <a:cubicBezTo>
                  <a:pt x="11207" y="4870"/>
                  <a:pt x="11195" y="5110"/>
                  <a:pt x="11237" y="5110"/>
                </a:cubicBezTo>
                <a:cubicBezTo>
                  <a:pt x="11237" y="5102"/>
                  <a:pt x="11237" y="5093"/>
                  <a:pt x="11237" y="5085"/>
                </a:cubicBezTo>
              </a:path>
              <a:path w="4317" h="1241">
                <a:moveTo>
                  <a:pt x="11435" y="4118"/>
                </a:moveTo>
                <a:cubicBezTo>
                  <a:pt x="11535" y="4224"/>
                  <a:pt x="11614" y="4300"/>
                  <a:pt x="11658" y="4440"/>
                </a:cubicBezTo>
                <a:cubicBezTo>
                  <a:pt x="11698" y="4568"/>
                  <a:pt x="11708" y="4680"/>
                  <a:pt x="11708" y="4812"/>
                </a:cubicBezTo>
                <a:cubicBezTo>
                  <a:pt x="11708" y="4907"/>
                  <a:pt x="11681" y="5002"/>
                  <a:pt x="11633" y="5085"/>
                </a:cubicBezTo>
                <a:cubicBezTo>
                  <a:pt x="11588" y="5163"/>
                  <a:pt x="11523" y="5220"/>
                  <a:pt x="11460" y="5283"/>
                </a:cubicBezTo>
                <a:cubicBezTo>
                  <a:pt x="11413" y="5330"/>
                  <a:pt x="11418" y="5292"/>
                  <a:pt x="11435" y="5259"/>
                </a:cubicBezTo>
              </a:path>
              <a:path w="4317" h="1241">
                <a:moveTo>
                  <a:pt x="12005" y="4738"/>
                </a:moveTo>
                <a:cubicBezTo>
                  <a:pt x="12100" y="4732"/>
                  <a:pt x="12183" y="4713"/>
                  <a:pt x="12278" y="4713"/>
                </a:cubicBezTo>
                <a:cubicBezTo>
                  <a:pt x="12303" y="4713"/>
                  <a:pt x="12328" y="4713"/>
                  <a:pt x="12353" y="4713"/>
                </a:cubicBezTo>
              </a:path>
              <a:path w="4317" h="1241">
                <a:moveTo>
                  <a:pt x="12005" y="4911"/>
                </a:moveTo>
                <a:cubicBezTo>
                  <a:pt x="12125" y="4911"/>
                  <a:pt x="12199" y="4921"/>
                  <a:pt x="12303" y="4887"/>
                </a:cubicBezTo>
              </a:path>
              <a:path w="4317" h="1241">
                <a:moveTo>
                  <a:pt x="12576" y="4564"/>
                </a:moveTo>
                <a:cubicBezTo>
                  <a:pt x="12747" y="4576"/>
                  <a:pt x="12801" y="4576"/>
                  <a:pt x="12948" y="4564"/>
                </a:cubicBezTo>
              </a:path>
              <a:path w="4317" h="1241">
                <a:moveTo>
                  <a:pt x="13295" y="4167"/>
                </a:moveTo>
                <a:cubicBezTo>
                  <a:pt x="13288" y="4228"/>
                  <a:pt x="13254" y="4291"/>
                  <a:pt x="13246" y="4341"/>
                </a:cubicBezTo>
                <a:cubicBezTo>
                  <a:pt x="13233" y="4426"/>
                  <a:pt x="13208" y="4503"/>
                  <a:pt x="13196" y="4589"/>
                </a:cubicBezTo>
                <a:cubicBezTo>
                  <a:pt x="13184" y="4669"/>
                  <a:pt x="13160" y="4925"/>
                  <a:pt x="13221" y="4986"/>
                </a:cubicBezTo>
                <a:cubicBezTo>
                  <a:pt x="13281" y="5046"/>
                  <a:pt x="13318" y="5059"/>
                  <a:pt x="13395" y="5085"/>
                </a:cubicBezTo>
                <a:cubicBezTo>
                  <a:pt x="13462" y="5107"/>
                  <a:pt x="13544" y="5130"/>
                  <a:pt x="13618" y="5110"/>
                </a:cubicBezTo>
                <a:cubicBezTo>
                  <a:pt x="13700" y="5088"/>
                  <a:pt x="13760" y="5027"/>
                  <a:pt x="13816" y="4986"/>
                </a:cubicBezTo>
                <a:cubicBezTo>
                  <a:pt x="13896" y="4926"/>
                  <a:pt x="13901" y="4870"/>
                  <a:pt x="13891" y="4787"/>
                </a:cubicBezTo>
                <a:cubicBezTo>
                  <a:pt x="13882" y="4710"/>
                  <a:pt x="13853" y="4680"/>
                  <a:pt x="13767" y="4663"/>
                </a:cubicBezTo>
                <a:cubicBezTo>
                  <a:pt x="13683" y="4646"/>
                  <a:pt x="13608" y="4711"/>
                  <a:pt x="13593" y="4787"/>
                </a:cubicBezTo>
                <a:cubicBezTo>
                  <a:pt x="13573" y="4887"/>
                  <a:pt x="13645" y="4961"/>
                  <a:pt x="13692" y="5035"/>
                </a:cubicBezTo>
                <a:cubicBezTo>
                  <a:pt x="13726" y="5089"/>
                  <a:pt x="13734" y="5101"/>
                  <a:pt x="13742" y="51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Ink 6"/>
          <p:cNvSpPr/>
          <p:nvPr/>
        </p:nvSpPr>
        <p:spPr>
          <a:xfrm>
            <a:off x="2268360" y="2170080"/>
            <a:ext cx="1812960" cy="411120"/>
          </a:xfrm>
          <a:custGeom>
            <a:avLst/>
            <a:gdLst/>
            <a:ahLst/>
            <a:rect l="l" t="t" r="r" b="b"/>
            <a:pathLst>
              <a:path w="5037" h="1142">
                <a:moveTo>
                  <a:pt x="6300" y="6623"/>
                </a:moveTo>
                <a:cubicBezTo>
                  <a:pt x="6465" y="6623"/>
                  <a:pt x="6631" y="6623"/>
                  <a:pt x="6796" y="6623"/>
                </a:cubicBezTo>
              </a:path>
              <a:path w="5037" h="1142">
                <a:moveTo>
                  <a:pt x="6300" y="6747"/>
                </a:moveTo>
                <a:cubicBezTo>
                  <a:pt x="6375" y="6768"/>
                  <a:pt x="6447" y="6792"/>
                  <a:pt x="6524" y="6796"/>
                </a:cubicBezTo>
                <a:cubicBezTo>
                  <a:pt x="6598" y="6800"/>
                  <a:pt x="6673" y="6796"/>
                  <a:pt x="6747" y="6796"/>
                </a:cubicBezTo>
              </a:path>
              <a:path w="5037" h="1142">
                <a:moveTo>
                  <a:pt x="7293" y="6201"/>
                </a:moveTo>
                <a:cubicBezTo>
                  <a:pt x="7437" y="6201"/>
                  <a:pt x="7577" y="6194"/>
                  <a:pt x="7714" y="6176"/>
                </a:cubicBezTo>
                <a:cubicBezTo>
                  <a:pt x="7761" y="6170"/>
                  <a:pt x="7815" y="6176"/>
                  <a:pt x="7863" y="6176"/>
                </a:cubicBezTo>
              </a:path>
              <a:path w="5037" h="1142">
                <a:moveTo>
                  <a:pt x="7367" y="6201"/>
                </a:moveTo>
                <a:cubicBezTo>
                  <a:pt x="7300" y="6249"/>
                  <a:pt x="7282" y="6299"/>
                  <a:pt x="7268" y="6375"/>
                </a:cubicBezTo>
                <a:cubicBezTo>
                  <a:pt x="7257" y="6433"/>
                  <a:pt x="7220" y="6509"/>
                  <a:pt x="7243" y="6573"/>
                </a:cubicBezTo>
                <a:cubicBezTo>
                  <a:pt x="7268" y="6642"/>
                  <a:pt x="7363" y="6569"/>
                  <a:pt x="7392" y="6548"/>
                </a:cubicBezTo>
                <a:cubicBezTo>
                  <a:pt x="7444" y="6510"/>
                  <a:pt x="7485" y="6501"/>
                  <a:pt x="7541" y="6524"/>
                </a:cubicBezTo>
                <a:cubicBezTo>
                  <a:pt x="7594" y="6545"/>
                  <a:pt x="7657" y="6573"/>
                  <a:pt x="7689" y="6623"/>
                </a:cubicBezTo>
                <a:cubicBezTo>
                  <a:pt x="7737" y="6697"/>
                  <a:pt x="7763" y="6742"/>
                  <a:pt x="7789" y="6821"/>
                </a:cubicBezTo>
                <a:cubicBezTo>
                  <a:pt x="7812" y="6891"/>
                  <a:pt x="7813" y="6928"/>
                  <a:pt x="7789" y="6995"/>
                </a:cubicBezTo>
                <a:cubicBezTo>
                  <a:pt x="7759" y="7079"/>
                  <a:pt x="7663" y="7107"/>
                  <a:pt x="7590" y="7144"/>
                </a:cubicBezTo>
                <a:cubicBezTo>
                  <a:pt x="7535" y="7172"/>
                  <a:pt x="7455" y="7183"/>
                  <a:pt x="7392" y="7169"/>
                </a:cubicBezTo>
                <a:cubicBezTo>
                  <a:pt x="7322" y="7154"/>
                  <a:pt x="7312" y="7138"/>
                  <a:pt x="7268" y="7094"/>
                </a:cubicBezTo>
              </a:path>
              <a:path w="5037" h="1142">
                <a:moveTo>
                  <a:pt x="8161" y="6697"/>
                </a:moveTo>
                <a:cubicBezTo>
                  <a:pt x="8153" y="6776"/>
                  <a:pt x="8124" y="6819"/>
                  <a:pt x="8111" y="6896"/>
                </a:cubicBezTo>
                <a:cubicBezTo>
                  <a:pt x="8103" y="6946"/>
                  <a:pt x="8064" y="7014"/>
                  <a:pt x="8086" y="7069"/>
                </a:cubicBezTo>
                <a:cubicBezTo>
                  <a:pt x="8112" y="7135"/>
                  <a:pt x="8227" y="7158"/>
                  <a:pt x="8285" y="7144"/>
                </a:cubicBezTo>
                <a:cubicBezTo>
                  <a:pt x="8329" y="7134"/>
                  <a:pt x="8361" y="7077"/>
                  <a:pt x="8384" y="7045"/>
                </a:cubicBezTo>
              </a:path>
              <a:path w="5037" h="1142">
                <a:moveTo>
                  <a:pt x="8260" y="6276"/>
                </a:moveTo>
                <a:cubicBezTo>
                  <a:pt x="8216" y="6297"/>
                  <a:pt x="8204" y="6300"/>
                  <a:pt x="8186" y="6325"/>
                </a:cubicBezTo>
                <a:cubicBezTo>
                  <a:pt x="8248" y="6363"/>
                  <a:pt x="8260" y="6350"/>
                  <a:pt x="8310" y="6300"/>
                </a:cubicBezTo>
                <a:cubicBezTo>
                  <a:pt x="8293" y="6290"/>
                  <a:pt x="8170" y="6258"/>
                  <a:pt x="8186" y="6325"/>
                </a:cubicBezTo>
                <a:cubicBezTo>
                  <a:pt x="8194" y="6325"/>
                  <a:pt x="8202" y="6325"/>
                  <a:pt x="8210" y="6325"/>
                </a:cubicBezTo>
              </a:path>
              <a:path w="5037" h="1142">
                <a:moveTo>
                  <a:pt x="8855" y="6598"/>
                </a:moveTo>
                <a:cubicBezTo>
                  <a:pt x="8877" y="6694"/>
                  <a:pt x="8883" y="6694"/>
                  <a:pt x="8954" y="6623"/>
                </a:cubicBezTo>
                <a:cubicBezTo>
                  <a:pt x="8982" y="6595"/>
                  <a:pt x="8991" y="6581"/>
                  <a:pt x="8979" y="6548"/>
                </a:cubicBezTo>
                <a:cubicBezTo>
                  <a:pt x="8958" y="6540"/>
                  <a:pt x="8830" y="6537"/>
                  <a:pt x="8830" y="6598"/>
                </a:cubicBezTo>
                <a:cubicBezTo>
                  <a:pt x="8830" y="6663"/>
                  <a:pt x="8941" y="6603"/>
                  <a:pt x="8954" y="6598"/>
                </a:cubicBezTo>
                <a:cubicBezTo>
                  <a:pt x="8914" y="6497"/>
                  <a:pt x="8836" y="6620"/>
                  <a:pt x="8880" y="6648"/>
                </a:cubicBezTo>
                <a:cubicBezTo>
                  <a:pt x="8952" y="6694"/>
                  <a:pt x="8930" y="6603"/>
                  <a:pt x="8930" y="6573"/>
                </a:cubicBezTo>
              </a:path>
              <a:path w="5037" h="1142">
                <a:moveTo>
                  <a:pt x="9351" y="6176"/>
                </a:moveTo>
                <a:cubicBezTo>
                  <a:pt x="9389" y="6130"/>
                  <a:pt x="9418" y="6077"/>
                  <a:pt x="9475" y="6052"/>
                </a:cubicBezTo>
                <a:cubicBezTo>
                  <a:pt x="9561" y="6014"/>
                  <a:pt x="9687" y="6012"/>
                  <a:pt x="9773" y="6052"/>
                </a:cubicBezTo>
                <a:cubicBezTo>
                  <a:pt x="9831" y="6079"/>
                  <a:pt x="9812" y="6209"/>
                  <a:pt x="9798" y="6251"/>
                </a:cubicBezTo>
                <a:cubicBezTo>
                  <a:pt x="9769" y="6337"/>
                  <a:pt x="9768" y="6367"/>
                  <a:pt x="9699" y="6424"/>
                </a:cubicBezTo>
                <a:cubicBezTo>
                  <a:pt x="9645" y="6469"/>
                  <a:pt x="9611" y="6514"/>
                  <a:pt x="9550" y="6548"/>
                </a:cubicBezTo>
                <a:cubicBezTo>
                  <a:pt x="9612" y="6499"/>
                  <a:pt x="9633" y="6489"/>
                  <a:pt x="9699" y="6524"/>
                </a:cubicBezTo>
                <a:cubicBezTo>
                  <a:pt x="9782" y="6568"/>
                  <a:pt x="9808" y="6633"/>
                  <a:pt x="9823" y="6722"/>
                </a:cubicBezTo>
                <a:cubicBezTo>
                  <a:pt x="9836" y="6800"/>
                  <a:pt x="9807" y="6854"/>
                  <a:pt x="9773" y="6921"/>
                </a:cubicBezTo>
                <a:cubicBezTo>
                  <a:pt x="9721" y="7024"/>
                  <a:pt x="9704" y="7024"/>
                  <a:pt x="9599" y="7069"/>
                </a:cubicBezTo>
                <a:cubicBezTo>
                  <a:pt x="9514" y="7105"/>
                  <a:pt x="9471" y="7119"/>
                  <a:pt x="9376" y="7119"/>
                </a:cubicBezTo>
                <a:cubicBezTo>
                  <a:pt x="9319" y="7119"/>
                  <a:pt x="9245" y="7102"/>
                  <a:pt x="9203" y="7069"/>
                </a:cubicBezTo>
                <a:cubicBezTo>
                  <a:pt x="9180" y="7047"/>
                  <a:pt x="9172" y="7042"/>
                  <a:pt x="9178" y="7020"/>
                </a:cubicBezTo>
              </a:path>
              <a:path w="5037" h="1142">
                <a:moveTo>
                  <a:pt x="10071" y="6548"/>
                </a:moveTo>
                <a:cubicBezTo>
                  <a:pt x="10115" y="6621"/>
                  <a:pt x="10079" y="6691"/>
                  <a:pt x="10046" y="6772"/>
                </a:cubicBezTo>
                <a:cubicBezTo>
                  <a:pt x="10009" y="6860"/>
                  <a:pt x="9968" y="6928"/>
                  <a:pt x="10021" y="7020"/>
                </a:cubicBezTo>
                <a:cubicBezTo>
                  <a:pt x="10049" y="7069"/>
                  <a:pt x="10094" y="7092"/>
                  <a:pt x="10145" y="7094"/>
                </a:cubicBezTo>
                <a:cubicBezTo>
                  <a:pt x="10216" y="7097"/>
                  <a:pt x="10296" y="7078"/>
                  <a:pt x="10344" y="7020"/>
                </a:cubicBezTo>
                <a:cubicBezTo>
                  <a:pt x="10369" y="6987"/>
                  <a:pt x="10393" y="6954"/>
                  <a:pt x="10418" y="6921"/>
                </a:cubicBezTo>
              </a:path>
              <a:path w="5037" h="1142">
                <a:moveTo>
                  <a:pt x="10195" y="6152"/>
                </a:moveTo>
                <a:cubicBezTo>
                  <a:pt x="10152" y="6194"/>
                  <a:pt x="10147" y="6179"/>
                  <a:pt x="10170" y="6226"/>
                </a:cubicBezTo>
                <a:cubicBezTo>
                  <a:pt x="10198" y="6210"/>
                  <a:pt x="10320" y="6092"/>
                  <a:pt x="10195" y="6127"/>
                </a:cubicBezTo>
                <a:cubicBezTo>
                  <a:pt x="10139" y="6143"/>
                  <a:pt x="10130" y="6197"/>
                  <a:pt x="10145" y="6226"/>
                </a:cubicBezTo>
                <a:cubicBezTo>
                  <a:pt x="10183" y="6221"/>
                  <a:pt x="10330" y="6190"/>
                  <a:pt x="10244" y="6127"/>
                </a:cubicBezTo>
                <a:cubicBezTo>
                  <a:pt x="10236" y="6127"/>
                  <a:pt x="10228" y="6127"/>
                  <a:pt x="10220" y="6127"/>
                </a:cubicBezTo>
              </a:path>
              <a:path w="5037" h="1142">
                <a:moveTo>
                  <a:pt x="10740" y="6524"/>
                </a:moveTo>
                <a:cubicBezTo>
                  <a:pt x="10815" y="6524"/>
                  <a:pt x="10870" y="6511"/>
                  <a:pt x="10939" y="6499"/>
                </a:cubicBezTo>
                <a:cubicBezTo>
                  <a:pt x="11046" y="6481"/>
                  <a:pt x="11170" y="6507"/>
                  <a:pt x="11261" y="6524"/>
                </a:cubicBezTo>
                <a:cubicBezTo>
                  <a:pt x="11303" y="6524"/>
                  <a:pt x="11311" y="6524"/>
                  <a:pt x="11336" y="6524"/>
                </a:cubicBezTo>
              </a:path>
              <a:path w="5037" h="1142">
                <a:moveTo>
                  <a:pt x="10790" y="6648"/>
                </a:moveTo>
                <a:cubicBezTo>
                  <a:pt x="10880" y="6667"/>
                  <a:pt x="10948" y="6672"/>
                  <a:pt x="11038" y="6672"/>
                </a:cubicBezTo>
                <a:cubicBezTo>
                  <a:pt x="11113" y="6672"/>
                  <a:pt x="11168" y="6659"/>
                  <a:pt x="11237" y="6648"/>
                </a:cubicBezTo>
                <a:cubicBezTo>
                  <a:pt x="11278" y="6648"/>
                  <a:pt x="11286" y="6648"/>
                  <a:pt x="11311" y="66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Ink 7"/>
          <p:cNvSpPr/>
          <p:nvPr/>
        </p:nvSpPr>
        <p:spPr>
          <a:xfrm>
            <a:off x="4259160" y="2108160"/>
            <a:ext cx="768600" cy="384120"/>
          </a:xfrm>
          <a:custGeom>
            <a:avLst/>
            <a:gdLst/>
            <a:ahLst/>
            <a:rect l="l" t="t" r="r" b="b"/>
            <a:pathLst>
              <a:path w="2134" h="1068">
                <a:moveTo>
                  <a:pt x="12105" y="5854"/>
                </a:moveTo>
                <a:cubicBezTo>
                  <a:pt x="12081" y="5941"/>
                  <a:pt x="12060" y="6016"/>
                  <a:pt x="12030" y="6102"/>
                </a:cubicBezTo>
                <a:cubicBezTo>
                  <a:pt x="11983" y="6236"/>
                  <a:pt x="11960" y="6365"/>
                  <a:pt x="11931" y="6499"/>
                </a:cubicBezTo>
                <a:cubicBezTo>
                  <a:pt x="11914" y="6578"/>
                  <a:pt x="11904" y="6672"/>
                  <a:pt x="11881" y="6747"/>
                </a:cubicBezTo>
                <a:cubicBezTo>
                  <a:pt x="11865" y="6800"/>
                  <a:pt x="11857" y="6896"/>
                  <a:pt x="11832" y="6871"/>
                </a:cubicBezTo>
              </a:path>
              <a:path w="2134" h="1068">
                <a:moveTo>
                  <a:pt x="12402" y="6003"/>
                </a:moveTo>
                <a:cubicBezTo>
                  <a:pt x="12472" y="5994"/>
                  <a:pt x="12527" y="5978"/>
                  <a:pt x="12601" y="5978"/>
                </a:cubicBezTo>
                <a:cubicBezTo>
                  <a:pt x="12683" y="5978"/>
                  <a:pt x="12750" y="5963"/>
                  <a:pt x="12824" y="5953"/>
                </a:cubicBezTo>
                <a:cubicBezTo>
                  <a:pt x="12885" y="5953"/>
                  <a:pt x="12901" y="5962"/>
                  <a:pt x="12923" y="5928"/>
                </a:cubicBezTo>
              </a:path>
              <a:path w="2134" h="1068">
                <a:moveTo>
                  <a:pt x="12526" y="5904"/>
                </a:moveTo>
                <a:cubicBezTo>
                  <a:pt x="12447" y="5983"/>
                  <a:pt x="12326" y="6062"/>
                  <a:pt x="12303" y="6176"/>
                </a:cubicBezTo>
                <a:cubicBezTo>
                  <a:pt x="12303" y="6193"/>
                  <a:pt x="12303" y="6209"/>
                  <a:pt x="12303" y="6226"/>
                </a:cubicBezTo>
                <a:cubicBezTo>
                  <a:pt x="12375" y="6226"/>
                  <a:pt x="12412" y="6204"/>
                  <a:pt x="12477" y="6201"/>
                </a:cubicBezTo>
                <a:cubicBezTo>
                  <a:pt x="12552" y="6198"/>
                  <a:pt x="12615" y="6194"/>
                  <a:pt x="12675" y="6226"/>
                </a:cubicBezTo>
                <a:cubicBezTo>
                  <a:pt x="12753" y="6267"/>
                  <a:pt x="12775" y="6296"/>
                  <a:pt x="12799" y="6375"/>
                </a:cubicBezTo>
                <a:cubicBezTo>
                  <a:pt x="12827" y="6468"/>
                  <a:pt x="12838" y="6541"/>
                  <a:pt x="12774" y="6623"/>
                </a:cubicBezTo>
                <a:cubicBezTo>
                  <a:pt x="12728" y="6683"/>
                  <a:pt x="12624" y="6758"/>
                  <a:pt x="12551" y="6772"/>
                </a:cubicBezTo>
                <a:cubicBezTo>
                  <a:pt x="12477" y="6786"/>
                  <a:pt x="12353" y="6820"/>
                  <a:pt x="12278" y="6796"/>
                </a:cubicBezTo>
                <a:cubicBezTo>
                  <a:pt x="12246" y="6786"/>
                  <a:pt x="12235" y="6746"/>
                  <a:pt x="12229" y="6722"/>
                </a:cubicBezTo>
              </a:path>
              <a:path w="2134" h="1068">
                <a:moveTo>
                  <a:pt x="12973" y="6375"/>
                </a:moveTo>
                <a:cubicBezTo>
                  <a:pt x="12988" y="6465"/>
                  <a:pt x="12978" y="6535"/>
                  <a:pt x="12948" y="6623"/>
                </a:cubicBezTo>
                <a:cubicBezTo>
                  <a:pt x="12926" y="6687"/>
                  <a:pt x="12895" y="6781"/>
                  <a:pt x="12948" y="6846"/>
                </a:cubicBezTo>
                <a:cubicBezTo>
                  <a:pt x="12997" y="6906"/>
                  <a:pt x="13125" y="6935"/>
                  <a:pt x="13196" y="6921"/>
                </a:cubicBezTo>
                <a:cubicBezTo>
                  <a:pt x="13261" y="6909"/>
                  <a:pt x="13287" y="6868"/>
                  <a:pt x="13320" y="6821"/>
                </a:cubicBezTo>
              </a:path>
              <a:path w="2134" h="1068">
                <a:moveTo>
                  <a:pt x="13196" y="6102"/>
                </a:moveTo>
                <a:cubicBezTo>
                  <a:pt x="13188" y="6094"/>
                  <a:pt x="13179" y="6085"/>
                  <a:pt x="13171" y="6077"/>
                </a:cubicBezTo>
              </a:path>
              <a:path w="2134" h="1068">
                <a:moveTo>
                  <a:pt x="13469" y="5854"/>
                </a:moveTo>
                <a:cubicBezTo>
                  <a:pt x="13560" y="5854"/>
                  <a:pt x="13603" y="5841"/>
                  <a:pt x="13667" y="5904"/>
                </a:cubicBezTo>
                <a:cubicBezTo>
                  <a:pt x="13719" y="5956"/>
                  <a:pt x="13727" y="5964"/>
                  <a:pt x="13692" y="6028"/>
                </a:cubicBezTo>
                <a:cubicBezTo>
                  <a:pt x="13666" y="6076"/>
                  <a:pt x="13616" y="6122"/>
                  <a:pt x="13568" y="6152"/>
                </a:cubicBezTo>
                <a:cubicBezTo>
                  <a:pt x="13500" y="6195"/>
                  <a:pt x="13505" y="6173"/>
                  <a:pt x="13494" y="6251"/>
                </a:cubicBezTo>
                <a:cubicBezTo>
                  <a:pt x="13557" y="6260"/>
                  <a:pt x="13626" y="6261"/>
                  <a:pt x="13692" y="6276"/>
                </a:cubicBezTo>
                <a:cubicBezTo>
                  <a:pt x="13740" y="6299"/>
                  <a:pt x="13755" y="6307"/>
                  <a:pt x="13791" y="6300"/>
                </a:cubicBezTo>
              </a:path>
              <a:path w="2134" h="1068">
                <a:moveTo>
                  <a:pt x="13643" y="6375"/>
                </a:moveTo>
                <a:cubicBezTo>
                  <a:pt x="13725" y="6393"/>
                  <a:pt x="13812" y="6411"/>
                  <a:pt x="13891" y="6424"/>
                </a:cubicBezTo>
                <a:cubicBezTo>
                  <a:pt x="13907" y="6424"/>
                  <a:pt x="13924" y="6424"/>
                  <a:pt x="13940" y="6424"/>
                </a:cubicBezTo>
              </a:path>
              <a:path w="2134" h="1068">
                <a:moveTo>
                  <a:pt x="13692" y="6573"/>
                </a:moveTo>
                <a:cubicBezTo>
                  <a:pt x="13787" y="6597"/>
                  <a:pt x="13866" y="6598"/>
                  <a:pt x="13965" y="65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Ink 8"/>
          <p:cNvSpPr/>
          <p:nvPr/>
        </p:nvSpPr>
        <p:spPr>
          <a:xfrm>
            <a:off x="5205240" y="2098800"/>
            <a:ext cx="1536840" cy="366480"/>
          </a:xfrm>
          <a:custGeom>
            <a:avLst/>
            <a:gdLst/>
            <a:ahLst/>
            <a:rect l="l" t="t" r="r" b="b"/>
            <a:pathLst>
              <a:path w="4268" h="1018">
                <a:moveTo>
                  <a:pt x="14635" y="6127"/>
                </a:moveTo>
                <a:cubicBezTo>
                  <a:pt x="14610" y="6219"/>
                  <a:pt x="14590" y="6307"/>
                  <a:pt x="14560" y="6400"/>
                </a:cubicBezTo>
                <a:cubicBezTo>
                  <a:pt x="14534" y="6478"/>
                  <a:pt x="14516" y="6568"/>
                  <a:pt x="14511" y="6648"/>
                </a:cubicBezTo>
                <a:cubicBezTo>
                  <a:pt x="14510" y="6671"/>
                  <a:pt x="14506" y="6815"/>
                  <a:pt x="14486" y="6821"/>
                </a:cubicBezTo>
                <a:cubicBezTo>
                  <a:pt x="14478" y="6813"/>
                  <a:pt x="14469" y="6804"/>
                  <a:pt x="14461" y="6796"/>
                </a:cubicBezTo>
              </a:path>
              <a:path w="4268" h="1018">
                <a:moveTo>
                  <a:pt x="14784" y="6176"/>
                </a:moveTo>
                <a:cubicBezTo>
                  <a:pt x="14874" y="6154"/>
                  <a:pt x="14970" y="6152"/>
                  <a:pt x="15056" y="6127"/>
                </a:cubicBezTo>
                <a:cubicBezTo>
                  <a:pt x="15132" y="6105"/>
                  <a:pt x="15214" y="6110"/>
                  <a:pt x="15280" y="6077"/>
                </a:cubicBezTo>
              </a:path>
              <a:path w="4268" h="1018">
                <a:moveTo>
                  <a:pt x="14883" y="6152"/>
                </a:moveTo>
                <a:cubicBezTo>
                  <a:pt x="14810" y="6258"/>
                  <a:pt x="14732" y="6301"/>
                  <a:pt x="14784" y="6400"/>
                </a:cubicBezTo>
                <a:cubicBezTo>
                  <a:pt x="14838" y="6502"/>
                  <a:pt x="14895" y="6418"/>
                  <a:pt x="14982" y="6400"/>
                </a:cubicBezTo>
                <a:cubicBezTo>
                  <a:pt x="15044" y="6387"/>
                  <a:pt x="15108" y="6358"/>
                  <a:pt x="15180" y="6375"/>
                </a:cubicBezTo>
                <a:cubicBezTo>
                  <a:pt x="15238" y="6389"/>
                  <a:pt x="15286" y="6495"/>
                  <a:pt x="15280" y="6548"/>
                </a:cubicBezTo>
                <a:cubicBezTo>
                  <a:pt x="15272" y="6616"/>
                  <a:pt x="15212" y="6730"/>
                  <a:pt x="15156" y="6772"/>
                </a:cubicBezTo>
                <a:cubicBezTo>
                  <a:pt x="15088" y="6823"/>
                  <a:pt x="14990" y="6835"/>
                  <a:pt x="14908" y="6821"/>
                </a:cubicBezTo>
                <a:cubicBezTo>
                  <a:pt x="14819" y="6806"/>
                  <a:pt x="14795" y="6774"/>
                  <a:pt x="14784" y="6697"/>
                </a:cubicBezTo>
              </a:path>
              <a:path w="4268" h="1018">
                <a:moveTo>
                  <a:pt x="15652" y="6028"/>
                </a:moveTo>
                <a:cubicBezTo>
                  <a:pt x="15600" y="6138"/>
                  <a:pt x="15531" y="6220"/>
                  <a:pt x="15478" y="6325"/>
                </a:cubicBezTo>
                <a:cubicBezTo>
                  <a:pt x="15443" y="6395"/>
                  <a:pt x="15408" y="6496"/>
                  <a:pt x="15404" y="6573"/>
                </a:cubicBezTo>
                <a:cubicBezTo>
                  <a:pt x="15399" y="6665"/>
                  <a:pt x="15441" y="6675"/>
                  <a:pt x="15503" y="6722"/>
                </a:cubicBezTo>
                <a:cubicBezTo>
                  <a:pt x="15561" y="6766"/>
                  <a:pt x="15579" y="6742"/>
                  <a:pt x="15652" y="6722"/>
                </a:cubicBezTo>
              </a:path>
              <a:path w="4268" h="1018">
                <a:moveTo>
                  <a:pt x="15776" y="6325"/>
                </a:moveTo>
                <a:cubicBezTo>
                  <a:pt x="15882" y="6319"/>
                  <a:pt x="15967" y="6300"/>
                  <a:pt x="16073" y="6300"/>
                </a:cubicBezTo>
              </a:path>
              <a:path w="4268" h="1018">
                <a:moveTo>
                  <a:pt x="16272" y="6152"/>
                </a:moveTo>
                <a:cubicBezTo>
                  <a:pt x="16233" y="6242"/>
                  <a:pt x="16187" y="6349"/>
                  <a:pt x="16173" y="6449"/>
                </a:cubicBezTo>
                <a:cubicBezTo>
                  <a:pt x="16164" y="6510"/>
                  <a:pt x="16172" y="6618"/>
                  <a:pt x="16197" y="6672"/>
                </a:cubicBezTo>
                <a:cubicBezTo>
                  <a:pt x="16216" y="6714"/>
                  <a:pt x="16234" y="6723"/>
                  <a:pt x="16247" y="6697"/>
                </a:cubicBezTo>
              </a:path>
              <a:path w="4268" h="1018">
                <a:moveTo>
                  <a:pt x="16446" y="5829"/>
                </a:moveTo>
                <a:cubicBezTo>
                  <a:pt x="16511" y="5942"/>
                  <a:pt x="16541" y="6020"/>
                  <a:pt x="16545" y="6152"/>
                </a:cubicBezTo>
                <a:cubicBezTo>
                  <a:pt x="16549" y="6286"/>
                  <a:pt x="16557" y="6420"/>
                  <a:pt x="16520" y="6548"/>
                </a:cubicBezTo>
                <a:cubicBezTo>
                  <a:pt x="16501" y="6614"/>
                  <a:pt x="16475" y="6746"/>
                  <a:pt x="16421" y="6796"/>
                </a:cubicBezTo>
                <a:cubicBezTo>
                  <a:pt x="16362" y="6851"/>
                  <a:pt x="16311" y="6853"/>
                  <a:pt x="16247" y="6821"/>
                </a:cubicBezTo>
              </a:path>
              <a:path w="4268" h="1018">
                <a:moveTo>
                  <a:pt x="16917" y="6350"/>
                </a:moveTo>
                <a:cubicBezTo>
                  <a:pt x="17005" y="6366"/>
                  <a:pt x="17056" y="6375"/>
                  <a:pt x="17140" y="6375"/>
                </a:cubicBezTo>
              </a:path>
              <a:path w="4268" h="1018">
                <a:moveTo>
                  <a:pt x="16818" y="6573"/>
                </a:moveTo>
                <a:cubicBezTo>
                  <a:pt x="16949" y="6592"/>
                  <a:pt x="17043" y="6614"/>
                  <a:pt x="17165" y="6573"/>
                </a:cubicBezTo>
              </a:path>
              <a:path w="4268" h="1018">
                <a:moveTo>
                  <a:pt x="17413" y="6300"/>
                </a:moveTo>
                <a:cubicBezTo>
                  <a:pt x="17504" y="6300"/>
                  <a:pt x="17595" y="6300"/>
                  <a:pt x="17686" y="6300"/>
                </a:cubicBezTo>
              </a:path>
              <a:path w="4268" h="1018">
                <a:moveTo>
                  <a:pt x="17934" y="6102"/>
                </a:moveTo>
                <a:cubicBezTo>
                  <a:pt x="17892" y="6228"/>
                  <a:pt x="17863" y="6348"/>
                  <a:pt x="17835" y="6474"/>
                </a:cubicBezTo>
                <a:cubicBezTo>
                  <a:pt x="17817" y="6555"/>
                  <a:pt x="17810" y="6613"/>
                  <a:pt x="17810" y="6697"/>
                </a:cubicBezTo>
                <a:cubicBezTo>
                  <a:pt x="17810" y="6756"/>
                  <a:pt x="17809" y="6759"/>
                  <a:pt x="17859" y="6772"/>
                </a:cubicBezTo>
              </a:path>
              <a:path w="4268" h="1018">
                <a:moveTo>
                  <a:pt x="18306" y="6127"/>
                </a:moveTo>
                <a:cubicBezTo>
                  <a:pt x="18353" y="6116"/>
                  <a:pt x="18585" y="6104"/>
                  <a:pt x="18653" y="6077"/>
                </a:cubicBezTo>
                <a:cubicBezTo>
                  <a:pt x="18688" y="6063"/>
                  <a:pt x="18715" y="6028"/>
                  <a:pt x="18728" y="6003"/>
                </a:cubicBezTo>
              </a:path>
              <a:path w="4268" h="1018">
                <a:moveTo>
                  <a:pt x="18331" y="6028"/>
                </a:moveTo>
                <a:cubicBezTo>
                  <a:pt x="18254" y="6121"/>
                  <a:pt x="18101" y="6218"/>
                  <a:pt x="18182" y="6350"/>
                </a:cubicBezTo>
                <a:cubicBezTo>
                  <a:pt x="18204" y="6386"/>
                  <a:pt x="18318" y="6389"/>
                  <a:pt x="18355" y="6375"/>
                </a:cubicBezTo>
                <a:cubicBezTo>
                  <a:pt x="18397" y="6359"/>
                  <a:pt x="18460" y="6312"/>
                  <a:pt x="18504" y="6300"/>
                </a:cubicBezTo>
                <a:cubicBezTo>
                  <a:pt x="18588" y="6278"/>
                  <a:pt x="18618" y="6308"/>
                  <a:pt x="18653" y="6375"/>
                </a:cubicBezTo>
                <a:cubicBezTo>
                  <a:pt x="18691" y="6446"/>
                  <a:pt x="18723" y="6514"/>
                  <a:pt x="18703" y="6598"/>
                </a:cubicBezTo>
                <a:cubicBezTo>
                  <a:pt x="18690" y="6654"/>
                  <a:pt x="18631" y="6746"/>
                  <a:pt x="18579" y="6772"/>
                </a:cubicBezTo>
                <a:cubicBezTo>
                  <a:pt x="18499" y="6811"/>
                  <a:pt x="18408" y="6806"/>
                  <a:pt x="18331" y="6772"/>
                </a:cubicBezTo>
                <a:cubicBezTo>
                  <a:pt x="18290" y="6752"/>
                  <a:pt x="18284" y="6743"/>
                  <a:pt x="18256" y="67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Ink 9"/>
          <p:cNvSpPr/>
          <p:nvPr/>
        </p:nvSpPr>
        <p:spPr>
          <a:xfrm>
            <a:off x="3544920" y="3054240"/>
            <a:ext cx="142920" cy="81000"/>
          </a:xfrm>
          <a:custGeom>
            <a:avLst/>
            <a:gdLst/>
            <a:ahLst/>
            <a:rect l="l" t="t" r="r" b="b"/>
            <a:pathLst>
              <a:path w="398" h="224">
                <a:moveTo>
                  <a:pt x="9847" y="8483"/>
                </a:moveTo>
                <a:cubicBezTo>
                  <a:pt x="9979" y="8483"/>
                  <a:pt x="10112" y="8483"/>
                  <a:pt x="10244" y="8483"/>
                </a:cubicBezTo>
              </a:path>
              <a:path w="398" h="224">
                <a:moveTo>
                  <a:pt x="9922" y="8657"/>
                </a:moveTo>
                <a:cubicBezTo>
                  <a:pt x="10038" y="8671"/>
                  <a:pt x="10126" y="8706"/>
                  <a:pt x="10244" y="87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Ink 10"/>
          <p:cNvSpPr/>
          <p:nvPr/>
        </p:nvSpPr>
        <p:spPr>
          <a:xfrm>
            <a:off x="3919680" y="2768760"/>
            <a:ext cx="2741400" cy="509400"/>
          </a:xfrm>
          <a:custGeom>
            <a:avLst/>
            <a:gdLst/>
            <a:ahLst/>
            <a:rect l="l" t="t" r="r" b="b"/>
            <a:pathLst>
              <a:path w="7616" h="1415">
                <a:moveTo>
                  <a:pt x="11385" y="8062"/>
                </a:moveTo>
                <a:cubicBezTo>
                  <a:pt x="11430" y="8062"/>
                  <a:pt x="11443" y="8058"/>
                  <a:pt x="11460" y="8086"/>
                </a:cubicBezTo>
                <a:cubicBezTo>
                  <a:pt x="11406" y="8034"/>
                  <a:pt x="11377" y="8034"/>
                  <a:pt x="11311" y="8012"/>
                </a:cubicBezTo>
                <a:cubicBezTo>
                  <a:pt x="11240" y="7988"/>
                  <a:pt x="11141" y="7968"/>
                  <a:pt x="11063" y="7987"/>
                </a:cubicBezTo>
                <a:cubicBezTo>
                  <a:pt x="11012" y="7999"/>
                  <a:pt x="10909" y="8023"/>
                  <a:pt x="10889" y="8086"/>
                </a:cubicBezTo>
                <a:cubicBezTo>
                  <a:pt x="10860" y="8178"/>
                  <a:pt x="10926" y="8200"/>
                  <a:pt x="10964" y="8260"/>
                </a:cubicBezTo>
                <a:cubicBezTo>
                  <a:pt x="11008" y="8329"/>
                  <a:pt x="11051" y="8352"/>
                  <a:pt x="11112" y="8409"/>
                </a:cubicBezTo>
                <a:cubicBezTo>
                  <a:pt x="11169" y="8462"/>
                  <a:pt x="11242" y="8528"/>
                  <a:pt x="11286" y="8582"/>
                </a:cubicBezTo>
                <a:cubicBezTo>
                  <a:pt x="11332" y="8638"/>
                  <a:pt x="11367" y="8726"/>
                  <a:pt x="11385" y="8781"/>
                </a:cubicBezTo>
                <a:cubicBezTo>
                  <a:pt x="11407" y="8851"/>
                  <a:pt x="11426" y="8929"/>
                  <a:pt x="11410" y="9004"/>
                </a:cubicBezTo>
                <a:cubicBezTo>
                  <a:pt x="11393" y="9085"/>
                  <a:pt x="11362" y="9099"/>
                  <a:pt x="11286" y="9103"/>
                </a:cubicBezTo>
                <a:cubicBezTo>
                  <a:pt x="11255" y="9105"/>
                  <a:pt x="11129" y="9102"/>
                  <a:pt x="11112" y="9079"/>
                </a:cubicBezTo>
                <a:cubicBezTo>
                  <a:pt x="11074" y="9028"/>
                  <a:pt x="11045" y="8946"/>
                  <a:pt x="11038" y="8880"/>
                </a:cubicBezTo>
                <a:cubicBezTo>
                  <a:pt x="11032" y="8818"/>
                  <a:pt x="11043" y="8761"/>
                  <a:pt x="11063" y="8706"/>
                </a:cubicBezTo>
                <a:cubicBezTo>
                  <a:pt x="11084" y="8650"/>
                  <a:pt x="11132" y="8607"/>
                  <a:pt x="11162" y="8558"/>
                </a:cubicBezTo>
                <a:cubicBezTo>
                  <a:pt x="11202" y="8491"/>
                  <a:pt x="11266" y="8466"/>
                  <a:pt x="11311" y="8409"/>
                </a:cubicBezTo>
                <a:cubicBezTo>
                  <a:pt x="11356" y="8353"/>
                  <a:pt x="11400" y="8355"/>
                  <a:pt x="11435" y="8310"/>
                </a:cubicBezTo>
                <a:cubicBezTo>
                  <a:pt x="11484" y="8247"/>
                  <a:pt x="11467" y="8172"/>
                  <a:pt x="11460" y="8111"/>
                </a:cubicBezTo>
                <a:cubicBezTo>
                  <a:pt x="11453" y="8050"/>
                  <a:pt x="11442" y="7998"/>
                  <a:pt x="11385" y="7962"/>
                </a:cubicBezTo>
                <a:cubicBezTo>
                  <a:pt x="11330" y="7927"/>
                  <a:pt x="11274" y="7938"/>
                  <a:pt x="11212" y="7938"/>
                </a:cubicBezTo>
              </a:path>
              <a:path w="7616" h="1415">
                <a:moveTo>
                  <a:pt x="11807" y="8483"/>
                </a:moveTo>
                <a:cubicBezTo>
                  <a:pt x="11931" y="8483"/>
                  <a:pt x="12055" y="8483"/>
                  <a:pt x="12179" y="8483"/>
                </a:cubicBezTo>
              </a:path>
              <a:path w="7616" h="1415">
                <a:moveTo>
                  <a:pt x="12750" y="8062"/>
                </a:moveTo>
                <a:cubicBezTo>
                  <a:pt x="12724" y="8155"/>
                  <a:pt x="12728" y="8241"/>
                  <a:pt x="12700" y="8334"/>
                </a:cubicBezTo>
                <a:cubicBezTo>
                  <a:pt x="12673" y="8426"/>
                  <a:pt x="12640" y="8537"/>
                  <a:pt x="12626" y="8632"/>
                </a:cubicBezTo>
                <a:cubicBezTo>
                  <a:pt x="12613" y="8722"/>
                  <a:pt x="12626" y="8845"/>
                  <a:pt x="12601" y="8930"/>
                </a:cubicBezTo>
                <a:cubicBezTo>
                  <a:pt x="12588" y="8975"/>
                  <a:pt x="12571" y="9059"/>
                  <a:pt x="12551" y="9079"/>
                </a:cubicBezTo>
              </a:path>
              <a:path w="7616" h="1415">
                <a:moveTo>
                  <a:pt x="13171" y="8136"/>
                </a:moveTo>
                <a:cubicBezTo>
                  <a:pt x="13238" y="8069"/>
                  <a:pt x="13277" y="8024"/>
                  <a:pt x="13370" y="8012"/>
                </a:cubicBezTo>
                <a:cubicBezTo>
                  <a:pt x="13435" y="8003"/>
                  <a:pt x="13484" y="8030"/>
                  <a:pt x="13519" y="8086"/>
                </a:cubicBezTo>
                <a:cubicBezTo>
                  <a:pt x="13568" y="8163"/>
                  <a:pt x="13568" y="8221"/>
                  <a:pt x="13568" y="8310"/>
                </a:cubicBezTo>
                <a:cubicBezTo>
                  <a:pt x="13568" y="8403"/>
                  <a:pt x="13548" y="8470"/>
                  <a:pt x="13519" y="8558"/>
                </a:cubicBezTo>
                <a:cubicBezTo>
                  <a:pt x="13482" y="8671"/>
                  <a:pt x="13456" y="8730"/>
                  <a:pt x="13370" y="8806"/>
                </a:cubicBezTo>
                <a:cubicBezTo>
                  <a:pt x="13303" y="8865"/>
                  <a:pt x="13253" y="8905"/>
                  <a:pt x="13196" y="8954"/>
                </a:cubicBezTo>
                <a:cubicBezTo>
                  <a:pt x="13149" y="8994"/>
                  <a:pt x="13038" y="9058"/>
                  <a:pt x="12998" y="8954"/>
                </a:cubicBezTo>
                <a:cubicBezTo>
                  <a:pt x="12974" y="8891"/>
                  <a:pt x="13033" y="8823"/>
                  <a:pt x="13072" y="8781"/>
                </a:cubicBezTo>
                <a:cubicBezTo>
                  <a:pt x="13130" y="8719"/>
                  <a:pt x="13233" y="8675"/>
                  <a:pt x="13320" y="8706"/>
                </a:cubicBezTo>
                <a:cubicBezTo>
                  <a:pt x="13359" y="8720"/>
                  <a:pt x="13414" y="8823"/>
                  <a:pt x="13419" y="8855"/>
                </a:cubicBezTo>
                <a:cubicBezTo>
                  <a:pt x="13432" y="8934"/>
                  <a:pt x="13367" y="9106"/>
                  <a:pt x="13444" y="9029"/>
                </a:cubicBezTo>
              </a:path>
              <a:path w="7616" h="1415">
                <a:moveTo>
                  <a:pt x="13940" y="8483"/>
                </a:moveTo>
                <a:cubicBezTo>
                  <a:pt x="13910" y="8558"/>
                  <a:pt x="13876" y="8624"/>
                  <a:pt x="13866" y="8706"/>
                </a:cubicBezTo>
                <a:cubicBezTo>
                  <a:pt x="13858" y="8771"/>
                  <a:pt x="13865" y="8881"/>
                  <a:pt x="13915" y="8930"/>
                </a:cubicBezTo>
                <a:cubicBezTo>
                  <a:pt x="14001" y="9016"/>
                  <a:pt x="14026" y="9007"/>
                  <a:pt x="14114" y="8954"/>
                </a:cubicBezTo>
                <a:cubicBezTo>
                  <a:pt x="14130" y="8946"/>
                  <a:pt x="14147" y="8938"/>
                  <a:pt x="14163" y="8930"/>
                </a:cubicBezTo>
              </a:path>
              <a:path w="7616" h="1415">
                <a:moveTo>
                  <a:pt x="13990" y="8062"/>
                </a:moveTo>
                <a:cubicBezTo>
                  <a:pt x="13965" y="8078"/>
                  <a:pt x="13940" y="8095"/>
                  <a:pt x="13915" y="8111"/>
                </a:cubicBezTo>
                <a:cubicBezTo>
                  <a:pt x="13965" y="8105"/>
                  <a:pt x="14070" y="8103"/>
                  <a:pt x="14089" y="8037"/>
                </a:cubicBezTo>
                <a:cubicBezTo>
                  <a:pt x="14089" y="8020"/>
                  <a:pt x="14089" y="8004"/>
                  <a:pt x="14089" y="7987"/>
                </a:cubicBezTo>
                <a:cubicBezTo>
                  <a:pt x="14018" y="7951"/>
                  <a:pt x="13996" y="7956"/>
                  <a:pt x="13940" y="8012"/>
                </a:cubicBezTo>
                <a:cubicBezTo>
                  <a:pt x="13932" y="8020"/>
                  <a:pt x="13923" y="8029"/>
                  <a:pt x="13915" y="8037"/>
                </a:cubicBezTo>
              </a:path>
              <a:path w="7616" h="1415">
                <a:moveTo>
                  <a:pt x="14808" y="8012"/>
                </a:moveTo>
                <a:cubicBezTo>
                  <a:pt x="14771" y="8098"/>
                  <a:pt x="14758" y="8176"/>
                  <a:pt x="14734" y="8260"/>
                </a:cubicBezTo>
                <a:cubicBezTo>
                  <a:pt x="14714" y="8328"/>
                  <a:pt x="14683" y="8418"/>
                  <a:pt x="14660" y="8483"/>
                </a:cubicBezTo>
                <a:cubicBezTo>
                  <a:pt x="14628" y="8574"/>
                  <a:pt x="14639" y="8665"/>
                  <a:pt x="14585" y="8558"/>
                </a:cubicBezTo>
              </a:path>
              <a:path w="7616" h="1415">
                <a:moveTo>
                  <a:pt x="14486" y="8310"/>
                </a:moveTo>
                <a:cubicBezTo>
                  <a:pt x="14572" y="8278"/>
                  <a:pt x="14597" y="8305"/>
                  <a:pt x="14684" y="8310"/>
                </a:cubicBezTo>
                <a:cubicBezTo>
                  <a:pt x="14753" y="8314"/>
                  <a:pt x="14791" y="8303"/>
                  <a:pt x="14858" y="8285"/>
                </a:cubicBezTo>
              </a:path>
              <a:path w="7616" h="1415">
                <a:moveTo>
                  <a:pt x="15280" y="8037"/>
                </a:moveTo>
                <a:cubicBezTo>
                  <a:pt x="15247" y="8103"/>
                  <a:pt x="15225" y="8179"/>
                  <a:pt x="15180" y="8235"/>
                </a:cubicBezTo>
                <a:cubicBezTo>
                  <a:pt x="15141" y="8284"/>
                  <a:pt x="15140" y="8269"/>
                  <a:pt x="15131" y="8334"/>
                </a:cubicBezTo>
                <a:cubicBezTo>
                  <a:pt x="15198" y="8334"/>
                  <a:pt x="15243" y="8349"/>
                  <a:pt x="15304" y="8359"/>
                </a:cubicBezTo>
                <a:cubicBezTo>
                  <a:pt x="15377" y="8371"/>
                  <a:pt x="15437" y="8347"/>
                  <a:pt x="15503" y="8334"/>
                </a:cubicBezTo>
              </a:path>
              <a:path w="7616" h="1415">
                <a:moveTo>
                  <a:pt x="15652" y="7813"/>
                </a:moveTo>
                <a:cubicBezTo>
                  <a:pt x="15605" y="7887"/>
                  <a:pt x="15542" y="7973"/>
                  <a:pt x="15528" y="8062"/>
                </a:cubicBezTo>
                <a:cubicBezTo>
                  <a:pt x="15514" y="8156"/>
                  <a:pt x="15508" y="8245"/>
                  <a:pt x="15478" y="8334"/>
                </a:cubicBezTo>
                <a:cubicBezTo>
                  <a:pt x="15448" y="8423"/>
                  <a:pt x="15418" y="8539"/>
                  <a:pt x="15404" y="8632"/>
                </a:cubicBezTo>
                <a:cubicBezTo>
                  <a:pt x="15389" y="8733"/>
                  <a:pt x="15360" y="8830"/>
                  <a:pt x="15354" y="8930"/>
                </a:cubicBezTo>
                <a:cubicBezTo>
                  <a:pt x="15354" y="8963"/>
                  <a:pt x="15363" y="8971"/>
                  <a:pt x="15404" y="8954"/>
                </a:cubicBezTo>
              </a:path>
              <a:path w="7616" h="1415">
                <a:moveTo>
                  <a:pt x="15900" y="8483"/>
                </a:moveTo>
                <a:cubicBezTo>
                  <a:pt x="15875" y="8539"/>
                  <a:pt x="15839" y="8601"/>
                  <a:pt x="15825" y="8632"/>
                </a:cubicBezTo>
                <a:cubicBezTo>
                  <a:pt x="15794" y="8702"/>
                  <a:pt x="15798" y="8792"/>
                  <a:pt x="15850" y="8855"/>
                </a:cubicBezTo>
                <a:cubicBezTo>
                  <a:pt x="15878" y="8889"/>
                  <a:pt x="15969" y="8947"/>
                  <a:pt x="16024" y="8930"/>
                </a:cubicBezTo>
                <a:cubicBezTo>
                  <a:pt x="16083" y="8890"/>
                  <a:pt x="16095" y="8886"/>
                  <a:pt x="16123" y="8855"/>
                </a:cubicBezTo>
              </a:path>
              <a:path w="7616" h="1415">
                <a:moveTo>
                  <a:pt x="16024" y="8136"/>
                </a:moveTo>
                <a:cubicBezTo>
                  <a:pt x="16007" y="8136"/>
                  <a:pt x="15991" y="8136"/>
                  <a:pt x="15974" y="8136"/>
                </a:cubicBezTo>
              </a:path>
              <a:path w="7616" h="1415">
                <a:moveTo>
                  <a:pt x="16470" y="8359"/>
                </a:moveTo>
                <a:cubicBezTo>
                  <a:pt x="16588" y="8398"/>
                  <a:pt x="16649" y="8409"/>
                  <a:pt x="16768" y="8409"/>
                </a:cubicBezTo>
                <a:cubicBezTo>
                  <a:pt x="16793" y="8409"/>
                  <a:pt x="16817" y="8409"/>
                  <a:pt x="16842" y="8409"/>
                </a:cubicBezTo>
              </a:path>
              <a:path w="7616" h="1415">
                <a:moveTo>
                  <a:pt x="17165" y="8062"/>
                </a:moveTo>
                <a:cubicBezTo>
                  <a:pt x="17156" y="8132"/>
                  <a:pt x="17126" y="8193"/>
                  <a:pt x="17115" y="8260"/>
                </a:cubicBezTo>
                <a:cubicBezTo>
                  <a:pt x="17103" y="8334"/>
                  <a:pt x="17080" y="8402"/>
                  <a:pt x="17066" y="8483"/>
                </a:cubicBezTo>
                <a:cubicBezTo>
                  <a:pt x="17052" y="8562"/>
                  <a:pt x="17041" y="8623"/>
                  <a:pt x="17041" y="8706"/>
                </a:cubicBezTo>
                <a:cubicBezTo>
                  <a:pt x="17041" y="8789"/>
                  <a:pt x="17065" y="8846"/>
                  <a:pt x="17140" y="8855"/>
                </a:cubicBezTo>
                <a:cubicBezTo>
                  <a:pt x="17269" y="8870"/>
                  <a:pt x="17257" y="8826"/>
                  <a:pt x="17363" y="8781"/>
                </a:cubicBezTo>
                <a:cubicBezTo>
                  <a:pt x="17438" y="8749"/>
                  <a:pt x="17434" y="8728"/>
                  <a:pt x="17487" y="8657"/>
                </a:cubicBezTo>
                <a:cubicBezTo>
                  <a:pt x="17543" y="8583"/>
                  <a:pt x="17492" y="8596"/>
                  <a:pt x="17462" y="8558"/>
                </a:cubicBezTo>
                <a:cubicBezTo>
                  <a:pt x="17454" y="8541"/>
                  <a:pt x="17446" y="8525"/>
                  <a:pt x="17438" y="8508"/>
                </a:cubicBezTo>
                <a:cubicBezTo>
                  <a:pt x="17394" y="8521"/>
                  <a:pt x="17296" y="8544"/>
                  <a:pt x="17264" y="8582"/>
                </a:cubicBezTo>
                <a:cubicBezTo>
                  <a:pt x="17219" y="8635"/>
                  <a:pt x="17228" y="8727"/>
                  <a:pt x="17264" y="8781"/>
                </a:cubicBezTo>
                <a:cubicBezTo>
                  <a:pt x="17292" y="8809"/>
                  <a:pt x="17305" y="8818"/>
                  <a:pt x="17338" y="8806"/>
                </a:cubicBezTo>
              </a:path>
              <a:path w="7616" h="1415">
                <a:moveTo>
                  <a:pt x="17735" y="8334"/>
                </a:moveTo>
                <a:cubicBezTo>
                  <a:pt x="17687" y="8403"/>
                  <a:pt x="17625" y="8471"/>
                  <a:pt x="17611" y="8558"/>
                </a:cubicBezTo>
                <a:cubicBezTo>
                  <a:pt x="17599" y="8634"/>
                  <a:pt x="17610" y="8730"/>
                  <a:pt x="17661" y="8781"/>
                </a:cubicBezTo>
                <a:cubicBezTo>
                  <a:pt x="17669" y="8789"/>
                  <a:pt x="17784" y="8854"/>
                  <a:pt x="17785" y="8855"/>
                </a:cubicBezTo>
                <a:cubicBezTo>
                  <a:pt x="17844" y="8878"/>
                  <a:pt x="17875" y="8815"/>
                  <a:pt x="17909" y="8781"/>
                </a:cubicBezTo>
              </a:path>
              <a:path w="7616" h="1415">
                <a:moveTo>
                  <a:pt x="17760" y="8062"/>
                </a:moveTo>
                <a:cubicBezTo>
                  <a:pt x="17737" y="8084"/>
                  <a:pt x="17726" y="8092"/>
                  <a:pt x="17760" y="8086"/>
                </a:cubicBezTo>
              </a:path>
              <a:path w="7616" h="1415">
                <a:moveTo>
                  <a:pt x="18058" y="7764"/>
                </a:moveTo>
                <a:cubicBezTo>
                  <a:pt x="18101" y="7739"/>
                  <a:pt x="18181" y="7683"/>
                  <a:pt x="18231" y="7689"/>
                </a:cubicBezTo>
                <a:cubicBezTo>
                  <a:pt x="18279" y="7713"/>
                  <a:pt x="18294" y="7721"/>
                  <a:pt x="18331" y="7714"/>
                </a:cubicBezTo>
                <a:cubicBezTo>
                  <a:pt x="18321" y="7793"/>
                  <a:pt x="18295" y="7802"/>
                  <a:pt x="18256" y="7863"/>
                </a:cubicBezTo>
                <a:cubicBezTo>
                  <a:pt x="18214" y="7929"/>
                  <a:pt x="18189" y="7980"/>
                  <a:pt x="18132" y="8037"/>
                </a:cubicBezTo>
                <a:cubicBezTo>
                  <a:pt x="18102" y="8067"/>
                  <a:pt x="18084" y="8103"/>
                  <a:pt x="18058" y="8136"/>
                </a:cubicBezTo>
                <a:cubicBezTo>
                  <a:pt x="18106" y="8165"/>
                  <a:pt x="18195" y="8177"/>
                  <a:pt x="18256" y="8186"/>
                </a:cubicBezTo>
                <a:cubicBezTo>
                  <a:pt x="18322" y="8196"/>
                  <a:pt x="18390" y="8206"/>
                  <a:pt x="18455" y="8210"/>
                </a:cubicBezTo>
                <a:cubicBezTo>
                  <a:pt x="18471" y="8210"/>
                  <a:pt x="18488" y="8210"/>
                  <a:pt x="18504" y="82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Ink 11"/>
          <p:cNvSpPr/>
          <p:nvPr/>
        </p:nvSpPr>
        <p:spPr>
          <a:xfrm>
            <a:off x="4170240" y="3483000"/>
            <a:ext cx="196920" cy="347760"/>
          </a:xfrm>
          <a:custGeom>
            <a:avLst/>
            <a:gdLst/>
            <a:ahLst/>
            <a:rect l="l" t="t" r="r" b="b"/>
            <a:pathLst>
              <a:path w="546" h="968">
                <a:moveTo>
                  <a:pt x="12005" y="9823"/>
                </a:moveTo>
                <a:cubicBezTo>
                  <a:pt x="11997" y="9733"/>
                  <a:pt x="12005" y="9680"/>
                  <a:pt x="11906" y="9674"/>
                </a:cubicBezTo>
                <a:cubicBezTo>
                  <a:pt x="11842" y="9670"/>
                  <a:pt x="11673" y="9646"/>
                  <a:pt x="11633" y="9699"/>
                </a:cubicBezTo>
                <a:cubicBezTo>
                  <a:pt x="11597" y="9746"/>
                  <a:pt x="11562" y="9776"/>
                  <a:pt x="11584" y="9847"/>
                </a:cubicBezTo>
                <a:cubicBezTo>
                  <a:pt x="11598" y="9892"/>
                  <a:pt x="11650" y="9958"/>
                  <a:pt x="11683" y="9996"/>
                </a:cubicBezTo>
                <a:cubicBezTo>
                  <a:pt x="11761" y="10084"/>
                  <a:pt x="11820" y="10172"/>
                  <a:pt x="11881" y="10269"/>
                </a:cubicBezTo>
                <a:cubicBezTo>
                  <a:pt x="11916" y="10324"/>
                  <a:pt x="11968" y="10424"/>
                  <a:pt x="11956" y="10492"/>
                </a:cubicBezTo>
                <a:cubicBezTo>
                  <a:pt x="11952" y="10517"/>
                  <a:pt x="11917" y="10559"/>
                  <a:pt x="11881" y="10592"/>
                </a:cubicBezTo>
                <a:cubicBezTo>
                  <a:pt x="11778" y="10687"/>
                  <a:pt x="11802" y="10614"/>
                  <a:pt x="11708" y="10567"/>
                </a:cubicBezTo>
                <a:cubicBezTo>
                  <a:pt x="11645" y="10536"/>
                  <a:pt x="11694" y="10430"/>
                  <a:pt x="11708" y="10368"/>
                </a:cubicBezTo>
                <a:cubicBezTo>
                  <a:pt x="11722" y="10305"/>
                  <a:pt x="11745" y="10245"/>
                  <a:pt x="11782" y="10195"/>
                </a:cubicBezTo>
                <a:cubicBezTo>
                  <a:pt x="11796" y="10176"/>
                  <a:pt x="11887" y="10053"/>
                  <a:pt x="11906" y="10046"/>
                </a:cubicBezTo>
                <a:cubicBezTo>
                  <a:pt x="11980" y="10020"/>
                  <a:pt x="11980" y="9982"/>
                  <a:pt x="12030" y="9922"/>
                </a:cubicBezTo>
                <a:cubicBezTo>
                  <a:pt x="12076" y="9866"/>
                  <a:pt x="12064" y="9907"/>
                  <a:pt x="12129" y="98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Ink 12"/>
          <p:cNvSpPr/>
          <p:nvPr/>
        </p:nvSpPr>
        <p:spPr>
          <a:xfrm>
            <a:off x="4537080" y="3616200"/>
            <a:ext cx="133200" cy="9720"/>
          </a:xfrm>
          <a:custGeom>
            <a:avLst/>
            <a:gdLst/>
            <a:ahLst/>
            <a:rect l="l" t="t" r="r" b="b"/>
            <a:pathLst>
              <a:path w="373" h="26">
                <a:moveTo>
                  <a:pt x="12601" y="10046"/>
                </a:moveTo>
                <a:cubicBezTo>
                  <a:pt x="12673" y="10046"/>
                  <a:pt x="12740" y="10060"/>
                  <a:pt x="12799" y="10071"/>
                </a:cubicBezTo>
                <a:cubicBezTo>
                  <a:pt x="12850" y="10081"/>
                  <a:pt x="12922" y="10071"/>
                  <a:pt x="12973" y="100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Ink 13"/>
          <p:cNvSpPr/>
          <p:nvPr/>
        </p:nvSpPr>
        <p:spPr>
          <a:xfrm>
            <a:off x="4840200" y="3456000"/>
            <a:ext cx="1000080" cy="374760"/>
          </a:xfrm>
          <a:custGeom>
            <a:avLst/>
            <a:gdLst/>
            <a:ahLst/>
            <a:rect l="l" t="t" r="r" b="b"/>
            <a:pathLst>
              <a:path w="2779" h="1043">
                <a:moveTo>
                  <a:pt x="13891" y="9624"/>
                </a:moveTo>
                <a:cubicBezTo>
                  <a:pt x="13804" y="9602"/>
                  <a:pt x="13733" y="9599"/>
                  <a:pt x="13643" y="9599"/>
                </a:cubicBezTo>
                <a:cubicBezTo>
                  <a:pt x="13570" y="9599"/>
                  <a:pt x="13487" y="9577"/>
                  <a:pt x="13469" y="9674"/>
                </a:cubicBezTo>
                <a:cubicBezTo>
                  <a:pt x="13453" y="9760"/>
                  <a:pt x="13481" y="9782"/>
                  <a:pt x="13519" y="9847"/>
                </a:cubicBezTo>
                <a:cubicBezTo>
                  <a:pt x="13559" y="9915"/>
                  <a:pt x="13601" y="9981"/>
                  <a:pt x="13643" y="10046"/>
                </a:cubicBezTo>
                <a:cubicBezTo>
                  <a:pt x="13710" y="10150"/>
                  <a:pt x="13763" y="10221"/>
                  <a:pt x="13791" y="10344"/>
                </a:cubicBezTo>
                <a:cubicBezTo>
                  <a:pt x="13810" y="10425"/>
                  <a:pt x="13811" y="10484"/>
                  <a:pt x="13767" y="10567"/>
                </a:cubicBezTo>
                <a:cubicBezTo>
                  <a:pt x="13733" y="10631"/>
                  <a:pt x="13713" y="10641"/>
                  <a:pt x="13643" y="10641"/>
                </a:cubicBezTo>
                <a:cubicBezTo>
                  <a:pt x="13553" y="10641"/>
                  <a:pt x="13568" y="10604"/>
                  <a:pt x="13494" y="10567"/>
                </a:cubicBezTo>
                <a:cubicBezTo>
                  <a:pt x="13413" y="10526"/>
                  <a:pt x="13448" y="10442"/>
                  <a:pt x="13469" y="10368"/>
                </a:cubicBezTo>
                <a:cubicBezTo>
                  <a:pt x="13500" y="10257"/>
                  <a:pt x="13515" y="10223"/>
                  <a:pt x="13593" y="10145"/>
                </a:cubicBezTo>
                <a:cubicBezTo>
                  <a:pt x="13643" y="10094"/>
                  <a:pt x="13677" y="10028"/>
                  <a:pt x="13717" y="9971"/>
                </a:cubicBezTo>
                <a:cubicBezTo>
                  <a:pt x="13763" y="9907"/>
                  <a:pt x="13795" y="9835"/>
                  <a:pt x="13841" y="9773"/>
                </a:cubicBezTo>
                <a:cubicBezTo>
                  <a:pt x="13849" y="9765"/>
                  <a:pt x="13858" y="9756"/>
                  <a:pt x="13866" y="9748"/>
                </a:cubicBezTo>
              </a:path>
              <a:path w="2779" h="1043">
                <a:moveTo>
                  <a:pt x="14238" y="10046"/>
                </a:moveTo>
                <a:cubicBezTo>
                  <a:pt x="14217" y="10097"/>
                  <a:pt x="14152" y="10171"/>
                  <a:pt x="14139" y="10220"/>
                </a:cubicBezTo>
                <a:cubicBezTo>
                  <a:pt x="14116" y="10307"/>
                  <a:pt x="14112" y="10358"/>
                  <a:pt x="14139" y="10443"/>
                </a:cubicBezTo>
                <a:cubicBezTo>
                  <a:pt x="14169" y="10539"/>
                  <a:pt x="14186" y="10579"/>
                  <a:pt x="14288" y="10592"/>
                </a:cubicBezTo>
                <a:cubicBezTo>
                  <a:pt x="14339" y="10599"/>
                  <a:pt x="14451" y="10610"/>
                  <a:pt x="14486" y="10567"/>
                </a:cubicBezTo>
                <a:cubicBezTo>
                  <a:pt x="14503" y="10542"/>
                  <a:pt x="14519" y="10517"/>
                  <a:pt x="14536" y="10492"/>
                </a:cubicBezTo>
              </a:path>
              <a:path w="2779" h="1043">
                <a:moveTo>
                  <a:pt x="14486" y="9674"/>
                </a:moveTo>
                <a:cubicBezTo>
                  <a:pt x="14494" y="9674"/>
                  <a:pt x="14503" y="9674"/>
                  <a:pt x="14511" y="9674"/>
                </a:cubicBezTo>
              </a:path>
              <a:path w="2779" h="1043">
                <a:moveTo>
                  <a:pt x="14858" y="10120"/>
                </a:moveTo>
                <a:cubicBezTo>
                  <a:pt x="14999" y="10120"/>
                  <a:pt x="15139" y="10120"/>
                  <a:pt x="15280" y="10120"/>
                </a:cubicBezTo>
              </a:path>
              <a:path w="2779" h="1043">
                <a:moveTo>
                  <a:pt x="15131" y="9847"/>
                </a:moveTo>
                <a:cubicBezTo>
                  <a:pt x="15131" y="9925"/>
                  <a:pt x="15134" y="10046"/>
                  <a:pt x="15106" y="10120"/>
                </a:cubicBezTo>
                <a:cubicBezTo>
                  <a:pt x="15087" y="10169"/>
                  <a:pt x="15060" y="10235"/>
                  <a:pt x="15056" y="10294"/>
                </a:cubicBezTo>
                <a:cubicBezTo>
                  <a:pt x="15056" y="10335"/>
                  <a:pt x="15056" y="10343"/>
                  <a:pt x="15056" y="10368"/>
                </a:cubicBezTo>
              </a:path>
              <a:path w="2779" h="1043">
                <a:moveTo>
                  <a:pt x="15776" y="9624"/>
                </a:moveTo>
                <a:cubicBezTo>
                  <a:pt x="15745" y="9678"/>
                  <a:pt x="15712" y="9780"/>
                  <a:pt x="15677" y="9823"/>
                </a:cubicBezTo>
                <a:cubicBezTo>
                  <a:pt x="15659" y="9846"/>
                  <a:pt x="15609" y="9919"/>
                  <a:pt x="15602" y="9971"/>
                </a:cubicBezTo>
                <a:cubicBezTo>
                  <a:pt x="15589" y="10063"/>
                  <a:pt x="15591" y="10113"/>
                  <a:pt x="15602" y="10195"/>
                </a:cubicBezTo>
                <a:cubicBezTo>
                  <a:pt x="15615" y="10286"/>
                  <a:pt x="15631" y="10291"/>
                  <a:pt x="15677" y="10368"/>
                </a:cubicBezTo>
                <a:cubicBezTo>
                  <a:pt x="15724" y="10447"/>
                  <a:pt x="15781" y="10455"/>
                  <a:pt x="15850" y="10492"/>
                </a:cubicBezTo>
                <a:cubicBezTo>
                  <a:pt x="15898" y="10518"/>
                  <a:pt x="15988" y="10536"/>
                  <a:pt x="16049" y="10517"/>
                </a:cubicBezTo>
                <a:cubicBezTo>
                  <a:pt x="16089" y="10504"/>
                  <a:pt x="16148" y="10456"/>
                  <a:pt x="16173" y="10418"/>
                </a:cubicBezTo>
                <a:cubicBezTo>
                  <a:pt x="16191" y="10391"/>
                  <a:pt x="16228" y="10300"/>
                  <a:pt x="16222" y="10269"/>
                </a:cubicBezTo>
                <a:cubicBezTo>
                  <a:pt x="16211" y="10214"/>
                  <a:pt x="16187" y="10125"/>
                  <a:pt x="16123" y="10120"/>
                </a:cubicBezTo>
                <a:cubicBezTo>
                  <a:pt x="15992" y="10111"/>
                  <a:pt x="16025" y="10125"/>
                  <a:pt x="15949" y="10195"/>
                </a:cubicBezTo>
                <a:cubicBezTo>
                  <a:pt x="15897" y="10243"/>
                  <a:pt x="15936" y="10339"/>
                  <a:pt x="15949" y="10418"/>
                </a:cubicBezTo>
                <a:cubicBezTo>
                  <a:pt x="15959" y="10476"/>
                  <a:pt x="15995" y="10516"/>
                  <a:pt x="16024" y="105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Ink 14"/>
          <p:cNvSpPr/>
          <p:nvPr/>
        </p:nvSpPr>
        <p:spPr>
          <a:xfrm>
            <a:off x="884160" y="3776760"/>
            <a:ext cx="2527200" cy="581040"/>
          </a:xfrm>
          <a:custGeom>
            <a:avLst/>
            <a:gdLst/>
            <a:ahLst/>
            <a:rect l="l" t="t" r="r" b="b"/>
            <a:pathLst>
              <a:path w="7020" h="1614">
                <a:moveTo>
                  <a:pt x="2753" y="10815"/>
                </a:moveTo>
                <a:cubicBezTo>
                  <a:pt x="2713" y="10914"/>
                  <a:pt x="2667" y="11012"/>
                  <a:pt x="2629" y="11112"/>
                </a:cubicBezTo>
                <a:cubicBezTo>
                  <a:pt x="2560" y="11294"/>
                  <a:pt x="2463" y="11514"/>
                  <a:pt x="2456" y="11708"/>
                </a:cubicBezTo>
                <a:cubicBezTo>
                  <a:pt x="2453" y="11790"/>
                  <a:pt x="2455" y="11880"/>
                  <a:pt x="2480" y="11956"/>
                </a:cubicBezTo>
                <a:cubicBezTo>
                  <a:pt x="2506" y="12035"/>
                  <a:pt x="2529" y="12069"/>
                  <a:pt x="2604" y="12080"/>
                </a:cubicBezTo>
              </a:path>
              <a:path w="7020" h="1614">
                <a:moveTo>
                  <a:pt x="3076" y="11063"/>
                </a:moveTo>
                <a:cubicBezTo>
                  <a:pt x="3067" y="11126"/>
                  <a:pt x="3044" y="11184"/>
                  <a:pt x="3001" y="11237"/>
                </a:cubicBezTo>
                <a:cubicBezTo>
                  <a:pt x="2979" y="11263"/>
                  <a:pt x="2900" y="11330"/>
                  <a:pt x="2902" y="11361"/>
                </a:cubicBezTo>
                <a:cubicBezTo>
                  <a:pt x="2908" y="11449"/>
                  <a:pt x="3045" y="11438"/>
                  <a:pt x="3101" y="11460"/>
                </a:cubicBezTo>
                <a:cubicBezTo>
                  <a:pt x="3209" y="11502"/>
                  <a:pt x="3242" y="11463"/>
                  <a:pt x="3349" y="11410"/>
                </a:cubicBezTo>
              </a:path>
              <a:path w="7020" h="1614">
                <a:moveTo>
                  <a:pt x="3423" y="10939"/>
                </a:moveTo>
                <a:cubicBezTo>
                  <a:pt x="3409" y="11049"/>
                  <a:pt x="3360" y="11144"/>
                  <a:pt x="3349" y="11261"/>
                </a:cubicBezTo>
                <a:cubicBezTo>
                  <a:pt x="3338" y="11379"/>
                  <a:pt x="3324" y="11489"/>
                  <a:pt x="3324" y="11609"/>
                </a:cubicBezTo>
                <a:cubicBezTo>
                  <a:pt x="3324" y="11707"/>
                  <a:pt x="3303" y="11786"/>
                  <a:pt x="3299" y="11881"/>
                </a:cubicBezTo>
                <a:cubicBezTo>
                  <a:pt x="3299" y="11943"/>
                  <a:pt x="3290" y="11958"/>
                  <a:pt x="3324" y="11981"/>
                </a:cubicBezTo>
              </a:path>
              <a:path w="7020" h="1614">
                <a:moveTo>
                  <a:pt x="3894" y="11162"/>
                </a:moveTo>
                <a:cubicBezTo>
                  <a:pt x="3894" y="11237"/>
                  <a:pt x="3881" y="11292"/>
                  <a:pt x="3870" y="11361"/>
                </a:cubicBezTo>
                <a:cubicBezTo>
                  <a:pt x="3858" y="11437"/>
                  <a:pt x="3845" y="11506"/>
                  <a:pt x="3845" y="11584"/>
                </a:cubicBezTo>
                <a:cubicBezTo>
                  <a:pt x="3845" y="11666"/>
                  <a:pt x="3859" y="11710"/>
                  <a:pt x="3870" y="11782"/>
                </a:cubicBezTo>
              </a:path>
              <a:path w="7020" h="1614">
                <a:moveTo>
                  <a:pt x="3721" y="11385"/>
                </a:moveTo>
                <a:cubicBezTo>
                  <a:pt x="3810" y="11393"/>
                  <a:pt x="3881" y="11422"/>
                  <a:pt x="3969" y="11435"/>
                </a:cubicBezTo>
                <a:cubicBezTo>
                  <a:pt x="4036" y="11445"/>
                  <a:pt x="4098" y="11454"/>
                  <a:pt x="4167" y="11460"/>
                </a:cubicBezTo>
              </a:path>
              <a:path w="7020" h="1614">
                <a:moveTo>
                  <a:pt x="4514" y="11088"/>
                </a:moveTo>
                <a:cubicBezTo>
                  <a:pt x="4619" y="11060"/>
                  <a:pt x="4738" y="11066"/>
                  <a:pt x="4837" y="11038"/>
                </a:cubicBezTo>
                <a:cubicBezTo>
                  <a:pt x="4885" y="11014"/>
                  <a:pt x="4899" y="11006"/>
                  <a:pt x="4936" y="11013"/>
                </a:cubicBezTo>
              </a:path>
              <a:path w="7020" h="1614">
                <a:moveTo>
                  <a:pt x="4589" y="10939"/>
                </a:moveTo>
                <a:cubicBezTo>
                  <a:pt x="4531" y="10997"/>
                  <a:pt x="4438" y="11033"/>
                  <a:pt x="4415" y="11112"/>
                </a:cubicBezTo>
                <a:cubicBezTo>
                  <a:pt x="4400" y="11162"/>
                  <a:pt x="4418" y="11200"/>
                  <a:pt x="4440" y="11237"/>
                </a:cubicBezTo>
                <a:cubicBezTo>
                  <a:pt x="4498" y="11202"/>
                  <a:pt x="4531" y="11206"/>
                  <a:pt x="4589" y="11237"/>
                </a:cubicBezTo>
                <a:cubicBezTo>
                  <a:pt x="4667" y="11278"/>
                  <a:pt x="4712" y="11310"/>
                  <a:pt x="4762" y="11385"/>
                </a:cubicBezTo>
                <a:cubicBezTo>
                  <a:pt x="4805" y="11450"/>
                  <a:pt x="4831" y="11555"/>
                  <a:pt x="4812" y="11633"/>
                </a:cubicBezTo>
                <a:cubicBezTo>
                  <a:pt x="4791" y="11721"/>
                  <a:pt x="4736" y="11745"/>
                  <a:pt x="4663" y="11782"/>
                </a:cubicBezTo>
                <a:cubicBezTo>
                  <a:pt x="4586" y="11821"/>
                  <a:pt x="4537" y="11813"/>
                  <a:pt x="4465" y="11807"/>
                </a:cubicBezTo>
                <a:cubicBezTo>
                  <a:pt x="4372" y="11799"/>
                  <a:pt x="4346" y="11801"/>
                  <a:pt x="4415" y="11733"/>
                </a:cubicBezTo>
              </a:path>
              <a:path w="7020" h="1614">
                <a:moveTo>
                  <a:pt x="5085" y="11410"/>
                </a:moveTo>
                <a:cubicBezTo>
                  <a:pt x="5118" y="11498"/>
                  <a:pt x="5090" y="11541"/>
                  <a:pt x="5085" y="11633"/>
                </a:cubicBezTo>
                <a:cubicBezTo>
                  <a:pt x="5083" y="11679"/>
                  <a:pt x="5099" y="11779"/>
                  <a:pt x="5135" y="11807"/>
                </a:cubicBezTo>
                <a:cubicBezTo>
                  <a:pt x="5206" y="11863"/>
                  <a:pt x="5227" y="11825"/>
                  <a:pt x="5283" y="11782"/>
                </a:cubicBezTo>
              </a:path>
              <a:path w="7020" h="1614">
                <a:moveTo>
                  <a:pt x="5159" y="11038"/>
                </a:moveTo>
                <a:cubicBezTo>
                  <a:pt x="5116" y="11016"/>
                  <a:pt x="5095" y="11012"/>
                  <a:pt x="5135" y="10988"/>
                </a:cubicBezTo>
              </a:path>
              <a:path w="7020" h="1614">
                <a:moveTo>
                  <a:pt x="5531" y="10840"/>
                </a:moveTo>
                <a:cubicBezTo>
                  <a:pt x="5634" y="10941"/>
                  <a:pt x="5661" y="10989"/>
                  <a:pt x="5705" y="11137"/>
                </a:cubicBezTo>
                <a:cubicBezTo>
                  <a:pt x="5736" y="11241"/>
                  <a:pt x="5786" y="11401"/>
                  <a:pt x="5779" y="11509"/>
                </a:cubicBezTo>
                <a:cubicBezTo>
                  <a:pt x="5773" y="11602"/>
                  <a:pt x="5745" y="11738"/>
                  <a:pt x="5680" y="11807"/>
                </a:cubicBezTo>
                <a:cubicBezTo>
                  <a:pt x="5622" y="11869"/>
                  <a:pt x="5576" y="11874"/>
                  <a:pt x="5507" y="11906"/>
                </a:cubicBezTo>
                <a:cubicBezTo>
                  <a:pt x="5440" y="11937"/>
                  <a:pt x="5456" y="11953"/>
                  <a:pt x="5432" y="11881"/>
                </a:cubicBezTo>
              </a:path>
              <a:path w="7020" h="1614">
                <a:moveTo>
                  <a:pt x="6176" y="10939"/>
                </a:moveTo>
                <a:cubicBezTo>
                  <a:pt x="6096" y="11095"/>
                  <a:pt x="5999" y="11255"/>
                  <a:pt x="5978" y="11435"/>
                </a:cubicBezTo>
                <a:cubicBezTo>
                  <a:pt x="5963" y="11561"/>
                  <a:pt x="5996" y="11663"/>
                  <a:pt x="6028" y="11782"/>
                </a:cubicBezTo>
                <a:cubicBezTo>
                  <a:pt x="6052" y="11869"/>
                  <a:pt x="6073" y="11971"/>
                  <a:pt x="6152" y="12030"/>
                </a:cubicBezTo>
                <a:cubicBezTo>
                  <a:pt x="6168" y="12038"/>
                  <a:pt x="6185" y="12047"/>
                  <a:pt x="6201" y="12055"/>
                </a:cubicBezTo>
              </a:path>
              <a:path w="7020" h="1614">
                <a:moveTo>
                  <a:pt x="6499" y="11112"/>
                </a:moveTo>
                <a:cubicBezTo>
                  <a:pt x="6470" y="11184"/>
                  <a:pt x="6416" y="11259"/>
                  <a:pt x="6400" y="11336"/>
                </a:cubicBezTo>
                <a:cubicBezTo>
                  <a:pt x="6391" y="11379"/>
                  <a:pt x="6427" y="11493"/>
                  <a:pt x="6474" y="11509"/>
                </a:cubicBezTo>
                <a:cubicBezTo>
                  <a:pt x="6523" y="11526"/>
                  <a:pt x="6618" y="11549"/>
                  <a:pt x="6672" y="11534"/>
                </a:cubicBezTo>
                <a:cubicBezTo>
                  <a:pt x="6729" y="11506"/>
                  <a:pt x="6752" y="11495"/>
                  <a:pt x="6796" y="11485"/>
                </a:cubicBezTo>
              </a:path>
              <a:path w="7020" h="1614">
                <a:moveTo>
                  <a:pt x="6871" y="10815"/>
                </a:moveTo>
                <a:cubicBezTo>
                  <a:pt x="6825" y="10973"/>
                  <a:pt x="6766" y="11145"/>
                  <a:pt x="6747" y="11311"/>
                </a:cubicBezTo>
                <a:cubicBezTo>
                  <a:pt x="6733" y="11435"/>
                  <a:pt x="6722" y="11557"/>
                  <a:pt x="6722" y="11683"/>
                </a:cubicBezTo>
                <a:cubicBezTo>
                  <a:pt x="6722" y="11756"/>
                  <a:pt x="6695" y="11899"/>
                  <a:pt x="6747" y="11881"/>
                </a:cubicBezTo>
              </a:path>
              <a:path w="7020" h="1614">
                <a:moveTo>
                  <a:pt x="7293" y="11013"/>
                </a:moveTo>
                <a:cubicBezTo>
                  <a:pt x="7267" y="11135"/>
                  <a:pt x="7267" y="11264"/>
                  <a:pt x="7243" y="11385"/>
                </a:cubicBezTo>
                <a:cubicBezTo>
                  <a:pt x="7224" y="11481"/>
                  <a:pt x="7218" y="11559"/>
                  <a:pt x="7218" y="11658"/>
                </a:cubicBezTo>
                <a:cubicBezTo>
                  <a:pt x="7218" y="11708"/>
                  <a:pt x="7218" y="11724"/>
                  <a:pt x="7218" y="11757"/>
                </a:cubicBezTo>
              </a:path>
              <a:path w="7020" h="1614">
                <a:moveTo>
                  <a:pt x="7069" y="11311"/>
                </a:moveTo>
                <a:cubicBezTo>
                  <a:pt x="7204" y="11319"/>
                  <a:pt x="7310" y="11367"/>
                  <a:pt x="7441" y="11385"/>
                </a:cubicBezTo>
                <a:cubicBezTo>
                  <a:pt x="7466" y="11385"/>
                  <a:pt x="7491" y="11385"/>
                  <a:pt x="7516" y="11385"/>
                </a:cubicBezTo>
              </a:path>
              <a:path w="7020" h="1614">
                <a:moveTo>
                  <a:pt x="7938" y="10840"/>
                </a:moveTo>
                <a:cubicBezTo>
                  <a:pt x="8041" y="10788"/>
                  <a:pt x="8094" y="10790"/>
                  <a:pt x="8210" y="10790"/>
                </a:cubicBezTo>
                <a:cubicBezTo>
                  <a:pt x="8260" y="10790"/>
                  <a:pt x="8277" y="10790"/>
                  <a:pt x="8310" y="10790"/>
                </a:cubicBezTo>
              </a:path>
              <a:path w="7020" h="1614">
                <a:moveTo>
                  <a:pt x="7913" y="10790"/>
                </a:moveTo>
                <a:cubicBezTo>
                  <a:pt x="7858" y="10899"/>
                  <a:pt x="7838" y="10944"/>
                  <a:pt x="7838" y="11063"/>
                </a:cubicBezTo>
                <a:cubicBezTo>
                  <a:pt x="7838" y="11153"/>
                  <a:pt x="7897" y="11217"/>
                  <a:pt x="7987" y="11237"/>
                </a:cubicBezTo>
                <a:cubicBezTo>
                  <a:pt x="8054" y="11252"/>
                  <a:pt x="8101" y="11229"/>
                  <a:pt x="8161" y="11261"/>
                </a:cubicBezTo>
                <a:cubicBezTo>
                  <a:pt x="8213" y="11289"/>
                  <a:pt x="8296" y="11372"/>
                  <a:pt x="8310" y="11435"/>
                </a:cubicBezTo>
                <a:cubicBezTo>
                  <a:pt x="8329" y="11521"/>
                  <a:pt x="8337" y="11624"/>
                  <a:pt x="8310" y="11708"/>
                </a:cubicBezTo>
                <a:cubicBezTo>
                  <a:pt x="8291" y="11767"/>
                  <a:pt x="8195" y="11819"/>
                  <a:pt x="8136" y="11832"/>
                </a:cubicBezTo>
                <a:cubicBezTo>
                  <a:pt x="8059" y="11849"/>
                  <a:pt x="7930" y="11804"/>
                  <a:pt x="7863" y="11782"/>
                </a:cubicBezTo>
                <a:cubicBezTo>
                  <a:pt x="7816" y="11766"/>
                  <a:pt x="7776" y="11738"/>
                  <a:pt x="7739" y="11708"/>
                </a:cubicBezTo>
              </a:path>
              <a:path w="7020" h="1614">
                <a:moveTo>
                  <a:pt x="8632" y="11410"/>
                </a:moveTo>
                <a:cubicBezTo>
                  <a:pt x="8595" y="11484"/>
                  <a:pt x="8534" y="11569"/>
                  <a:pt x="8558" y="11658"/>
                </a:cubicBezTo>
                <a:cubicBezTo>
                  <a:pt x="8578" y="11731"/>
                  <a:pt x="8621" y="11796"/>
                  <a:pt x="8682" y="11832"/>
                </a:cubicBezTo>
                <a:cubicBezTo>
                  <a:pt x="8738" y="11861"/>
                  <a:pt x="8762" y="11866"/>
                  <a:pt x="8806" y="11832"/>
                </a:cubicBezTo>
              </a:path>
              <a:path w="7020" h="1614">
                <a:moveTo>
                  <a:pt x="8731" y="10964"/>
                </a:moveTo>
                <a:cubicBezTo>
                  <a:pt x="8731" y="10939"/>
                  <a:pt x="8731" y="10914"/>
                  <a:pt x="8731" y="10889"/>
                </a:cubicBezTo>
              </a:path>
              <a:path w="7020" h="1614">
                <a:moveTo>
                  <a:pt x="9079" y="10492"/>
                </a:moveTo>
                <a:cubicBezTo>
                  <a:pt x="9214" y="10657"/>
                  <a:pt x="9282" y="10809"/>
                  <a:pt x="9351" y="11013"/>
                </a:cubicBezTo>
                <a:cubicBezTo>
                  <a:pt x="9418" y="11209"/>
                  <a:pt x="9470" y="11376"/>
                  <a:pt x="9475" y="11584"/>
                </a:cubicBezTo>
                <a:cubicBezTo>
                  <a:pt x="9478" y="11711"/>
                  <a:pt x="9449" y="11848"/>
                  <a:pt x="9376" y="11956"/>
                </a:cubicBezTo>
                <a:cubicBezTo>
                  <a:pt x="9332" y="12021"/>
                  <a:pt x="9242" y="12062"/>
                  <a:pt x="9178" y="121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Ink 15"/>
          <p:cNvSpPr/>
          <p:nvPr/>
        </p:nvSpPr>
        <p:spPr>
          <a:xfrm>
            <a:off x="4500720" y="3929040"/>
            <a:ext cx="1081080" cy="393840"/>
          </a:xfrm>
          <a:custGeom>
            <a:avLst/>
            <a:gdLst/>
            <a:ahLst/>
            <a:rect l="l" t="t" r="r" b="b"/>
            <a:pathLst>
              <a:path w="3002" h="1092">
                <a:moveTo>
                  <a:pt x="12700" y="11063"/>
                </a:moveTo>
                <a:cubicBezTo>
                  <a:pt x="12684" y="11156"/>
                  <a:pt x="12677" y="11272"/>
                  <a:pt x="12650" y="11361"/>
                </a:cubicBezTo>
                <a:cubicBezTo>
                  <a:pt x="12627" y="11436"/>
                  <a:pt x="12589" y="11531"/>
                  <a:pt x="12576" y="11609"/>
                </a:cubicBezTo>
                <a:cubicBezTo>
                  <a:pt x="12563" y="11685"/>
                  <a:pt x="12539" y="11758"/>
                  <a:pt x="12526" y="11832"/>
                </a:cubicBezTo>
                <a:cubicBezTo>
                  <a:pt x="12517" y="11885"/>
                  <a:pt x="12487" y="11971"/>
                  <a:pt x="12526" y="11931"/>
                </a:cubicBezTo>
              </a:path>
              <a:path w="3002" h="1092">
                <a:moveTo>
                  <a:pt x="13072" y="11162"/>
                </a:moveTo>
                <a:cubicBezTo>
                  <a:pt x="13062" y="11229"/>
                  <a:pt x="13033" y="11251"/>
                  <a:pt x="12998" y="11311"/>
                </a:cubicBezTo>
                <a:cubicBezTo>
                  <a:pt x="12963" y="11370"/>
                  <a:pt x="12925" y="11400"/>
                  <a:pt x="12973" y="11460"/>
                </a:cubicBezTo>
                <a:cubicBezTo>
                  <a:pt x="13012" y="11509"/>
                  <a:pt x="13114" y="11528"/>
                  <a:pt x="13171" y="11534"/>
                </a:cubicBezTo>
                <a:cubicBezTo>
                  <a:pt x="13242" y="11541"/>
                  <a:pt x="13323" y="11534"/>
                  <a:pt x="13395" y="11534"/>
                </a:cubicBezTo>
              </a:path>
              <a:path w="3002" h="1092">
                <a:moveTo>
                  <a:pt x="13469" y="10914"/>
                </a:moveTo>
                <a:cubicBezTo>
                  <a:pt x="13430" y="11019"/>
                  <a:pt x="13427" y="11104"/>
                  <a:pt x="13395" y="11212"/>
                </a:cubicBezTo>
                <a:cubicBezTo>
                  <a:pt x="13368" y="11302"/>
                  <a:pt x="13352" y="11397"/>
                  <a:pt x="13320" y="11485"/>
                </a:cubicBezTo>
                <a:cubicBezTo>
                  <a:pt x="13293" y="11560"/>
                  <a:pt x="13282" y="11652"/>
                  <a:pt x="13271" y="11733"/>
                </a:cubicBezTo>
                <a:cubicBezTo>
                  <a:pt x="13265" y="11778"/>
                  <a:pt x="13271" y="11976"/>
                  <a:pt x="13271" y="11931"/>
                </a:cubicBezTo>
              </a:path>
              <a:path w="3002" h="1092">
                <a:moveTo>
                  <a:pt x="13791" y="11435"/>
                </a:moveTo>
                <a:cubicBezTo>
                  <a:pt x="13915" y="11435"/>
                  <a:pt x="14039" y="11435"/>
                  <a:pt x="14163" y="11435"/>
                </a:cubicBezTo>
              </a:path>
              <a:path w="3002" h="1092">
                <a:moveTo>
                  <a:pt x="14908" y="11088"/>
                </a:moveTo>
                <a:cubicBezTo>
                  <a:pt x="14877" y="11010"/>
                  <a:pt x="14851" y="10959"/>
                  <a:pt x="14759" y="10939"/>
                </a:cubicBezTo>
                <a:cubicBezTo>
                  <a:pt x="14696" y="10925"/>
                  <a:pt x="14582" y="10942"/>
                  <a:pt x="14536" y="10988"/>
                </a:cubicBezTo>
                <a:cubicBezTo>
                  <a:pt x="14483" y="11041"/>
                  <a:pt x="14512" y="11132"/>
                  <a:pt x="14536" y="11187"/>
                </a:cubicBezTo>
                <a:cubicBezTo>
                  <a:pt x="14570" y="11265"/>
                  <a:pt x="14615" y="11338"/>
                  <a:pt x="14660" y="11410"/>
                </a:cubicBezTo>
                <a:cubicBezTo>
                  <a:pt x="14720" y="11507"/>
                  <a:pt x="14742" y="11603"/>
                  <a:pt x="14784" y="11708"/>
                </a:cubicBezTo>
                <a:cubicBezTo>
                  <a:pt x="14816" y="11787"/>
                  <a:pt x="14854" y="11867"/>
                  <a:pt x="14833" y="11956"/>
                </a:cubicBezTo>
                <a:cubicBezTo>
                  <a:pt x="14825" y="11972"/>
                  <a:pt x="14816" y="11989"/>
                  <a:pt x="14808" y="12005"/>
                </a:cubicBezTo>
                <a:cubicBezTo>
                  <a:pt x="14730" y="11997"/>
                  <a:pt x="14673" y="11978"/>
                  <a:pt x="14610" y="11931"/>
                </a:cubicBezTo>
                <a:cubicBezTo>
                  <a:pt x="14563" y="11896"/>
                  <a:pt x="14545" y="11828"/>
                  <a:pt x="14511" y="11782"/>
                </a:cubicBezTo>
                <a:cubicBezTo>
                  <a:pt x="14449" y="11699"/>
                  <a:pt x="14501" y="11598"/>
                  <a:pt x="14536" y="11509"/>
                </a:cubicBezTo>
                <a:cubicBezTo>
                  <a:pt x="14558" y="11452"/>
                  <a:pt x="14596" y="11383"/>
                  <a:pt x="14635" y="11336"/>
                </a:cubicBezTo>
                <a:cubicBezTo>
                  <a:pt x="14694" y="11263"/>
                  <a:pt x="14732" y="11188"/>
                  <a:pt x="14784" y="11112"/>
                </a:cubicBezTo>
                <a:cubicBezTo>
                  <a:pt x="14819" y="11060"/>
                  <a:pt x="14863" y="11025"/>
                  <a:pt x="14908" y="10988"/>
                </a:cubicBezTo>
                <a:cubicBezTo>
                  <a:pt x="14916" y="10980"/>
                  <a:pt x="14924" y="10972"/>
                  <a:pt x="14932" y="10964"/>
                </a:cubicBezTo>
              </a:path>
              <a:path w="3002" h="1092">
                <a:moveTo>
                  <a:pt x="15280" y="11385"/>
                </a:moveTo>
                <a:cubicBezTo>
                  <a:pt x="15256" y="11428"/>
                  <a:pt x="15199" y="11468"/>
                  <a:pt x="15180" y="11509"/>
                </a:cubicBezTo>
                <a:cubicBezTo>
                  <a:pt x="15144" y="11587"/>
                  <a:pt x="15131" y="11649"/>
                  <a:pt x="15131" y="11733"/>
                </a:cubicBezTo>
                <a:cubicBezTo>
                  <a:pt x="15131" y="11793"/>
                  <a:pt x="15164" y="11836"/>
                  <a:pt x="15205" y="11881"/>
                </a:cubicBezTo>
                <a:cubicBezTo>
                  <a:pt x="15232" y="11911"/>
                  <a:pt x="15312" y="11973"/>
                  <a:pt x="15354" y="11981"/>
                </a:cubicBezTo>
                <a:cubicBezTo>
                  <a:pt x="15446" y="11998"/>
                  <a:pt x="15464" y="11949"/>
                  <a:pt x="15503" y="11881"/>
                </a:cubicBezTo>
              </a:path>
              <a:path w="3002" h="1092">
                <a:moveTo>
                  <a:pt x="15478" y="10964"/>
                </a:moveTo>
                <a:cubicBezTo>
                  <a:pt x="15390" y="10975"/>
                  <a:pt x="15345" y="10994"/>
                  <a:pt x="15404" y="11088"/>
                </a:cubicBezTo>
                <a:cubicBezTo>
                  <a:pt x="15434" y="11117"/>
                  <a:pt x="15448" y="11122"/>
                  <a:pt x="15478" y="11088"/>
                </a:cubicBezTo>
                <a:cubicBezTo>
                  <a:pt x="15520" y="11018"/>
                  <a:pt x="15446" y="10959"/>
                  <a:pt x="15404" y="11013"/>
                </a:cubicBezTo>
                <a:cubicBezTo>
                  <a:pt x="15404" y="11030"/>
                  <a:pt x="15404" y="11046"/>
                  <a:pt x="15404" y="11063"/>
                </a:cubicBezTo>
                <a:cubicBezTo>
                  <a:pt x="15478" y="11052"/>
                  <a:pt x="15523" y="11022"/>
                  <a:pt x="15478" y="10939"/>
                </a:cubicBezTo>
                <a:cubicBezTo>
                  <a:pt x="15445" y="10877"/>
                  <a:pt x="15329" y="10924"/>
                  <a:pt x="15329" y="10988"/>
                </a:cubicBezTo>
                <a:cubicBezTo>
                  <a:pt x="15352" y="11011"/>
                  <a:pt x="15360" y="11015"/>
                  <a:pt x="15354" y="110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Ink 16"/>
          <p:cNvSpPr/>
          <p:nvPr/>
        </p:nvSpPr>
        <p:spPr>
          <a:xfrm>
            <a:off x="1000080" y="4581360"/>
            <a:ext cx="277920" cy="347760"/>
          </a:xfrm>
          <a:custGeom>
            <a:avLst/>
            <a:gdLst/>
            <a:ahLst/>
            <a:rect l="l" t="t" r="r" b="b"/>
            <a:pathLst>
              <a:path w="770" h="968">
                <a:moveTo>
                  <a:pt x="3001" y="12725"/>
                </a:moveTo>
                <a:cubicBezTo>
                  <a:pt x="2991" y="12813"/>
                  <a:pt x="2971" y="12912"/>
                  <a:pt x="2952" y="12998"/>
                </a:cubicBezTo>
                <a:cubicBezTo>
                  <a:pt x="2930" y="13095"/>
                  <a:pt x="2892" y="13197"/>
                  <a:pt x="2877" y="13295"/>
                </a:cubicBezTo>
                <a:cubicBezTo>
                  <a:pt x="2865" y="13378"/>
                  <a:pt x="2854" y="13465"/>
                  <a:pt x="2828" y="13543"/>
                </a:cubicBezTo>
                <a:cubicBezTo>
                  <a:pt x="2815" y="13582"/>
                  <a:pt x="2758" y="13769"/>
                  <a:pt x="2803" y="13593"/>
                </a:cubicBezTo>
              </a:path>
              <a:path w="770" h="968">
                <a:moveTo>
                  <a:pt x="3299" y="12774"/>
                </a:moveTo>
                <a:cubicBezTo>
                  <a:pt x="3277" y="12877"/>
                  <a:pt x="3259" y="12971"/>
                  <a:pt x="3225" y="13072"/>
                </a:cubicBezTo>
                <a:cubicBezTo>
                  <a:pt x="3196" y="13160"/>
                  <a:pt x="3142" y="13254"/>
                  <a:pt x="3125" y="13345"/>
                </a:cubicBezTo>
                <a:cubicBezTo>
                  <a:pt x="3113" y="13406"/>
                  <a:pt x="3118" y="13491"/>
                  <a:pt x="3150" y="13543"/>
                </a:cubicBezTo>
                <a:cubicBezTo>
                  <a:pt x="3197" y="13619"/>
                  <a:pt x="3308" y="13596"/>
                  <a:pt x="3373" y="13568"/>
                </a:cubicBezTo>
                <a:cubicBezTo>
                  <a:pt x="3427" y="13545"/>
                  <a:pt x="3468" y="13493"/>
                  <a:pt x="3497" y="13444"/>
                </a:cubicBezTo>
                <a:cubicBezTo>
                  <a:pt x="3519" y="13407"/>
                  <a:pt x="3557" y="13312"/>
                  <a:pt x="3547" y="13271"/>
                </a:cubicBezTo>
                <a:cubicBezTo>
                  <a:pt x="3537" y="13227"/>
                  <a:pt x="3502" y="13201"/>
                  <a:pt x="3473" y="13171"/>
                </a:cubicBezTo>
                <a:cubicBezTo>
                  <a:pt x="3426" y="13218"/>
                  <a:pt x="3387" y="13278"/>
                  <a:pt x="3373" y="13345"/>
                </a:cubicBezTo>
                <a:cubicBezTo>
                  <a:pt x="3361" y="13402"/>
                  <a:pt x="3333" y="13482"/>
                  <a:pt x="3349" y="13543"/>
                </a:cubicBezTo>
                <a:cubicBezTo>
                  <a:pt x="3371" y="13626"/>
                  <a:pt x="3372" y="13649"/>
                  <a:pt x="3448" y="136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Ink 17"/>
          <p:cNvSpPr/>
          <p:nvPr/>
        </p:nvSpPr>
        <p:spPr>
          <a:xfrm>
            <a:off x="1428840" y="4670280"/>
            <a:ext cx="115920" cy="250920"/>
          </a:xfrm>
          <a:custGeom>
            <a:avLst/>
            <a:gdLst/>
            <a:ahLst/>
            <a:rect l="l" t="t" r="r" b="b"/>
            <a:pathLst>
              <a:path w="323" h="695">
                <a:moveTo>
                  <a:pt x="4142" y="12973"/>
                </a:moveTo>
                <a:cubicBezTo>
                  <a:pt x="4117" y="13062"/>
                  <a:pt x="4079" y="13159"/>
                  <a:pt x="4068" y="13246"/>
                </a:cubicBezTo>
                <a:cubicBezTo>
                  <a:pt x="4057" y="13332"/>
                  <a:pt x="4031" y="13411"/>
                  <a:pt x="4018" y="13494"/>
                </a:cubicBezTo>
                <a:cubicBezTo>
                  <a:pt x="4008" y="13554"/>
                  <a:pt x="4035" y="13607"/>
                  <a:pt x="4043" y="13643"/>
                </a:cubicBezTo>
                <a:cubicBezTo>
                  <a:pt x="4043" y="13651"/>
                  <a:pt x="4043" y="13659"/>
                  <a:pt x="4043" y="13667"/>
                </a:cubicBezTo>
              </a:path>
              <a:path w="323" h="695">
                <a:moveTo>
                  <a:pt x="3969" y="13271"/>
                </a:moveTo>
                <a:cubicBezTo>
                  <a:pt x="4035" y="13314"/>
                  <a:pt x="4095" y="13326"/>
                  <a:pt x="4167" y="13345"/>
                </a:cubicBezTo>
                <a:cubicBezTo>
                  <a:pt x="4232" y="13367"/>
                  <a:pt x="4247" y="13375"/>
                  <a:pt x="4291" y="133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Ink 18"/>
          <p:cNvSpPr/>
          <p:nvPr/>
        </p:nvSpPr>
        <p:spPr>
          <a:xfrm>
            <a:off x="1704960" y="4572000"/>
            <a:ext cx="554040" cy="401760"/>
          </a:xfrm>
          <a:custGeom>
            <a:avLst/>
            <a:gdLst/>
            <a:ahLst/>
            <a:rect l="l" t="t" r="r" b="b"/>
            <a:pathLst>
              <a:path w="1539" h="1117">
                <a:moveTo>
                  <a:pt x="4738" y="12824"/>
                </a:moveTo>
                <a:cubicBezTo>
                  <a:pt x="4738" y="12874"/>
                  <a:pt x="4738" y="12890"/>
                  <a:pt x="4738" y="12923"/>
                </a:cubicBezTo>
                <a:cubicBezTo>
                  <a:pt x="4772" y="12880"/>
                  <a:pt x="4798" y="12838"/>
                  <a:pt x="4837" y="12799"/>
                </a:cubicBezTo>
                <a:cubicBezTo>
                  <a:pt x="4859" y="12777"/>
                  <a:pt x="4932" y="12708"/>
                  <a:pt x="4961" y="12700"/>
                </a:cubicBezTo>
                <a:cubicBezTo>
                  <a:pt x="5037" y="12678"/>
                  <a:pt x="5082" y="12706"/>
                  <a:pt x="5110" y="12774"/>
                </a:cubicBezTo>
                <a:cubicBezTo>
                  <a:pt x="5151" y="12874"/>
                  <a:pt x="5122" y="12927"/>
                  <a:pt x="5110" y="13022"/>
                </a:cubicBezTo>
                <a:cubicBezTo>
                  <a:pt x="5096" y="13133"/>
                  <a:pt x="5068" y="13235"/>
                  <a:pt x="5035" y="13345"/>
                </a:cubicBezTo>
                <a:cubicBezTo>
                  <a:pt x="5004" y="13449"/>
                  <a:pt x="4973" y="13509"/>
                  <a:pt x="4911" y="13593"/>
                </a:cubicBezTo>
                <a:cubicBezTo>
                  <a:pt x="4865" y="13662"/>
                  <a:pt x="4853" y="13682"/>
                  <a:pt x="4812" y="13717"/>
                </a:cubicBezTo>
                <a:cubicBezTo>
                  <a:pt x="4754" y="13669"/>
                  <a:pt x="4736" y="13583"/>
                  <a:pt x="4762" y="13494"/>
                </a:cubicBezTo>
                <a:cubicBezTo>
                  <a:pt x="4782" y="13425"/>
                  <a:pt x="4850" y="13355"/>
                  <a:pt x="4911" y="13320"/>
                </a:cubicBezTo>
                <a:cubicBezTo>
                  <a:pt x="4959" y="13368"/>
                  <a:pt x="4999" y="13396"/>
                  <a:pt x="5011" y="13469"/>
                </a:cubicBezTo>
                <a:cubicBezTo>
                  <a:pt x="5023" y="13540"/>
                  <a:pt x="5004" y="13626"/>
                  <a:pt x="5035" y="13692"/>
                </a:cubicBezTo>
                <a:cubicBezTo>
                  <a:pt x="5060" y="13717"/>
                  <a:pt x="5068" y="13725"/>
                  <a:pt x="5085" y="13692"/>
                </a:cubicBezTo>
              </a:path>
              <a:path w="1539" h="1117">
                <a:moveTo>
                  <a:pt x="5457" y="12774"/>
                </a:moveTo>
                <a:cubicBezTo>
                  <a:pt x="5412" y="12864"/>
                  <a:pt x="5366" y="12952"/>
                  <a:pt x="5333" y="13047"/>
                </a:cubicBezTo>
                <a:cubicBezTo>
                  <a:pt x="5296" y="13153"/>
                  <a:pt x="5270" y="13260"/>
                  <a:pt x="5259" y="13370"/>
                </a:cubicBezTo>
                <a:cubicBezTo>
                  <a:pt x="5249" y="13466"/>
                  <a:pt x="5293" y="13559"/>
                  <a:pt x="5333" y="13643"/>
                </a:cubicBezTo>
                <a:cubicBezTo>
                  <a:pt x="5353" y="13684"/>
                  <a:pt x="5425" y="13767"/>
                  <a:pt x="5482" y="13742"/>
                </a:cubicBezTo>
                <a:cubicBezTo>
                  <a:pt x="5654" y="13666"/>
                  <a:pt x="5681" y="13556"/>
                  <a:pt x="5730" y="13395"/>
                </a:cubicBezTo>
                <a:cubicBezTo>
                  <a:pt x="5759" y="13297"/>
                  <a:pt x="5771" y="13175"/>
                  <a:pt x="5755" y="13072"/>
                </a:cubicBezTo>
                <a:cubicBezTo>
                  <a:pt x="5739" y="12973"/>
                  <a:pt x="5699" y="12887"/>
                  <a:pt x="5655" y="12799"/>
                </a:cubicBezTo>
                <a:cubicBezTo>
                  <a:pt x="5620" y="12728"/>
                  <a:pt x="5605" y="12711"/>
                  <a:pt x="5531" y="12700"/>
                </a:cubicBezTo>
                <a:cubicBezTo>
                  <a:pt x="5463" y="12739"/>
                  <a:pt x="5445" y="12770"/>
                  <a:pt x="5432" y="12849"/>
                </a:cubicBezTo>
                <a:cubicBezTo>
                  <a:pt x="5421" y="12915"/>
                  <a:pt x="5462" y="13011"/>
                  <a:pt x="5482" y="13072"/>
                </a:cubicBezTo>
              </a:path>
              <a:path w="1539" h="1117">
                <a:moveTo>
                  <a:pt x="6127" y="13295"/>
                </a:moveTo>
                <a:cubicBezTo>
                  <a:pt x="6101" y="13387"/>
                  <a:pt x="6077" y="13449"/>
                  <a:pt x="6077" y="13543"/>
                </a:cubicBezTo>
                <a:cubicBezTo>
                  <a:pt x="6077" y="13605"/>
                  <a:pt x="6077" y="13688"/>
                  <a:pt x="6102" y="13742"/>
                </a:cubicBezTo>
                <a:cubicBezTo>
                  <a:pt x="6134" y="13811"/>
                  <a:pt x="6190" y="13819"/>
                  <a:pt x="6251" y="13791"/>
                </a:cubicBezTo>
                <a:cubicBezTo>
                  <a:pt x="6259" y="13783"/>
                  <a:pt x="6268" y="13775"/>
                  <a:pt x="6276" y="13767"/>
                </a:cubicBezTo>
              </a:path>
              <a:path w="1539" h="1117">
                <a:moveTo>
                  <a:pt x="6226" y="12849"/>
                </a:moveTo>
                <a:lnTo>
                  <a:pt x="6226" y="12849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Ink 19"/>
          <p:cNvSpPr/>
          <p:nvPr/>
        </p:nvSpPr>
        <p:spPr>
          <a:xfrm>
            <a:off x="2394000" y="4537080"/>
            <a:ext cx="768240" cy="401760"/>
          </a:xfrm>
          <a:custGeom>
            <a:avLst/>
            <a:gdLst/>
            <a:ahLst/>
            <a:rect l="l" t="t" r="r" b="b"/>
            <a:pathLst>
              <a:path w="2134" h="1117">
                <a:moveTo>
                  <a:pt x="6846" y="12948"/>
                </a:moveTo>
                <a:cubicBezTo>
                  <a:pt x="6826" y="13047"/>
                  <a:pt x="6810" y="13147"/>
                  <a:pt x="6796" y="13246"/>
                </a:cubicBezTo>
                <a:cubicBezTo>
                  <a:pt x="6780" y="13356"/>
                  <a:pt x="6796" y="13481"/>
                  <a:pt x="6796" y="13593"/>
                </a:cubicBezTo>
              </a:path>
              <a:path w="2134" h="1117">
                <a:moveTo>
                  <a:pt x="6648" y="13196"/>
                </a:moveTo>
                <a:cubicBezTo>
                  <a:pt x="6755" y="13196"/>
                  <a:pt x="6863" y="13196"/>
                  <a:pt x="6970" y="13196"/>
                </a:cubicBezTo>
              </a:path>
              <a:path w="2134" h="1117">
                <a:moveTo>
                  <a:pt x="7293" y="12849"/>
                </a:moveTo>
                <a:cubicBezTo>
                  <a:pt x="7351" y="12815"/>
                  <a:pt x="7383" y="12783"/>
                  <a:pt x="7417" y="12725"/>
                </a:cubicBezTo>
                <a:cubicBezTo>
                  <a:pt x="7465" y="12643"/>
                  <a:pt x="7502" y="12636"/>
                  <a:pt x="7565" y="12700"/>
                </a:cubicBezTo>
                <a:cubicBezTo>
                  <a:pt x="7630" y="12766"/>
                  <a:pt x="7615" y="12835"/>
                  <a:pt x="7615" y="12923"/>
                </a:cubicBezTo>
                <a:cubicBezTo>
                  <a:pt x="7615" y="13053"/>
                  <a:pt x="7578" y="13152"/>
                  <a:pt x="7541" y="13271"/>
                </a:cubicBezTo>
                <a:cubicBezTo>
                  <a:pt x="7505" y="13386"/>
                  <a:pt x="7466" y="13464"/>
                  <a:pt x="7417" y="13568"/>
                </a:cubicBezTo>
                <a:cubicBezTo>
                  <a:pt x="7392" y="13622"/>
                  <a:pt x="7358" y="13651"/>
                  <a:pt x="7317" y="13692"/>
                </a:cubicBezTo>
                <a:cubicBezTo>
                  <a:pt x="7247" y="13621"/>
                  <a:pt x="7279" y="13616"/>
                  <a:pt x="7293" y="13519"/>
                </a:cubicBezTo>
                <a:cubicBezTo>
                  <a:pt x="7301" y="13464"/>
                  <a:pt x="7319" y="13391"/>
                  <a:pt x="7342" y="13345"/>
                </a:cubicBezTo>
                <a:cubicBezTo>
                  <a:pt x="7367" y="13320"/>
                  <a:pt x="7375" y="13312"/>
                  <a:pt x="7392" y="13295"/>
                </a:cubicBezTo>
                <a:cubicBezTo>
                  <a:pt x="7460" y="13364"/>
                  <a:pt x="7454" y="13385"/>
                  <a:pt x="7491" y="13469"/>
                </a:cubicBezTo>
                <a:cubicBezTo>
                  <a:pt x="7507" y="13504"/>
                  <a:pt x="7558" y="13663"/>
                  <a:pt x="7590" y="13667"/>
                </a:cubicBezTo>
                <a:cubicBezTo>
                  <a:pt x="7598" y="13659"/>
                  <a:pt x="7607" y="13651"/>
                  <a:pt x="7615" y="13643"/>
                </a:cubicBezTo>
              </a:path>
              <a:path w="2134" h="1117">
                <a:moveTo>
                  <a:pt x="7987" y="12750"/>
                </a:moveTo>
                <a:cubicBezTo>
                  <a:pt x="7935" y="12825"/>
                  <a:pt x="7896" y="12887"/>
                  <a:pt x="7863" y="12973"/>
                </a:cubicBezTo>
                <a:cubicBezTo>
                  <a:pt x="7823" y="13080"/>
                  <a:pt x="7798" y="13180"/>
                  <a:pt x="7813" y="13295"/>
                </a:cubicBezTo>
                <a:cubicBezTo>
                  <a:pt x="7829" y="13418"/>
                  <a:pt x="7857" y="13504"/>
                  <a:pt x="7938" y="13593"/>
                </a:cubicBezTo>
                <a:cubicBezTo>
                  <a:pt x="7991" y="13651"/>
                  <a:pt x="8027" y="13650"/>
                  <a:pt x="8086" y="13618"/>
                </a:cubicBezTo>
                <a:cubicBezTo>
                  <a:pt x="8173" y="13571"/>
                  <a:pt x="8180" y="13486"/>
                  <a:pt x="8210" y="13395"/>
                </a:cubicBezTo>
                <a:cubicBezTo>
                  <a:pt x="8247" y="13284"/>
                  <a:pt x="8280" y="13166"/>
                  <a:pt x="8260" y="13047"/>
                </a:cubicBezTo>
                <a:cubicBezTo>
                  <a:pt x="8241" y="12933"/>
                  <a:pt x="8216" y="12852"/>
                  <a:pt x="8161" y="12750"/>
                </a:cubicBezTo>
                <a:cubicBezTo>
                  <a:pt x="8133" y="12698"/>
                  <a:pt x="8103" y="12667"/>
                  <a:pt x="8062" y="12626"/>
                </a:cubicBezTo>
                <a:cubicBezTo>
                  <a:pt x="8010" y="12574"/>
                  <a:pt x="8055" y="12622"/>
                  <a:pt x="8062" y="12650"/>
                </a:cubicBezTo>
              </a:path>
              <a:path w="2134" h="1117">
                <a:moveTo>
                  <a:pt x="8582" y="13196"/>
                </a:moveTo>
                <a:cubicBezTo>
                  <a:pt x="8565" y="13276"/>
                  <a:pt x="8539" y="13385"/>
                  <a:pt x="8558" y="13469"/>
                </a:cubicBezTo>
                <a:cubicBezTo>
                  <a:pt x="8573" y="13535"/>
                  <a:pt x="8597" y="13649"/>
                  <a:pt x="8657" y="13692"/>
                </a:cubicBezTo>
                <a:cubicBezTo>
                  <a:pt x="8697" y="13712"/>
                  <a:pt x="8703" y="13721"/>
                  <a:pt x="8731" y="13717"/>
                </a:cubicBezTo>
              </a:path>
              <a:path w="2134" h="1117">
                <a:moveTo>
                  <a:pt x="8756" y="12849"/>
                </a:moveTo>
                <a:cubicBezTo>
                  <a:pt x="8756" y="12804"/>
                  <a:pt x="8753" y="12791"/>
                  <a:pt x="8781" y="127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Ink 20"/>
          <p:cNvSpPr/>
          <p:nvPr/>
        </p:nvSpPr>
        <p:spPr>
          <a:xfrm>
            <a:off x="3295800" y="4626000"/>
            <a:ext cx="106200" cy="249120"/>
          </a:xfrm>
          <a:custGeom>
            <a:avLst/>
            <a:gdLst/>
            <a:ahLst/>
            <a:rect l="l" t="t" r="r" b="b"/>
            <a:pathLst>
              <a:path w="299" h="695">
                <a:moveTo>
                  <a:pt x="9302" y="12849"/>
                </a:moveTo>
                <a:cubicBezTo>
                  <a:pt x="9302" y="13057"/>
                  <a:pt x="9294" y="13270"/>
                  <a:pt x="9327" y="13469"/>
                </a:cubicBezTo>
                <a:cubicBezTo>
                  <a:pt x="9327" y="13510"/>
                  <a:pt x="9327" y="13518"/>
                  <a:pt x="9327" y="13543"/>
                </a:cubicBezTo>
              </a:path>
              <a:path w="299" h="695">
                <a:moveTo>
                  <a:pt x="9153" y="13097"/>
                </a:moveTo>
                <a:cubicBezTo>
                  <a:pt x="9229" y="13097"/>
                  <a:pt x="9304" y="13106"/>
                  <a:pt x="9376" y="13122"/>
                </a:cubicBezTo>
                <a:cubicBezTo>
                  <a:pt x="9401" y="13130"/>
                  <a:pt x="9426" y="13138"/>
                  <a:pt x="9451" y="131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Ink 21"/>
          <p:cNvSpPr/>
          <p:nvPr/>
        </p:nvSpPr>
        <p:spPr>
          <a:xfrm>
            <a:off x="3554280" y="4402080"/>
            <a:ext cx="874800" cy="482760"/>
          </a:xfrm>
          <a:custGeom>
            <a:avLst/>
            <a:gdLst/>
            <a:ahLst/>
            <a:rect l="l" t="t" r="r" b="b"/>
            <a:pathLst>
              <a:path w="2432" h="1340">
                <a:moveTo>
                  <a:pt x="9872" y="12675"/>
                </a:moveTo>
                <a:cubicBezTo>
                  <a:pt x="9933" y="12614"/>
                  <a:pt x="9959" y="12617"/>
                  <a:pt x="10046" y="12650"/>
                </a:cubicBezTo>
                <a:cubicBezTo>
                  <a:pt x="10131" y="12682"/>
                  <a:pt x="10181" y="12746"/>
                  <a:pt x="10220" y="12824"/>
                </a:cubicBezTo>
                <a:cubicBezTo>
                  <a:pt x="10267" y="12919"/>
                  <a:pt x="10285" y="13041"/>
                  <a:pt x="10269" y="13146"/>
                </a:cubicBezTo>
                <a:cubicBezTo>
                  <a:pt x="10247" y="13290"/>
                  <a:pt x="10196" y="13357"/>
                  <a:pt x="10120" y="13469"/>
                </a:cubicBezTo>
                <a:cubicBezTo>
                  <a:pt x="10088" y="13516"/>
                  <a:pt x="10040" y="13584"/>
                  <a:pt x="9971" y="13568"/>
                </a:cubicBezTo>
                <a:cubicBezTo>
                  <a:pt x="9896" y="13550"/>
                  <a:pt x="9874" y="13468"/>
                  <a:pt x="9897" y="13419"/>
                </a:cubicBezTo>
                <a:cubicBezTo>
                  <a:pt x="9932" y="13345"/>
                  <a:pt x="10001" y="13395"/>
                  <a:pt x="10071" y="13419"/>
                </a:cubicBezTo>
                <a:cubicBezTo>
                  <a:pt x="10143" y="13444"/>
                  <a:pt x="10221" y="13503"/>
                  <a:pt x="10294" y="13519"/>
                </a:cubicBezTo>
                <a:cubicBezTo>
                  <a:pt x="10346" y="13519"/>
                  <a:pt x="10364" y="13518"/>
                  <a:pt x="10393" y="13494"/>
                </a:cubicBezTo>
              </a:path>
              <a:path w="2432" h="1340">
                <a:moveTo>
                  <a:pt x="10616" y="12725"/>
                </a:moveTo>
                <a:cubicBezTo>
                  <a:pt x="10709" y="12674"/>
                  <a:pt x="10771" y="12684"/>
                  <a:pt x="10864" y="12650"/>
                </a:cubicBezTo>
                <a:cubicBezTo>
                  <a:pt x="10894" y="12621"/>
                  <a:pt x="10909" y="12610"/>
                  <a:pt x="10939" y="12601"/>
                </a:cubicBezTo>
              </a:path>
              <a:path w="2432" h="1340">
                <a:moveTo>
                  <a:pt x="10716" y="12626"/>
                </a:moveTo>
                <a:cubicBezTo>
                  <a:pt x="10659" y="12682"/>
                  <a:pt x="10586" y="12747"/>
                  <a:pt x="10567" y="12824"/>
                </a:cubicBezTo>
                <a:cubicBezTo>
                  <a:pt x="10550" y="12892"/>
                  <a:pt x="10572" y="12928"/>
                  <a:pt x="10616" y="12973"/>
                </a:cubicBezTo>
                <a:cubicBezTo>
                  <a:pt x="10687" y="13045"/>
                  <a:pt x="10756" y="12952"/>
                  <a:pt x="10840" y="12973"/>
                </a:cubicBezTo>
                <a:cubicBezTo>
                  <a:pt x="10887" y="12985"/>
                  <a:pt x="10948" y="13050"/>
                  <a:pt x="10964" y="13097"/>
                </a:cubicBezTo>
                <a:cubicBezTo>
                  <a:pt x="11002" y="13214"/>
                  <a:pt x="10955" y="13263"/>
                  <a:pt x="10914" y="13370"/>
                </a:cubicBezTo>
                <a:cubicBezTo>
                  <a:pt x="10881" y="13456"/>
                  <a:pt x="10869" y="13496"/>
                  <a:pt x="10790" y="13543"/>
                </a:cubicBezTo>
                <a:cubicBezTo>
                  <a:pt x="10697" y="13598"/>
                  <a:pt x="10634" y="13561"/>
                  <a:pt x="10567" y="13494"/>
                </a:cubicBezTo>
                <a:cubicBezTo>
                  <a:pt x="10520" y="13447"/>
                  <a:pt x="10543" y="13417"/>
                  <a:pt x="10567" y="13370"/>
                </a:cubicBezTo>
              </a:path>
              <a:path w="2432" h="1340">
                <a:moveTo>
                  <a:pt x="11237" y="12948"/>
                </a:moveTo>
                <a:cubicBezTo>
                  <a:pt x="11215" y="13029"/>
                  <a:pt x="11212" y="13088"/>
                  <a:pt x="11212" y="13171"/>
                </a:cubicBezTo>
                <a:cubicBezTo>
                  <a:pt x="11212" y="13260"/>
                  <a:pt x="11234" y="13391"/>
                  <a:pt x="11286" y="13469"/>
                </a:cubicBezTo>
                <a:cubicBezTo>
                  <a:pt x="11311" y="13507"/>
                  <a:pt x="11382" y="13586"/>
                  <a:pt x="11435" y="13568"/>
                </a:cubicBezTo>
                <a:cubicBezTo>
                  <a:pt x="11443" y="13560"/>
                  <a:pt x="11452" y="13551"/>
                  <a:pt x="11460" y="13543"/>
                </a:cubicBezTo>
              </a:path>
              <a:path w="2432" h="1340">
                <a:moveTo>
                  <a:pt x="11361" y="12601"/>
                </a:moveTo>
                <a:cubicBezTo>
                  <a:pt x="11361" y="12593"/>
                  <a:pt x="11361" y="12584"/>
                  <a:pt x="11361" y="12576"/>
                </a:cubicBezTo>
              </a:path>
              <a:path w="2432" h="1340">
                <a:moveTo>
                  <a:pt x="11609" y="12278"/>
                </a:moveTo>
                <a:cubicBezTo>
                  <a:pt x="11696" y="12213"/>
                  <a:pt x="11709" y="12224"/>
                  <a:pt x="11807" y="12278"/>
                </a:cubicBezTo>
                <a:cubicBezTo>
                  <a:pt x="11899" y="12329"/>
                  <a:pt x="11902" y="12390"/>
                  <a:pt x="11931" y="12477"/>
                </a:cubicBezTo>
                <a:cubicBezTo>
                  <a:pt x="11953" y="12543"/>
                  <a:pt x="11940" y="12643"/>
                  <a:pt x="11881" y="12700"/>
                </a:cubicBezTo>
                <a:cubicBezTo>
                  <a:pt x="11777" y="12800"/>
                  <a:pt x="11780" y="12793"/>
                  <a:pt x="11683" y="12774"/>
                </a:cubicBezTo>
                <a:cubicBezTo>
                  <a:pt x="11638" y="12774"/>
                  <a:pt x="11625" y="12778"/>
                  <a:pt x="11609" y="12750"/>
                </a:cubicBezTo>
                <a:cubicBezTo>
                  <a:pt x="11670" y="12712"/>
                  <a:pt x="11714" y="12720"/>
                  <a:pt x="11782" y="12750"/>
                </a:cubicBezTo>
                <a:cubicBezTo>
                  <a:pt x="11857" y="12783"/>
                  <a:pt x="11932" y="12812"/>
                  <a:pt x="12005" y="12849"/>
                </a:cubicBezTo>
                <a:cubicBezTo>
                  <a:pt x="12079" y="12886"/>
                  <a:pt x="12180" y="12892"/>
                  <a:pt x="12254" y="12849"/>
                </a:cubicBezTo>
                <a:cubicBezTo>
                  <a:pt x="12278" y="12824"/>
                  <a:pt x="12286" y="12815"/>
                  <a:pt x="12303" y="127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Ink 22"/>
          <p:cNvSpPr/>
          <p:nvPr/>
        </p:nvSpPr>
        <p:spPr>
          <a:xfrm>
            <a:off x="1197000" y="5089680"/>
            <a:ext cx="285840" cy="339480"/>
          </a:xfrm>
          <a:custGeom>
            <a:avLst/>
            <a:gdLst/>
            <a:ahLst/>
            <a:rect l="l" t="t" r="r" b="b"/>
            <a:pathLst>
              <a:path w="795" h="943">
                <a:moveTo>
                  <a:pt x="3696" y="14139"/>
                </a:moveTo>
                <a:cubicBezTo>
                  <a:pt x="3684" y="14231"/>
                  <a:pt x="3645" y="14256"/>
                  <a:pt x="3597" y="14337"/>
                </a:cubicBezTo>
                <a:cubicBezTo>
                  <a:pt x="3545" y="14425"/>
                  <a:pt x="3489" y="14517"/>
                  <a:pt x="3448" y="14610"/>
                </a:cubicBezTo>
                <a:cubicBezTo>
                  <a:pt x="3409" y="14698"/>
                  <a:pt x="3386" y="14793"/>
                  <a:pt x="3349" y="14883"/>
                </a:cubicBezTo>
                <a:cubicBezTo>
                  <a:pt x="3323" y="14946"/>
                  <a:pt x="3324" y="14988"/>
                  <a:pt x="3324" y="15056"/>
                </a:cubicBezTo>
              </a:path>
              <a:path w="795" h="943">
                <a:moveTo>
                  <a:pt x="3919" y="14238"/>
                </a:moveTo>
                <a:cubicBezTo>
                  <a:pt x="3909" y="14364"/>
                  <a:pt x="3866" y="14405"/>
                  <a:pt x="3820" y="14511"/>
                </a:cubicBezTo>
                <a:cubicBezTo>
                  <a:pt x="3780" y="14603"/>
                  <a:pt x="3745" y="14662"/>
                  <a:pt x="3721" y="14759"/>
                </a:cubicBezTo>
                <a:cubicBezTo>
                  <a:pt x="3703" y="14831"/>
                  <a:pt x="3697" y="14920"/>
                  <a:pt x="3746" y="14982"/>
                </a:cubicBezTo>
                <a:cubicBezTo>
                  <a:pt x="3786" y="15032"/>
                  <a:pt x="3848" y="15097"/>
                  <a:pt x="3919" y="15081"/>
                </a:cubicBezTo>
                <a:cubicBezTo>
                  <a:pt x="3980" y="15067"/>
                  <a:pt x="4039" y="15005"/>
                  <a:pt x="4068" y="14957"/>
                </a:cubicBezTo>
                <a:cubicBezTo>
                  <a:pt x="4126" y="14859"/>
                  <a:pt x="4123" y="14792"/>
                  <a:pt x="4093" y="14684"/>
                </a:cubicBezTo>
                <a:cubicBezTo>
                  <a:pt x="4029" y="14653"/>
                  <a:pt x="3986" y="14734"/>
                  <a:pt x="3969" y="14808"/>
                </a:cubicBezTo>
                <a:cubicBezTo>
                  <a:pt x="3953" y="14874"/>
                  <a:pt x="3962" y="14975"/>
                  <a:pt x="3994" y="15032"/>
                </a:cubicBezTo>
                <a:cubicBezTo>
                  <a:pt x="4018" y="15056"/>
                  <a:pt x="4027" y="15065"/>
                  <a:pt x="4043" y="150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Ink 23"/>
          <p:cNvSpPr/>
          <p:nvPr/>
        </p:nvSpPr>
        <p:spPr>
          <a:xfrm>
            <a:off x="1633680" y="5099040"/>
            <a:ext cx="1697040" cy="401760"/>
          </a:xfrm>
          <a:custGeom>
            <a:avLst/>
            <a:gdLst/>
            <a:ahLst/>
            <a:rect l="l" t="t" r="r" b="b"/>
            <a:pathLst>
              <a:path w="4714" h="1118">
                <a:moveTo>
                  <a:pt x="4738" y="14288"/>
                </a:moveTo>
                <a:cubicBezTo>
                  <a:pt x="4738" y="14384"/>
                  <a:pt x="4703" y="14448"/>
                  <a:pt x="4688" y="14536"/>
                </a:cubicBezTo>
                <a:cubicBezTo>
                  <a:pt x="4674" y="14619"/>
                  <a:pt x="4651" y="14702"/>
                  <a:pt x="4638" y="14784"/>
                </a:cubicBezTo>
                <a:cubicBezTo>
                  <a:pt x="4638" y="14842"/>
                  <a:pt x="4638" y="14867"/>
                  <a:pt x="4638" y="14908"/>
                </a:cubicBezTo>
              </a:path>
              <a:path w="4714" h="1118">
                <a:moveTo>
                  <a:pt x="4539" y="14560"/>
                </a:moveTo>
                <a:cubicBezTo>
                  <a:pt x="4596" y="14538"/>
                  <a:pt x="4669" y="14580"/>
                  <a:pt x="4738" y="14610"/>
                </a:cubicBezTo>
                <a:cubicBezTo>
                  <a:pt x="4797" y="14636"/>
                  <a:pt x="4849" y="14662"/>
                  <a:pt x="4911" y="14684"/>
                </a:cubicBezTo>
              </a:path>
              <a:path w="4714" h="1118">
                <a:moveTo>
                  <a:pt x="5358" y="14362"/>
                </a:moveTo>
                <a:cubicBezTo>
                  <a:pt x="5302" y="14418"/>
                  <a:pt x="5292" y="14436"/>
                  <a:pt x="5259" y="14511"/>
                </a:cubicBezTo>
                <a:cubicBezTo>
                  <a:pt x="5239" y="14555"/>
                  <a:pt x="5209" y="14639"/>
                  <a:pt x="5283" y="14660"/>
                </a:cubicBezTo>
                <a:cubicBezTo>
                  <a:pt x="5337" y="14675"/>
                  <a:pt x="5400" y="14699"/>
                  <a:pt x="5457" y="14709"/>
                </a:cubicBezTo>
                <a:cubicBezTo>
                  <a:pt x="5507" y="14709"/>
                  <a:pt x="5523" y="14709"/>
                  <a:pt x="5556" y="14709"/>
                </a:cubicBezTo>
              </a:path>
              <a:path w="4714" h="1118">
                <a:moveTo>
                  <a:pt x="5854" y="14163"/>
                </a:moveTo>
                <a:cubicBezTo>
                  <a:pt x="5789" y="14279"/>
                  <a:pt x="5741" y="14383"/>
                  <a:pt x="5705" y="14511"/>
                </a:cubicBezTo>
                <a:cubicBezTo>
                  <a:pt x="5666" y="14650"/>
                  <a:pt x="5645" y="14794"/>
                  <a:pt x="5606" y="14932"/>
                </a:cubicBezTo>
                <a:cubicBezTo>
                  <a:pt x="5587" y="15000"/>
                  <a:pt x="5587" y="15194"/>
                  <a:pt x="5556" y="15131"/>
                </a:cubicBezTo>
                <a:cubicBezTo>
                  <a:pt x="5556" y="15114"/>
                  <a:pt x="5556" y="15098"/>
                  <a:pt x="5556" y="15081"/>
                </a:cubicBezTo>
              </a:path>
              <a:path w="4714" h="1118">
                <a:moveTo>
                  <a:pt x="6028" y="14362"/>
                </a:moveTo>
                <a:cubicBezTo>
                  <a:pt x="5995" y="14443"/>
                  <a:pt x="5942" y="14487"/>
                  <a:pt x="5904" y="14560"/>
                </a:cubicBezTo>
                <a:cubicBezTo>
                  <a:pt x="5870" y="14625"/>
                  <a:pt x="5857" y="14736"/>
                  <a:pt x="5854" y="14808"/>
                </a:cubicBezTo>
                <a:cubicBezTo>
                  <a:pt x="5851" y="14889"/>
                  <a:pt x="5891" y="14979"/>
                  <a:pt x="5953" y="15032"/>
                </a:cubicBezTo>
                <a:cubicBezTo>
                  <a:pt x="6024" y="15093"/>
                  <a:pt x="6120" y="15054"/>
                  <a:pt x="6176" y="15007"/>
                </a:cubicBezTo>
                <a:cubicBezTo>
                  <a:pt x="6256" y="14940"/>
                  <a:pt x="6309" y="14827"/>
                  <a:pt x="6350" y="14734"/>
                </a:cubicBezTo>
                <a:cubicBezTo>
                  <a:pt x="6389" y="14647"/>
                  <a:pt x="6392" y="14505"/>
                  <a:pt x="6375" y="14412"/>
                </a:cubicBezTo>
                <a:cubicBezTo>
                  <a:pt x="6360" y="14330"/>
                  <a:pt x="6280" y="14197"/>
                  <a:pt x="6201" y="14163"/>
                </a:cubicBezTo>
                <a:cubicBezTo>
                  <a:pt x="6119" y="14128"/>
                  <a:pt x="6041" y="14222"/>
                  <a:pt x="6028" y="14288"/>
                </a:cubicBezTo>
                <a:cubicBezTo>
                  <a:pt x="6015" y="14354"/>
                  <a:pt x="6031" y="14403"/>
                  <a:pt x="6052" y="14461"/>
                </a:cubicBezTo>
              </a:path>
              <a:path w="4714" h="1118">
                <a:moveTo>
                  <a:pt x="6697" y="14660"/>
                </a:moveTo>
                <a:cubicBezTo>
                  <a:pt x="6683" y="14742"/>
                  <a:pt x="6624" y="14914"/>
                  <a:pt x="6648" y="15007"/>
                </a:cubicBezTo>
                <a:cubicBezTo>
                  <a:pt x="6667" y="15080"/>
                  <a:pt x="6672" y="15166"/>
                  <a:pt x="6722" y="15230"/>
                </a:cubicBezTo>
                <a:cubicBezTo>
                  <a:pt x="6767" y="15275"/>
                  <a:pt x="6776" y="15292"/>
                  <a:pt x="6821" y="15280"/>
                </a:cubicBezTo>
              </a:path>
              <a:path w="4714" h="1118">
                <a:moveTo>
                  <a:pt x="6945" y="14387"/>
                </a:moveTo>
                <a:cubicBezTo>
                  <a:pt x="6925" y="14346"/>
                  <a:pt x="6917" y="14340"/>
                  <a:pt x="6921" y="14312"/>
                </a:cubicBezTo>
              </a:path>
              <a:path w="4714" h="1118">
                <a:moveTo>
                  <a:pt x="7268" y="14635"/>
                </a:moveTo>
                <a:cubicBezTo>
                  <a:pt x="7329" y="14643"/>
                  <a:pt x="7407" y="14644"/>
                  <a:pt x="7466" y="14660"/>
                </a:cubicBezTo>
                <a:cubicBezTo>
                  <a:pt x="7533" y="14678"/>
                  <a:pt x="7569" y="14668"/>
                  <a:pt x="7640" y="14660"/>
                </a:cubicBezTo>
              </a:path>
              <a:path w="4714" h="1118">
                <a:moveTo>
                  <a:pt x="7987" y="14362"/>
                </a:moveTo>
                <a:cubicBezTo>
                  <a:pt x="8059" y="14326"/>
                  <a:pt x="8198" y="14239"/>
                  <a:pt x="8285" y="14312"/>
                </a:cubicBezTo>
                <a:cubicBezTo>
                  <a:pt x="8338" y="14357"/>
                  <a:pt x="8381" y="14412"/>
                  <a:pt x="8384" y="14486"/>
                </a:cubicBezTo>
                <a:cubicBezTo>
                  <a:pt x="8389" y="14593"/>
                  <a:pt x="8367" y="14644"/>
                  <a:pt x="8310" y="14734"/>
                </a:cubicBezTo>
                <a:cubicBezTo>
                  <a:pt x="8265" y="14806"/>
                  <a:pt x="8184" y="14937"/>
                  <a:pt x="8111" y="14982"/>
                </a:cubicBezTo>
                <a:cubicBezTo>
                  <a:pt x="8088" y="14996"/>
                  <a:pt x="7941" y="15083"/>
                  <a:pt x="7913" y="15081"/>
                </a:cubicBezTo>
                <a:cubicBezTo>
                  <a:pt x="7905" y="15073"/>
                  <a:pt x="7896" y="15064"/>
                  <a:pt x="7888" y="15056"/>
                </a:cubicBezTo>
                <a:cubicBezTo>
                  <a:pt x="7899" y="14972"/>
                  <a:pt x="7926" y="14944"/>
                  <a:pt x="7987" y="14883"/>
                </a:cubicBezTo>
                <a:cubicBezTo>
                  <a:pt x="8040" y="14830"/>
                  <a:pt x="8089" y="14866"/>
                  <a:pt x="8136" y="14908"/>
                </a:cubicBezTo>
                <a:cubicBezTo>
                  <a:pt x="8186" y="14953"/>
                  <a:pt x="8214" y="15007"/>
                  <a:pt x="8260" y="15056"/>
                </a:cubicBezTo>
                <a:cubicBezTo>
                  <a:pt x="8318" y="15119"/>
                  <a:pt x="8353" y="15169"/>
                  <a:pt x="8434" y="15180"/>
                </a:cubicBezTo>
              </a:path>
              <a:path w="4714" h="1118">
                <a:moveTo>
                  <a:pt x="8830" y="14337"/>
                </a:moveTo>
                <a:cubicBezTo>
                  <a:pt x="8930" y="14288"/>
                  <a:pt x="8973" y="14263"/>
                  <a:pt x="9079" y="14263"/>
                </a:cubicBezTo>
                <a:cubicBezTo>
                  <a:pt x="9161" y="14263"/>
                  <a:pt x="9195" y="14271"/>
                  <a:pt x="9252" y="14213"/>
                </a:cubicBezTo>
              </a:path>
              <a:path w="4714" h="1118">
                <a:moveTo>
                  <a:pt x="9029" y="14188"/>
                </a:moveTo>
                <a:cubicBezTo>
                  <a:pt x="8918" y="14220"/>
                  <a:pt x="8885" y="14233"/>
                  <a:pt x="8806" y="14312"/>
                </a:cubicBezTo>
                <a:cubicBezTo>
                  <a:pt x="8767" y="14351"/>
                  <a:pt x="8711" y="14397"/>
                  <a:pt x="8731" y="14461"/>
                </a:cubicBezTo>
                <a:cubicBezTo>
                  <a:pt x="8747" y="14513"/>
                  <a:pt x="8890" y="14486"/>
                  <a:pt x="8930" y="14486"/>
                </a:cubicBezTo>
                <a:cubicBezTo>
                  <a:pt x="8981" y="14486"/>
                  <a:pt x="9041" y="14505"/>
                  <a:pt x="9079" y="14536"/>
                </a:cubicBezTo>
                <a:cubicBezTo>
                  <a:pt x="9133" y="14579"/>
                  <a:pt x="9143" y="14670"/>
                  <a:pt x="9128" y="14734"/>
                </a:cubicBezTo>
                <a:cubicBezTo>
                  <a:pt x="9109" y="14813"/>
                  <a:pt x="9092" y="14882"/>
                  <a:pt x="9054" y="14957"/>
                </a:cubicBezTo>
                <a:cubicBezTo>
                  <a:pt x="9026" y="15012"/>
                  <a:pt x="8982" y="15071"/>
                  <a:pt x="8930" y="15106"/>
                </a:cubicBezTo>
                <a:cubicBezTo>
                  <a:pt x="8885" y="15136"/>
                  <a:pt x="8794" y="15155"/>
                  <a:pt x="8756" y="15106"/>
                </a:cubicBezTo>
                <a:cubicBezTo>
                  <a:pt x="8728" y="15070"/>
                  <a:pt x="8704" y="15022"/>
                  <a:pt x="8682" y="149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Ink 24"/>
          <p:cNvSpPr/>
          <p:nvPr/>
        </p:nvSpPr>
        <p:spPr>
          <a:xfrm>
            <a:off x="1428840" y="5653080"/>
            <a:ext cx="536400" cy="392040"/>
          </a:xfrm>
          <a:custGeom>
            <a:avLst/>
            <a:gdLst/>
            <a:ahLst/>
            <a:rect l="l" t="t" r="r" b="b"/>
            <a:pathLst>
              <a:path w="1489" h="1093">
                <a:moveTo>
                  <a:pt x="4837" y="16049"/>
                </a:moveTo>
                <a:cubicBezTo>
                  <a:pt x="4862" y="16065"/>
                  <a:pt x="4886" y="16082"/>
                  <a:pt x="4911" y="16098"/>
                </a:cubicBezTo>
                <a:cubicBezTo>
                  <a:pt x="4911" y="15993"/>
                  <a:pt x="4933" y="15864"/>
                  <a:pt x="4887" y="15776"/>
                </a:cubicBezTo>
                <a:cubicBezTo>
                  <a:pt x="4847" y="15700"/>
                  <a:pt x="4806" y="15679"/>
                  <a:pt x="4713" y="15701"/>
                </a:cubicBezTo>
                <a:cubicBezTo>
                  <a:pt x="4657" y="15714"/>
                  <a:pt x="4580" y="15762"/>
                  <a:pt x="4539" y="15801"/>
                </a:cubicBezTo>
                <a:cubicBezTo>
                  <a:pt x="4472" y="15864"/>
                  <a:pt x="4462" y="15939"/>
                  <a:pt x="4490" y="16024"/>
                </a:cubicBezTo>
                <a:cubicBezTo>
                  <a:pt x="4507" y="16076"/>
                  <a:pt x="4558" y="16178"/>
                  <a:pt x="4614" y="16197"/>
                </a:cubicBezTo>
                <a:cubicBezTo>
                  <a:pt x="4679" y="16218"/>
                  <a:pt x="4707" y="16222"/>
                  <a:pt x="4762" y="16173"/>
                </a:cubicBezTo>
                <a:cubicBezTo>
                  <a:pt x="4810" y="16130"/>
                  <a:pt x="4833" y="16082"/>
                  <a:pt x="4862" y="16024"/>
                </a:cubicBezTo>
                <a:cubicBezTo>
                  <a:pt x="4900" y="15948"/>
                  <a:pt x="4904" y="15890"/>
                  <a:pt x="4936" y="15825"/>
                </a:cubicBezTo>
                <a:cubicBezTo>
                  <a:pt x="4872" y="15889"/>
                  <a:pt x="4882" y="15914"/>
                  <a:pt x="4862" y="15999"/>
                </a:cubicBezTo>
                <a:cubicBezTo>
                  <a:pt x="4831" y="16133"/>
                  <a:pt x="4756" y="16258"/>
                  <a:pt x="4738" y="16396"/>
                </a:cubicBezTo>
                <a:cubicBezTo>
                  <a:pt x="4724" y="16505"/>
                  <a:pt x="4720" y="16612"/>
                  <a:pt x="4688" y="16718"/>
                </a:cubicBezTo>
                <a:cubicBezTo>
                  <a:pt x="4680" y="16743"/>
                  <a:pt x="4671" y="16768"/>
                  <a:pt x="4663" y="16793"/>
                </a:cubicBezTo>
              </a:path>
              <a:path w="1489" h="1093">
                <a:moveTo>
                  <a:pt x="3969" y="15900"/>
                </a:moveTo>
                <a:cubicBezTo>
                  <a:pt x="4015" y="15946"/>
                  <a:pt x="4059" y="15969"/>
                  <a:pt x="4118" y="15999"/>
                </a:cubicBezTo>
                <a:cubicBezTo>
                  <a:pt x="4167" y="16024"/>
                  <a:pt x="4184" y="16033"/>
                  <a:pt x="4217" y="16049"/>
                </a:cubicBezTo>
              </a:path>
              <a:path w="1489" h="1093">
                <a:moveTo>
                  <a:pt x="5457" y="15949"/>
                </a:moveTo>
                <a:cubicBezTo>
                  <a:pt x="5424" y="16023"/>
                  <a:pt x="5388" y="16098"/>
                  <a:pt x="5358" y="16173"/>
                </a:cubicBezTo>
                <a:cubicBezTo>
                  <a:pt x="5327" y="16253"/>
                  <a:pt x="5333" y="16342"/>
                  <a:pt x="5308" y="16421"/>
                </a:cubicBezTo>
                <a:cubicBezTo>
                  <a:pt x="5289" y="16481"/>
                  <a:pt x="5289" y="16544"/>
                  <a:pt x="5259" y="16594"/>
                </a:cubicBezTo>
              </a:path>
              <a:path w="1489" h="1093">
                <a:moveTo>
                  <a:pt x="5110" y="16197"/>
                </a:moveTo>
                <a:cubicBezTo>
                  <a:pt x="5110" y="16181"/>
                  <a:pt x="5110" y="16164"/>
                  <a:pt x="5110" y="16148"/>
                </a:cubicBezTo>
                <a:cubicBezTo>
                  <a:pt x="5202" y="16156"/>
                  <a:pt x="5270" y="16207"/>
                  <a:pt x="5358" y="16222"/>
                </a:cubicBezTo>
                <a:cubicBezTo>
                  <a:pt x="5383" y="16222"/>
                  <a:pt x="5407" y="16222"/>
                  <a:pt x="5432" y="162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Ink 25"/>
          <p:cNvSpPr/>
          <p:nvPr/>
        </p:nvSpPr>
        <p:spPr>
          <a:xfrm>
            <a:off x="2081160" y="5607000"/>
            <a:ext cx="384120" cy="420840"/>
          </a:xfrm>
          <a:custGeom>
            <a:avLst/>
            <a:gdLst/>
            <a:ahLst/>
            <a:rect l="l" t="t" r="r" b="b"/>
            <a:pathLst>
              <a:path w="1068" h="1167">
                <a:moveTo>
                  <a:pt x="5953" y="15900"/>
                </a:moveTo>
                <a:cubicBezTo>
                  <a:pt x="5901" y="15930"/>
                  <a:pt x="5848" y="15959"/>
                  <a:pt x="5804" y="15999"/>
                </a:cubicBezTo>
                <a:cubicBezTo>
                  <a:pt x="5759" y="16039"/>
                  <a:pt x="5771" y="16106"/>
                  <a:pt x="5804" y="16148"/>
                </a:cubicBezTo>
                <a:cubicBezTo>
                  <a:pt x="5829" y="16179"/>
                  <a:pt x="5913" y="16238"/>
                  <a:pt x="5953" y="16247"/>
                </a:cubicBezTo>
                <a:cubicBezTo>
                  <a:pt x="6038" y="16267"/>
                  <a:pt x="6126" y="16161"/>
                  <a:pt x="6176" y="16123"/>
                </a:cubicBezTo>
              </a:path>
              <a:path w="1068" h="1167">
                <a:moveTo>
                  <a:pt x="6276" y="15577"/>
                </a:moveTo>
                <a:cubicBezTo>
                  <a:pt x="6218" y="15654"/>
                  <a:pt x="6214" y="15729"/>
                  <a:pt x="6176" y="15825"/>
                </a:cubicBezTo>
                <a:cubicBezTo>
                  <a:pt x="6125" y="15951"/>
                  <a:pt x="6088" y="16090"/>
                  <a:pt x="6052" y="16222"/>
                </a:cubicBezTo>
                <a:cubicBezTo>
                  <a:pt x="6023" y="16328"/>
                  <a:pt x="6017" y="16417"/>
                  <a:pt x="5978" y="16520"/>
                </a:cubicBezTo>
                <a:cubicBezTo>
                  <a:pt x="5955" y="16580"/>
                  <a:pt x="5953" y="16609"/>
                  <a:pt x="5953" y="16669"/>
                </a:cubicBezTo>
              </a:path>
              <a:path w="1068" h="1167">
                <a:moveTo>
                  <a:pt x="6524" y="15925"/>
                </a:moveTo>
                <a:cubicBezTo>
                  <a:pt x="6481" y="15992"/>
                  <a:pt x="6430" y="16047"/>
                  <a:pt x="6400" y="16123"/>
                </a:cubicBezTo>
                <a:cubicBezTo>
                  <a:pt x="6361" y="16223"/>
                  <a:pt x="6350" y="16288"/>
                  <a:pt x="6350" y="16396"/>
                </a:cubicBezTo>
                <a:cubicBezTo>
                  <a:pt x="6350" y="16478"/>
                  <a:pt x="6341" y="16600"/>
                  <a:pt x="6400" y="16669"/>
                </a:cubicBezTo>
                <a:cubicBezTo>
                  <a:pt x="6464" y="16743"/>
                  <a:pt x="6500" y="16754"/>
                  <a:pt x="6598" y="16718"/>
                </a:cubicBezTo>
                <a:cubicBezTo>
                  <a:pt x="6656" y="16697"/>
                  <a:pt x="6748" y="16575"/>
                  <a:pt x="6772" y="16520"/>
                </a:cubicBezTo>
                <a:cubicBezTo>
                  <a:pt x="6816" y="16422"/>
                  <a:pt x="6837" y="16277"/>
                  <a:pt x="6846" y="16173"/>
                </a:cubicBezTo>
                <a:cubicBezTo>
                  <a:pt x="6857" y="16051"/>
                  <a:pt x="6837" y="15941"/>
                  <a:pt x="6821" y="15825"/>
                </a:cubicBezTo>
                <a:cubicBezTo>
                  <a:pt x="6814" y="15774"/>
                  <a:pt x="6800" y="15652"/>
                  <a:pt x="6722" y="15652"/>
                </a:cubicBezTo>
                <a:cubicBezTo>
                  <a:pt x="6650" y="15652"/>
                  <a:pt x="6597" y="15717"/>
                  <a:pt x="6573" y="15776"/>
                </a:cubicBezTo>
                <a:cubicBezTo>
                  <a:pt x="6534" y="15871"/>
                  <a:pt x="6548" y="15972"/>
                  <a:pt x="6548" y="16073"/>
                </a:cubicBezTo>
                <a:cubicBezTo>
                  <a:pt x="6548" y="16098"/>
                  <a:pt x="6548" y="16123"/>
                  <a:pt x="6548" y="161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Ink 26"/>
          <p:cNvSpPr/>
          <p:nvPr/>
        </p:nvSpPr>
        <p:spPr>
          <a:xfrm>
            <a:off x="2598840" y="5581800"/>
            <a:ext cx="133200" cy="428400"/>
          </a:xfrm>
          <a:custGeom>
            <a:avLst/>
            <a:gdLst/>
            <a:ahLst/>
            <a:rect l="l" t="t" r="r" b="b"/>
            <a:pathLst>
              <a:path w="373" h="1192">
                <a:moveTo>
                  <a:pt x="7268" y="16173"/>
                </a:moveTo>
                <a:cubicBezTo>
                  <a:pt x="7245" y="16241"/>
                  <a:pt x="7222" y="16304"/>
                  <a:pt x="7218" y="16371"/>
                </a:cubicBezTo>
                <a:cubicBezTo>
                  <a:pt x="7213" y="16454"/>
                  <a:pt x="7277" y="16516"/>
                  <a:pt x="7293" y="16594"/>
                </a:cubicBezTo>
                <a:cubicBezTo>
                  <a:pt x="7301" y="16630"/>
                  <a:pt x="7317" y="16734"/>
                  <a:pt x="7392" y="16694"/>
                </a:cubicBezTo>
                <a:cubicBezTo>
                  <a:pt x="7438" y="16647"/>
                  <a:pt x="7452" y="16635"/>
                  <a:pt x="7466" y="16594"/>
                </a:cubicBezTo>
              </a:path>
              <a:path w="373" h="1192">
                <a:moveTo>
                  <a:pt x="7590" y="15677"/>
                </a:moveTo>
                <a:cubicBezTo>
                  <a:pt x="7570" y="15626"/>
                  <a:pt x="7552" y="15530"/>
                  <a:pt x="7491" y="15577"/>
                </a:cubicBezTo>
                <a:cubicBezTo>
                  <a:pt x="7414" y="15636"/>
                  <a:pt x="7488" y="15669"/>
                  <a:pt x="7541" y="15677"/>
                </a:cubicBezTo>
                <a:cubicBezTo>
                  <a:pt x="7565" y="15652"/>
                  <a:pt x="7573" y="15644"/>
                  <a:pt x="7541" y="15627"/>
                </a:cubicBezTo>
                <a:cubicBezTo>
                  <a:pt x="7456" y="15603"/>
                  <a:pt x="7434" y="15650"/>
                  <a:pt x="7516" y="15677"/>
                </a:cubicBezTo>
                <a:cubicBezTo>
                  <a:pt x="7588" y="15635"/>
                  <a:pt x="7616" y="15612"/>
                  <a:pt x="7565" y="15528"/>
                </a:cubicBezTo>
                <a:cubicBezTo>
                  <a:pt x="7535" y="15478"/>
                  <a:pt x="7435" y="15501"/>
                  <a:pt x="7417" y="15553"/>
                </a:cubicBezTo>
                <a:cubicBezTo>
                  <a:pt x="7417" y="15569"/>
                  <a:pt x="7417" y="15586"/>
                  <a:pt x="7417" y="156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iv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divide, multiply top and bottom b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jug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bot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(2 + i)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Ink 4"/>
          <p:cNvSpPr/>
          <p:nvPr/>
        </p:nvSpPr>
        <p:spPr>
          <a:xfrm>
            <a:off x="1928880" y="3160800"/>
            <a:ext cx="6384960" cy="1455480"/>
          </a:xfrm>
          <a:custGeom>
            <a:avLst/>
            <a:gdLst/>
            <a:ahLst/>
            <a:rect l="l" t="t" r="r" b="b"/>
            <a:pathLst>
              <a:path w="17736" h="4044">
                <a:moveTo>
                  <a:pt x="6524" y="10294"/>
                </a:moveTo>
                <a:cubicBezTo>
                  <a:pt x="6498" y="10371"/>
                  <a:pt x="6499" y="10434"/>
                  <a:pt x="6499" y="10517"/>
                </a:cubicBezTo>
                <a:cubicBezTo>
                  <a:pt x="6499" y="10613"/>
                  <a:pt x="6485" y="10701"/>
                  <a:pt x="6474" y="10790"/>
                </a:cubicBezTo>
                <a:cubicBezTo>
                  <a:pt x="6464" y="10872"/>
                  <a:pt x="6453" y="10957"/>
                  <a:pt x="6449" y="11038"/>
                </a:cubicBezTo>
                <a:cubicBezTo>
                  <a:pt x="6445" y="11112"/>
                  <a:pt x="6449" y="11187"/>
                  <a:pt x="6449" y="11261"/>
                </a:cubicBezTo>
              </a:path>
              <a:path w="17736" h="4044">
                <a:moveTo>
                  <a:pt x="5358" y="11237"/>
                </a:moveTo>
                <a:cubicBezTo>
                  <a:pt x="5502" y="11237"/>
                  <a:pt x="5638" y="11249"/>
                  <a:pt x="5779" y="11261"/>
                </a:cubicBezTo>
                <a:cubicBezTo>
                  <a:pt x="6391" y="11312"/>
                  <a:pt x="7059" y="11283"/>
                  <a:pt x="7665" y="11237"/>
                </a:cubicBezTo>
                <a:cubicBezTo>
                  <a:pt x="7717" y="11233"/>
                  <a:pt x="7991" y="11202"/>
                  <a:pt x="7888" y="11237"/>
                </a:cubicBezTo>
                <a:cubicBezTo>
                  <a:pt x="7871" y="11245"/>
                  <a:pt x="7855" y="11253"/>
                  <a:pt x="7838" y="11261"/>
                </a:cubicBezTo>
              </a:path>
              <a:path w="17736" h="4044">
                <a:moveTo>
                  <a:pt x="5978" y="11733"/>
                </a:moveTo>
                <a:cubicBezTo>
                  <a:pt x="5987" y="11673"/>
                  <a:pt x="6020" y="11592"/>
                  <a:pt x="6052" y="11534"/>
                </a:cubicBezTo>
                <a:cubicBezTo>
                  <a:pt x="6086" y="11473"/>
                  <a:pt x="6174" y="11458"/>
                  <a:pt x="6226" y="11485"/>
                </a:cubicBezTo>
                <a:cubicBezTo>
                  <a:pt x="6278" y="11512"/>
                  <a:pt x="6301" y="11585"/>
                  <a:pt x="6325" y="11633"/>
                </a:cubicBezTo>
                <a:cubicBezTo>
                  <a:pt x="6364" y="11710"/>
                  <a:pt x="6392" y="11793"/>
                  <a:pt x="6375" y="11881"/>
                </a:cubicBezTo>
                <a:cubicBezTo>
                  <a:pt x="6347" y="12027"/>
                  <a:pt x="6298" y="12145"/>
                  <a:pt x="6226" y="12278"/>
                </a:cubicBezTo>
                <a:cubicBezTo>
                  <a:pt x="6172" y="12378"/>
                  <a:pt x="6109" y="12426"/>
                  <a:pt x="6028" y="12502"/>
                </a:cubicBezTo>
                <a:cubicBezTo>
                  <a:pt x="5979" y="12548"/>
                  <a:pt x="5904" y="12618"/>
                  <a:pt x="5829" y="12601"/>
                </a:cubicBezTo>
                <a:cubicBezTo>
                  <a:pt x="5709" y="12574"/>
                  <a:pt x="5769" y="12453"/>
                  <a:pt x="5779" y="12378"/>
                </a:cubicBezTo>
                <a:cubicBezTo>
                  <a:pt x="5784" y="12338"/>
                  <a:pt x="5801" y="12269"/>
                  <a:pt x="5854" y="12254"/>
                </a:cubicBezTo>
                <a:cubicBezTo>
                  <a:pt x="5910" y="12239"/>
                  <a:pt x="5974" y="12283"/>
                  <a:pt x="6003" y="12328"/>
                </a:cubicBezTo>
                <a:cubicBezTo>
                  <a:pt x="6058" y="12414"/>
                  <a:pt x="6088" y="12527"/>
                  <a:pt x="6102" y="12626"/>
                </a:cubicBezTo>
                <a:cubicBezTo>
                  <a:pt x="6109" y="12678"/>
                  <a:pt x="6113" y="12784"/>
                  <a:pt x="6152" y="12824"/>
                </a:cubicBezTo>
                <a:cubicBezTo>
                  <a:pt x="6160" y="12824"/>
                  <a:pt x="6168" y="12824"/>
                  <a:pt x="6176" y="12824"/>
                </a:cubicBezTo>
              </a:path>
              <a:path w="17736" h="4044">
                <a:moveTo>
                  <a:pt x="6796" y="11832"/>
                </a:moveTo>
                <a:cubicBezTo>
                  <a:pt x="6821" y="11921"/>
                  <a:pt x="6821" y="11987"/>
                  <a:pt x="6821" y="12080"/>
                </a:cubicBezTo>
                <a:cubicBezTo>
                  <a:pt x="6821" y="12249"/>
                  <a:pt x="6819" y="12415"/>
                  <a:pt x="6846" y="12576"/>
                </a:cubicBezTo>
                <a:cubicBezTo>
                  <a:pt x="6846" y="12618"/>
                  <a:pt x="6846" y="12643"/>
                  <a:pt x="6846" y="12601"/>
                </a:cubicBezTo>
              </a:path>
              <a:path w="17736" h="4044">
                <a:moveTo>
                  <a:pt x="6573" y="12080"/>
                </a:moveTo>
                <a:cubicBezTo>
                  <a:pt x="6750" y="12080"/>
                  <a:pt x="6923" y="12087"/>
                  <a:pt x="7094" y="12055"/>
                </a:cubicBezTo>
                <a:cubicBezTo>
                  <a:pt x="7102" y="12055"/>
                  <a:pt x="7111" y="12055"/>
                  <a:pt x="7119" y="12055"/>
                </a:cubicBezTo>
              </a:path>
              <a:path w="17736" h="4044">
                <a:moveTo>
                  <a:pt x="7466" y="12005"/>
                </a:moveTo>
                <a:cubicBezTo>
                  <a:pt x="7457" y="12074"/>
                  <a:pt x="7445" y="12140"/>
                  <a:pt x="7417" y="12204"/>
                </a:cubicBezTo>
                <a:cubicBezTo>
                  <a:pt x="7390" y="12266"/>
                  <a:pt x="7371" y="12334"/>
                  <a:pt x="7367" y="12402"/>
                </a:cubicBezTo>
                <a:cubicBezTo>
                  <a:pt x="7363" y="12472"/>
                  <a:pt x="7352" y="12554"/>
                  <a:pt x="7417" y="12601"/>
                </a:cubicBezTo>
                <a:cubicBezTo>
                  <a:pt x="7489" y="12653"/>
                  <a:pt x="7522" y="12658"/>
                  <a:pt x="7590" y="12650"/>
                </a:cubicBezTo>
                <a:cubicBezTo>
                  <a:pt x="7642" y="12650"/>
                  <a:pt x="7659" y="12649"/>
                  <a:pt x="7665" y="12601"/>
                </a:cubicBezTo>
              </a:path>
              <a:path w="17736" h="4044">
                <a:moveTo>
                  <a:pt x="7516" y="11633"/>
                </a:moveTo>
                <a:cubicBezTo>
                  <a:pt x="7458" y="11666"/>
                  <a:pt x="7410" y="11667"/>
                  <a:pt x="7491" y="11683"/>
                </a:cubicBezTo>
                <a:cubicBezTo>
                  <a:pt x="7548" y="11667"/>
                  <a:pt x="7626" y="11593"/>
                  <a:pt x="7516" y="11559"/>
                </a:cubicBezTo>
                <a:cubicBezTo>
                  <a:pt x="7471" y="11559"/>
                  <a:pt x="7458" y="11556"/>
                  <a:pt x="7441" y="11584"/>
                </a:cubicBezTo>
                <a:cubicBezTo>
                  <a:pt x="7410" y="11665"/>
                  <a:pt x="7466" y="11678"/>
                  <a:pt x="7541" y="11633"/>
                </a:cubicBezTo>
                <a:cubicBezTo>
                  <a:pt x="7621" y="11584"/>
                  <a:pt x="7541" y="11537"/>
                  <a:pt x="7491" y="11534"/>
                </a:cubicBezTo>
                <a:cubicBezTo>
                  <a:pt x="7449" y="11534"/>
                  <a:pt x="7433" y="11526"/>
                  <a:pt x="7441" y="11559"/>
                </a:cubicBezTo>
              </a:path>
              <a:path w="17736" h="4044">
                <a:moveTo>
                  <a:pt x="8706" y="11237"/>
                </a:moveTo>
                <a:cubicBezTo>
                  <a:pt x="8797" y="11207"/>
                  <a:pt x="8881" y="11212"/>
                  <a:pt x="8979" y="11212"/>
                </a:cubicBezTo>
                <a:cubicBezTo>
                  <a:pt x="9418" y="11212"/>
                  <a:pt x="9860" y="11223"/>
                  <a:pt x="10294" y="11187"/>
                </a:cubicBezTo>
                <a:cubicBezTo>
                  <a:pt x="10421" y="11177"/>
                  <a:pt x="10572" y="11218"/>
                  <a:pt x="10691" y="11162"/>
                </a:cubicBezTo>
                <a:cubicBezTo>
                  <a:pt x="10778" y="11121"/>
                  <a:pt x="10625" y="11137"/>
                  <a:pt x="10616" y="11137"/>
                </a:cubicBezTo>
              </a:path>
              <a:path w="17736" h="4044">
                <a:moveTo>
                  <a:pt x="8979" y="11733"/>
                </a:moveTo>
                <a:cubicBezTo>
                  <a:pt x="9003" y="11702"/>
                  <a:pt x="9036" y="11621"/>
                  <a:pt x="9079" y="11609"/>
                </a:cubicBezTo>
                <a:cubicBezTo>
                  <a:pt x="9147" y="11590"/>
                  <a:pt x="9144" y="11572"/>
                  <a:pt x="9203" y="11534"/>
                </a:cubicBezTo>
                <a:cubicBezTo>
                  <a:pt x="9266" y="11493"/>
                  <a:pt x="9355" y="11536"/>
                  <a:pt x="9376" y="11609"/>
                </a:cubicBezTo>
                <a:cubicBezTo>
                  <a:pt x="9395" y="11672"/>
                  <a:pt x="9414" y="11763"/>
                  <a:pt x="9401" y="11832"/>
                </a:cubicBezTo>
                <a:cubicBezTo>
                  <a:pt x="9383" y="11924"/>
                  <a:pt x="9357" y="12014"/>
                  <a:pt x="9327" y="12105"/>
                </a:cubicBezTo>
                <a:cubicBezTo>
                  <a:pt x="9290" y="12215"/>
                  <a:pt x="9259" y="12293"/>
                  <a:pt x="9178" y="12378"/>
                </a:cubicBezTo>
                <a:cubicBezTo>
                  <a:pt x="9133" y="12425"/>
                  <a:pt x="9046" y="12490"/>
                  <a:pt x="8979" y="12502"/>
                </a:cubicBezTo>
                <a:cubicBezTo>
                  <a:pt x="8903" y="12515"/>
                  <a:pt x="8827" y="12455"/>
                  <a:pt x="8806" y="12378"/>
                </a:cubicBezTo>
                <a:cubicBezTo>
                  <a:pt x="8794" y="12335"/>
                  <a:pt x="8794" y="12222"/>
                  <a:pt x="8855" y="12204"/>
                </a:cubicBezTo>
                <a:cubicBezTo>
                  <a:pt x="8939" y="12180"/>
                  <a:pt x="8975" y="12225"/>
                  <a:pt x="9029" y="12278"/>
                </a:cubicBezTo>
                <a:cubicBezTo>
                  <a:pt x="9082" y="12330"/>
                  <a:pt x="9137" y="12391"/>
                  <a:pt x="9178" y="12452"/>
                </a:cubicBezTo>
                <a:cubicBezTo>
                  <a:pt x="9223" y="12520"/>
                  <a:pt x="9226" y="12562"/>
                  <a:pt x="9277" y="12626"/>
                </a:cubicBezTo>
              </a:path>
              <a:path w="17736" h="4044">
                <a:moveTo>
                  <a:pt x="9624" y="12030"/>
                </a:moveTo>
                <a:cubicBezTo>
                  <a:pt x="9705" y="12008"/>
                  <a:pt x="9764" y="12005"/>
                  <a:pt x="9847" y="12005"/>
                </a:cubicBezTo>
                <a:cubicBezTo>
                  <a:pt x="9888" y="12005"/>
                  <a:pt x="9930" y="12005"/>
                  <a:pt x="9971" y="12005"/>
                </a:cubicBezTo>
              </a:path>
              <a:path w="17736" h="4044">
                <a:moveTo>
                  <a:pt x="10269" y="11906"/>
                </a:moveTo>
                <a:cubicBezTo>
                  <a:pt x="10248" y="11978"/>
                  <a:pt x="10225" y="12089"/>
                  <a:pt x="10195" y="12154"/>
                </a:cubicBezTo>
                <a:cubicBezTo>
                  <a:pt x="10162" y="12224"/>
                  <a:pt x="10145" y="12244"/>
                  <a:pt x="10145" y="12328"/>
                </a:cubicBezTo>
                <a:cubicBezTo>
                  <a:pt x="10145" y="12389"/>
                  <a:pt x="10166" y="12442"/>
                  <a:pt x="10220" y="12477"/>
                </a:cubicBezTo>
                <a:cubicBezTo>
                  <a:pt x="10277" y="12514"/>
                  <a:pt x="10301" y="12526"/>
                  <a:pt x="10368" y="12526"/>
                </a:cubicBezTo>
              </a:path>
              <a:path w="17736" h="4044">
                <a:moveTo>
                  <a:pt x="10344" y="11584"/>
                </a:moveTo>
                <a:cubicBezTo>
                  <a:pt x="10336" y="11592"/>
                  <a:pt x="10327" y="11601"/>
                  <a:pt x="10319" y="11609"/>
                </a:cubicBezTo>
                <a:cubicBezTo>
                  <a:pt x="10356" y="11631"/>
                  <a:pt x="10424" y="11651"/>
                  <a:pt x="10443" y="11584"/>
                </a:cubicBezTo>
                <a:cubicBezTo>
                  <a:pt x="10473" y="11478"/>
                  <a:pt x="10367" y="11516"/>
                  <a:pt x="10319" y="11534"/>
                </a:cubicBezTo>
                <a:cubicBezTo>
                  <a:pt x="10397" y="11573"/>
                  <a:pt x="10350" y="11521"/>
                  <a:pt x="10319" y="11460"/>
                </a:cubicBezTo>
              </a:path>
              <a:path w="17736" h="4044">
                <a:moveTo>
                  <a:pt x="8731" y="9971"/>
                </a:moveTo>
                <a:cubicBezTo>
                  <a:pt x="8707" y="10031"/>
                  <a:pt x="8703" y="10169"/>
                  <a:pt x="8682" y="10071"/>
                </a:cubicBezTo>
                <a:cubicBezTo>
                  <a:pt x="8669" y="10011"/>
                  <a:pt x="8690" y="9951"/>
                  <a:pt x="8706" y="9897"/>
                </a:cubicBezTo>
                <a:cubicBezTo>
                  <a:pt x="8729" y="9820"/>
                  <a:pt x="8732" y="9763"/>
                  <a:pt x="8781" y="9699"/>
                </a:cubicBezTo>
                <a:cubicBezTo>
                  <a:pt x="8815" y="9655"/>
                  <a:pt x="8921" y="9656"/>
                  <a:pt x="8954" y="9699"/>
                </a:cubicBezTo>
                <a:cubicBezTo>
                  <a:pt x="8984" y="9738"/>
                  <a:pt x="9022" y="9851"/>
                  <a:pt x="9029" y="9897"/>
                </a:cubicBezTo>
                <a:cubicBezTo>
                  <a:pt x="9050" y="10035"/>
                  <a:pt x="9030" y="10210"/>
                  <a:pt x="9004" y="10344"/>
                </a:cubicBezTo>
                <a:cubicBezTo>
                  <a:pt x="8981" y="10462"/>
                  <a:pt x="8924" y="10535"/>
                  <a:pt x="8880" y="10641"/>
                </a:cubicBezTo>
                <a:cubicBezTo>
                  <a:pt x="8854" y="10703"/>
                  <a:pt x="8797" y="10820"/>
                  <a:pt x="8706" y="10815"/>
                </a:cubicBezTo>
                <a:cubicBezTo>
                  <a:pt x="8594" y="10809"/>
                  <a:pt x="8586" y="10723"/>
                  <a:pt x="8582" y="10641"/>
                </a:cubicBezTo>
                <a:cubicBezTo>
                  <a:pt x="8580" y="10588"/>
                  <a:pt x="8563" y="10546"/>
                  <a:pt x="8607" y="10517"/>
                </a:cubicBezTo>
                <a:cubicBezTo>
                  <a:pt x="8693" y="10460"/>
                  <a:pt x="8774" y="10534"/>
                  <a:pt x="8830" y="10567"/>
                </a:cubicBezTo>
                <a:cubicBezTo>
                  <a:pt x="8901" y="10609"/>
                  <a:pt x="8923" y="10651"/>
                  <a:pt x="8954" y="10716"/>
                </a:cubicBezTo>
                <a:cubicBezTo>
                  <a:pt x="8960" y="10729"/>
                  <a:pt x="9029" y="10846"/>
                  <a:pt x="9054" y="10840"/>
                </a:cubicBezTo>
                <a:cubicBezTo>
                  <a:pt x="9054" y="10832"/>
                  <a:pt x="9054" y="10823"/>
                  <a:pt x="9054" y="10815"/>
                </a:cubicBezTo>
              </a:path>
              <a:path w="17736" h="4044">
                <a:moveTo>
                  <a:pt x="9376" y="10368"/>
                </a:moveTo>
                <a:cubicBezTo>
                  <a:pt x="9492" y="10368"/>
                  <a:pt x="9615" y="10384"/>
                  <a:pt x="9723" y="10344"/>
                </a:cubicBezTo>
              </a:path>
              <a:path w="17736" h="4044">
                <a:moveTo>
                  <a:pt x="10021" y="10269"/>
                </a:moveTo>
                <a:cubicBezTo>
                  <a:pt x="9998" y="10344"/>
                  <a:pt x="9966" y="10415"/>
                  <a:pt x="9947" y="10492"/>
                </a:cubicBezTo>
                <a:cubicBezTo>
                  <a:pt x="9933" y="10550"/>
                  <a:pt x="9899" y="10628"/>
                  <a:pt x="9922" y="10691"/>
                </a:cubicBezTo>
                <a:cubicBezTo>
                  <a:pt x="9942" y="10747"/>
                  <a:pt x="9964" y="10781"/>
                  <a:pt x="10021" y="10815"/>
                </a:cubicBezTo>
                <a:cubicBezTo>
                  <a:pt x="10100" y="10862"/>
                  <a:pt x="10155" y="10842"/>
                  <a:pt x="10220" y="10790"/>
                </a:cubicBezTo>
              </a:path>
              <a:path w="17736" h="4044">
                <a:moveTo>
                  <a:pt x="10021" y="9773"/>
                </a:moveTo>
                <a:cubicBezTo>
                  <a:pt x="9927" y="9800"/>
                  <a:pt x="9934" y="9824"/>
                  <a:pt x="9996" y="9897"/>
                </a:cubicBezTo>
                <a:cubicBezTo>
                  <a:pt x="10007" y="9894"/>
                  <a:pt x="10156" y="9819"/>
                  <a:pt x="10096" y="9773"/>
                </a:cubicBezTo>
                <a:cubicBezTo>
                  <a:pt x="10079" y="9760"/>
                  <a:pt x="9996" y="9773"/>
                  <a:pt x="9971" y="9773"/>
                </a:cubicBezTo>
                <a:cubicBezTo>
                  <a:pt x="9948" y="9821"/>
                  <a:pt x="9938" y="9838"/>
                  <a:pt x="9996" y="9823"/>
                </a:cubicBezTo>
              </a:path>
              <a:path w="17736" h="4044">
                <a:moveTo>
                  <a:pt x="11212" y="10840"/>
                </a:moveTo>
                <a:cubicBezTo>
                  <a:pt x="11300" y="10840"/>
                  <a:pt x="11376" y="10855"/>
                  <a:pt x="11460" y="10864"/>
                </a:cubicBezTo>
                <a:cubicBezTo>
                  <a:pt x="11528" y="10871"/>
                  <a:pt x="11591" y="10881"/>
                  <a:pt x="11658" y="10889"/>
                </a:cubicBezTo>
              </a:path>
              <a:path w="17736" h="4044">
                <a:moveTo>
                  <a:pt x="11286" y="11137"/>
                </a:moveTo>
                <a:cubicBezTo>
                  <a:pt x="11418" y="11189"/>
                  <a:pt x="11495" y="11212"/>
                  <a:pt x="11633" y="11212"/>
                </a:cubicBezTo>
              </a:path>
              <a:path w="17736" h="4044">
                <a:moveTo>
                  <a:pt x="12799" y="9674"/>
                </a:moveTo>
                <a:cubicBezTo>
                  <a:pt x="12795" y="9727"/>
                  <a:pt x="12754" y="9799"/>
                  <a:pt x="12750" y="9823"/>
                </a:cubicBezTo>
                <a:cubicBezTo>
                  <a:pt x="12750" y="9881"/>
                  <a:pt x="12766" y="9905"/>
                  <a:pt x="12725" y="9897"/>
                </a:cubicBezTo>
                <a:cubicBezTo>
                  <a:pt x="12746" y="9833"/>
                  <a:pt x="12784" y="9814"/>
                  <a:pt x="12799" y="9748"/>
                </a:cubicBezTo>
                <a:cubicBezTo>
                  <a:pt x="12817" y="9668"/>
                  <a:pt x="12840" y="9661"/>
                  <a:pt x="12874" y="9599"/>
                </a:cubicBezTo>
                <a:cubicBezTo>
                  <a:pt x="12882" y="9583"/>
                  <a:pt x="12890" y="9566"/>
                  <a:pt x="12898" y="9550"/>
                </a:cubicBezTo>
                <a:cubicBezTo>
                  <a:pt x="12988" y="9572"/>
                  <a:pt x="13016" y="9586"/>
                  <a:pt x="13047" y="9674"/>
                </a:cubicBezTo>
                <a:cubicBezTo>
                  <a:pt x="13076" y="9755"/>
                  <a:pt x="13072" y="9836"/>
                  <a:pt x="13072" y="9922"/>
                </a:cubicBezTo>
                <a:cubicBezTo>
                  <a:pt x="13072" y="10066"/>
                  <a:pt x="13040" y="10216"/>
                  <a:pt x="12973" y="10344"/>
                </a:cubicBezTo>
                <a:cubicBezTo>
                  <a:pt x="12917" y="10451"/>
                  <a:pt x="12836" y="10542"/>
                  <a:pt x="12774" y="10641"/>
                </a:cubicBezTo>
                <a:cubicBezTo>
                  <a:pt x="12732" y="10708"/>
                  <a:pt x="12687" y="10792"/>
                  <a:pt x="12601" y="10815"/>
                </a:cubicBezTo>
                <a:cubicBezTo>
                  <a:pt x="12545" y="10830"/>
                  <a:pt x="12482" y="10785"/>
                  <a:pt x="12452" y="10740"/>
                </a:cubicBezTo>
                <a:cubicBezTo>
                  <a:pt x="12401" y="10661"/>
                  <a:pt x="12405" y="10580"/>
                  <a:pt x="12402" y="10492"/>
                </a:cubicBezTo>
                <a:cubicBezTo>
                  <a:pt x="12399" y="10416"/>
                  <a:pt x="12407" y="10398"/>
                  <a:pt x="12452" y="10344"/>
                </a:cubicBezTo>
                <a:cubicBezTo>
                  <a:pt x="12516" y="10379"/>
                  <a:pt x="12602" y="10402"/>
                  <a:pt x="12650" y="10443"/>
                </a:cubicBezTo>
                <a:cubicBezTo>
                  <a:pt x="12710" y="10494"/>
                  <a:pt x="12767" y="10536"/>
                  <a:pt x="12824" y="10592"/>
                </a:cubicBezTo>
                <a:cubicBezTo>
                  <a:pt x="12886" y="10653"/>
                  <a:pt x="12916" y="10641"/>
                  <a:pt x="12998" y="10641"/>
                </a:cubicBezTo>
              </a:path>
              <a:path w="17736" h="4044">
                <a:moveTo>
                  <a:pt x="13345" y="10195"/>
                </a:moveTo>
                <a:cubicBezTo>
                  <a:pt x="13452" y="10195"/>
                  <a:pt x="13560" y="10195"/>
                  <a:pt x="13667" y="10195"/>
                </a:cubicBezTo>
              </a:path>
              <a:path w="17736" h="4044">
                <a:moveTo>
                  <a:pt x="13915" y="10145"/>
                </a:moveTo>
                <a:cubicBezTo>
                  <a:pt x="13907" y="10239"/>
                  <a:pt x="13877" y="10286"/>
                  <a:pt x="13841" y="10368"/>
                </a:cubicBezTo>
                <a:cubicBezTo>
                  <a:pt x="13806" y="10449"/>
                  <a:pt x="13791" y="10505"/>
                  <a:pt x="13791" y="10592"/>
                </a:cubicBezTo>
                <a:cubicBezTo>
                  <a:pt x="13791" y="10661"/>
                  <a:pt x="13782" y="10740"/>
                  <a:pt x="13841" y="10790"/>
                </a:cubicBezTo>
                <a:cubicBezTo>
                  <a:pt x="13896" y="10837"/>
                  <a:pt x="14007" y="10836"/>
                  <a:pt x="14064" y="10815"/>
                </a:cubicBezTo>
                <a:cubicBezTo>
                  <a:pt x="14081" y="10807"/>
                  <a:pt x="14097" y="10798"/>
                  <a:pt x="14114" y="10790"/>
                </a:cubicBezTo>
              </a:path>
              <a:path w="17736" h="4044">
                <a:moveTo>
                  <a:pt x="13965" y="9550"/>
                </a:moveTo>
                <a:cubicBezTo>
                  <a:pt x="13904" y="9602"/>
                  <a:pt x="13890" y="9584"/>
                  <a:pt x="13915" y="9624"/>
                </a:cubicBezTo>
                <a:cubicBezTo>
                  <a:pt x="13991" y="9613"/>
                  <a:pt x="13979" y="9626"/>
                  <a:pt x="13990" y="9550"/>
                </a:cubicBezTo>
                <a:cubicBezTo>
                  <a:pt x="13965" y="9538"/>
                  <a:pt x="13865" y="9525"/>
                  <a:pt x="13866" y="9599"/>
                </a:cubicBezTo>
                <a:cubicBezTo>
                  <a:pt x="13874" y="9599"/>
                  <a:pt x="13883" y="9599"/>
                  <a:pt x="13891" y="9599"/>
                </a:cubicBezTo>
              </a:path>
              <a:path w="17736" h="4044">
                <a:moveTo>
                  <a:pt x="12278" y="10889"/>
                </a:moveTo>
                <a:cubicBezTo>
                  <a:pt x="12352" y="10926"/>
                  <a:pt x="12417" y="10900"/>
                  <a:pt x="12502" y="10914"/>
                </a:cubicBezTo>
                <a:cubicBezTo>
                  <a:pt x="12653" y="10938"/>
                  <a:pt x="12797" y="10923"/>
                  <a:pt x="12948" y="10939"/>
                </a:cubicBezTo>
                <a:cubicBezTo>
                  <a:pt x="13148" y="10960"/>
                  <a:pt x="13341" y="10964"/>
                  <a:pt x="13543" y="10964"/>
                </a:cubicBezTo>
                <a:cubicBezTo>
                  <a:pt x="13798" y="10964"/>
                  <a:pt x="14066" y="10980"/>
                  <a:pt x="14312" y="10939"/>
                </a:cubicBezTo>
                <a:cubicBezTo>
                  <a:pt x="14362" y="10939"/>
                  <a:pt x="14379" y="10939"/>
                  <a:pt x="14312" y="10939"/>
                </a:cubicBezTo>
              </a:path>
              <a:path w="17736" h="4044">
                <a:moveTo>
                  <a:pt x="5482" y="11733"/>
                </a:moveTo>
                <a:cubicBezTo>
                  <a:pt x="5440" y="11838"/>
                  <a:pt x="5392" y="11961"/>
                  <a:pt x="5407" y="12080"/>
                </a:cubicBezTo>
                <a:cubicBezTo>
                  <a:pt x="5422" y="12199"/>
                  <a:pt x="5477" y="12248"/>
                  <a:pt x="5556" y="12328"/>
                </a:cubicBezTo>
              </a:path>
              <a:path w="17736" h="4044">
                <a:moveTo>
                  <a:pt x="7888" y="11410"/>
                </a:moveTo>
                <a:cubicBezTo>
                  <a:pt x="7966" y="11550"/>
                  <a:pt x="8044" y="11693"/>
                  <a:pt x="8062" y="11857"/>
                </a:cubicBezTo>
                <a:cubicBezTo>
                  <a:pt x="8079" y="12007"/>
                  <a:pt x="8066" y="12186"/>
                  <a:pt x="8012" y="12328"/>
                </a:cubicBezTo>
                <a:cubicBezTo>
                  <a:pt x="7970" y="12439"/>
                  <a:pt x="7893" y="12540"/>
                  <a:pt x="7813" y="12626"/>
                </a:cubicBezTo>
                <a:cubicBezTo>
                  <a:pt x="7786" y="12656"/>
                  <a:pt x="7775" y="12666"/>
                  <a:pt x="7739" y="12675"/>
                </a:cubicBezTo>
              </a:path>
              <a:path w="17736" h="4044">
                <a:moveTo>
                  <a:pt x="8558" y="11509"/>
                </a:moveTo>
                <a:cubicBezTo>
                  <a:pt x="8484" y="11650"/>
                  <a:pt x="8439" y="11747"/>
                  <a:pt x="8434" y="11906"/>
                </a:cubicBezTo>
                <a:cubicBezTo>
                  <a:pt x="8430" y="12033"/>
                  <a:pt x="8491" y="12125"/>
                  <a:pt x="8558" y="12229"/>
                </a:cubicBezTo>
                <a:cubicBezTo>
                  <a:pt x="8607" y="12303"/>
                  <a:pt x="8624" y="12328"/>
                  <a:pt x="8682" y="12353"/>
                </a:cubicBezTo>
              </a:path>
              <a:path w="17736" h="4044">
                <a:moveTo>
                  <a:pt x="10517" y="11361"/>
                </a:moveTo>
                <a:cubicBezTo>
                  <a:pt x="10625" y="11547"/>
                  <a:pt x="10662" y="11662"/>
                  <a:pt x="10666" y="11881"/>
                </a:cubicBezTo>
                <a:cubicBezTo>
                  <a:pt x="10669" y="12052"/>
                  <a:pt x="10625" y="12227"/>
                  <a:pt x="10542" y="12378"/>
                </a:cubicBezTo>
                <a:cubicBezTo>
                  <a:pt x="10496" y="12447"/>
                  <a:pt x="10483" y="12467"/>
                  <a:pt x="10443" y="12502"/>
                </a:cubicBezTo>
              </a:path>
              <a:path w="17736" h="4044">
                <a:moveTo>
                  <a:pt x="12378" y="11261"/>
                </a:moveTo>
                <a:cubicBezTo>
                  <a:pt x="12367" y="11350"/>
                  <a:pt x="12339" y="11393"/>
                  <a:pt x="12278" y="11460"/>
                </a:cubicBezTo>
                <a:cubicBezTo>
                  <a:pt x="12228" y="11515"/>
                  <a:pt x="12229" y="11531"/>
                  <a:pt x="12229" y="11609"/>
                </a:cubicBezTo>
                <a:cubicBezTo>
                  <a:pt x="12308" y="11609"/>
                  <a:pt x="12402" y="11613"/>
                  <a:pt x="12477" y="11633"/>
                </a:cubicBezTo>
                <a:cubicBezTo>
                  <a:pt x="12579" y="11661"/>
                  <a:pt x="12544" y="11666"/>
                  <a:pt x="12650" y="11609"/>
                </a:cubicBezTo>
              </a:path>
              <a:path w="17736" h="4044">
                <a:moveTo>
                  <a:pt x="12725" y="11038"/>
                </a:moveTo>
                <a:cubicBezTo>
                  <a:pt x="12685" y="11157"/>
                  <a:pt x="12638" y="11263"/>
                  <a:pt x="12601" y="11385"/>
                </a:cubicBezTo>
                <a:cubicBezTo>
                  <a:pt x="12559" y="11526"/>
                  <a:pt x="12549" y="11663"/>
                  <a:pt x="12526" y="11807"/>
                </a:cubicBezTo>
                <a:cubicBezTo>
                  <a:pt x="12511" y="11899"/>
                  <a:pt x="12524" y="12016"/>
                  <a:pt x="12502" y="12105"/>
                </a:cubicBezTo>
                <a:cubicBezTo>
                  <a:pt x="12490" y="12155"/>
                  <a:pt x="12455" y="12208"/>
                  <a:pt x="12427" y="12229"/>
                </a:cubicBezTo>
              </a:path>
              <a:path w="17736" h="4044">
                <a:moveTo>
                  <a:pt x="12874" y="11609"/>
                </a:moveTo>
                <a:cubicBezTo>
                  <a:pt x="12998" y="11609"/>
                  <a:pt x="13122" y="11609"/>
                  <a:pt x="13246" y="11609"/>
                </a:cubicBezTo>
              </a:path>
              <a:path w="17736" h="4044">
                <a:moveTo>
                  <a:pt x="13444" y="11261"/>
                </a:moveTo>
                <a:cubicBezTo>
                  <a:pt x="13490" y="11231"/>
                  <a:pt x="13603" y="11159"/>
                  <a:pt x="13667" y="11162"/>
                </a:cubicBezTo>
                <a:cubicBezTo>
                  <a:pt x="13795" y="11167"/>
                  <a:pt x="13810" y="11285"/>
                  <a:pt x="13791" y="11385"/>
                </a:cubicBezTo>
                <a:cubicBezTo>
                  <a:pt x="13768" y="11504"/>
                  <a:pt x="13723" y="11604"/>
                  <a:pt x="13667" y="11708"/>
                </a:cubicBezTo>
                <a:cubicBezTo>
                  <a:pt x="13629" y="11779"/>
                  <a:pt x="13588" y="11860"/>
                  <a:pt x="13519" y="11906"/>
                </a:cubicBezTo>
                <a:cubicBezTo>
                  <a:pt x="13462" y="11944"/>
                  <a:pt x="13427" y="11977"/>
                  <a:pt x="13370" y="11931"/>
                </a:cubicBezTo>
                <a:cubicBezTo>
                  <a:pt x="13287" y="11864"/>
                  <a:pt x="13374" y="11798"/>
                  <a:pt x="13419" y="11757"/>
                </a:cubicBezTo>
                <a:cubicBezTo>
                  <a:pt x="13473" y="11707"/>
                  <a:pt x="13501" y="11739"/>
                  <a:pt x="13543" y="11782"/>
                </a:cubicBezTo>
                <a:cubicBezTo>
                  <a:pt x="13596" y="11835"/>
                  <a:pt x="13590" y="11871"/>
                  <a:pt x="13618" y="11931"/>
                </a:cubicBezTo>
                <a:cubicBezTo>
                  <a:pt x="13638" y="11975"/>
                  <a:pt x="13662" y="11939"/>
                  <a:pt x="13692" y="11931"/>
                </a:cubicBezTo>
              </a:path>
              <a:path w="17736" h="4044">
                <a:moveTo>
                  <a:pt x="14015" y="11534"/>
                </a:moveTo>
                <a:cubicBezTo>
                  <a:pt x="13989" y="11604"/>
                  <a:pt x="13990" y="11657"/>
                  <a:pt x="13990" y="11733"/>
                </a:cubicBezTo>
                <a:cubicBezTo>
                  <a:pt x="13990" y="11827"/>
                  <a:pt x="14024" y="11833"/>
                  <a:pt x="14089" y="11881"/>
                </a:cubicBezTo>
                <a:cubicBezTo>
                  <a:pt x="14126" y="11908"/>
                  <a:pt x="14141" y="11906"/>
                  <a:pt x="14188" y="11906"/>
                </a:cubicBezTo>
              </a:path>
              <a:path w="17736" h="4044">
                <a:moveTo>
                  <a:pt x="14139" y="11237"/>
                </a:moveTo>
                <a:cubicBezTo>
                  <a:pt x="14131" y="11237"/>
                  <a:pt x="14122" y="11237"/>
                  <a:pt x="14114" y="11237"/>
                </a:cubicBezTo>
              </a:path>
              <a:path w="17736" h="4044">
                <a:moveTo>
                  <a:pt x="14536" y="11286"/>
                </a:moveTo>
                <a:cubicBezTo>
                  <a:pt x="14509" y="11375"/>
                  <a:pt x="14471" y="11492"/>
                  <a:pt x="14461" y="11584"/>
                </a:cubicBezTo>
                <a:cubicBezTo>
                  <a:pt x="14461" y="11667"/>
                  <a:pt x="14461" y="11683"/>
                  <a:pt x="14461" y="11733"/>
                </a:cubicBezTo>
              </a:path>
              <a:path w="17736" h="4044">
                <a:moveTo>
                  <a:pt x="14312" y="11435"/>
                </a:moveTo>
                <a:cubicBezTo>
                  <a:pt x="14396" y="11454"/>
                  <a:pt x="14476" y="11476"/>
                  <a:pt x="14560" y="11485"/>
                </a:cubicBezTo>
              </a:path>
              <a:path w="17736" h="4044">
                <a:moveTo>
                  <a:pt x="14932" y="11088"/>
                </a:moveTo>
                <a:cubicBezTo>
                  <a:pt x="15037" y="11036"/>
                  <a:pt x="15040" y="11050"/>
                  <a:pt x="15131" y="11137"/>
                </a:cubicBezTo>
                <a:cubicBezTo>
                  <a:pt x="15213" y="11215"/>
                  <a:pt x="15181" y="11310"/>
                  <a:pt x="15156" y="11410"/>
                </a:cubicBezTo>
                <a:cubicBezTo>
                  <a:pt x="15133" y="11501"/>
                  <a:pt x="15079" y="11640"/>
                  <a:pt x="15007" y="11708"/>
                </a:cubicBezTo>
                <a:cubicBezTo>
                  <a:pt x="14945" y="11766"/>
                  <a:pt x="14836" y="11774"/>
                  <a:pt x="14759" y="11782"/>
                </a:cubicBezTo>
                <a:cubicBezTo>
                  <a:pt x="14747" y="11759"/>
                  <a:pt x="14707" y="11627"/>
                  <a:pt x="14784" y="11633"/>
                </a:cubicBezTo>
                <a:cubicBezTo>
                  <a:pt x="14827" y="11636"/>
                  <a:pt x="14910" y="11726"/>
                  <a:pt x="14932" y="11757"/>
                </a:cubicBezTo>
                <a:cubicBezTo>
                  <a:pt x="14976" y="11819"/>
                  <a:pt x="14987" y="11894"/>
                  <a:pt x="15032" y="11956"/>
                </a:cubicBezTo>
                <a:cubicBezTo>
                  <a:pt x="15054" y="11979"/>
                  <a:pt x="15059" y="11987"/>
                  <a:pt x="15081" y="11981"/>
                </a:cubicBezTo>
              </a:path>
              <a:path w="17736" h="4044">
                <a:moveTo>
                  <a:pt x="15329" y="11485"/>
                </a:moveTo>
                <a:cubicBezTo>
                  <a:pt x="15319" y="11564"/>
                  <a:pt x="15304" y="11624"/>
                  <a:pt x="15304" y="11708"/>
                </a:cubicBezTo>
                <a:cubicBezTo>
                  <a:pt x="15304" y="11765"/>
                  <a:pt x="15353" y="11879"/>
                  <a:pt x="15404" y="11906"/>
                </a:cubicBezTo>
                <a:cubicBezTo>
                  <a:pt x="15420" y="11906"/>
                  <a:pt x="15437" y="11906"/>
                  <a:pt x="15453" y="11906"/>
                </a:cubicBezTo>
              </a:path>
              <a:path w="17736" h="4044">
                <a:moveTo>
                  <a:pt x="15379" y="11162"/>
                </a:moveTo>
                <a:cubicBezTo>
                  <a:pt x="15362" y="11179"/>
                  <a:pt x="15346" y="11195"/>
                  <a:pt x="15329" y="11212"/>
                </a:cubicBezTo>
              </a:path>
              <a:path w="17736" h="4044">
                <a:moveTo>
                  <a:pt x="15602" y="11435"/>
                </a:moveTo>
                <a:cubicBezTo>
                  <a:pt x="15722" y="11435"/>
                  <a:pt x="15834" y="11442"/>
                  <a:pt x="15949" y="11410"/>
                </a:cubicBezTo>
              </a:path>
              <a:path w="17736" h="4044">
                <a:moveTo>
                  <a:pt x="16222" y="11311"/>
                </a:moveTo>
                <a:cubicBezTo>
                  <a:pt x="16211" y="11396"/>
                  <a:pt x="16165" y="11475"/>
                  <a:pt x="16148" y="11559"/>
                </a:cubicBezTo>
                <a:cubicBezTo>
                  <a:pt x="16135" y="11622"/>
                  <a:pt x="16104" y="11715"/>
                  <a:pt x="16123" y="11782"/>
                </a:cubicBezTo>
                <a:cubicBezTo>
                  <a:pt x="16145" y="11861"/>
                  <a:pt x="16179" y="11915"/>
                  <a:pt x="16247" y="11956"/>
                </a:cubicBezTo>
                <a:cubicBezTo>
                  <a:pt x="16297" y="11981"/>
                  <a:pt x="16313" y="11989"/>
                  <a:pt x="16346" y="11956"/>
                </a:cubicBezTo>
              </a:path>
              <a:path w="17736" h="4044">
                <a:moveTo>
                  <a:pt x="16222" y="10889"/>
                </a:moveTo>
                <a:cubicBezTo>
                  <a:pt x="16199" y="10866"/>
                  <a:pt x="16191" y="10855"/>
                  <a:pt x="16197" y="10889"/>
                </a:cubicBezTo>
              </a:path>
              <a:path w="17736" h="4044">
                <a:moveTo>
                  <a:pt x="16545" y="10939"/>
                </a:moveTo>
                <a:cubicBezTo>
                  <a:pt x="16598" y="10976"/>
                  <a:pt x="16683" y="11010"/>
                  <a:pt x="16669" y="11088"/>
                </a:cubicBezTo>
                <a:cubicBezTo>
                  <a:pt x="16652" y="11182"/>
                  <a:pt x="16607" y="11182"/>
                  <a:pt x="16545" y="11237"/>
                </a:cubicBezTo>
                <a:cubicBezTo>
                  <a:pt x="16506" y="11272"/>
                  <a:pt x="16468" y="11333"/>
                  <a:pt x="16545" y="11361"/>
                </a:cubicBezTo>
                <a:cubicBezTo>
                  <a:pt x="16604" y="11382"/>
                  <a:pt x="16678" y="11385"/>
                  <a:pt x="16743" y="11385"/>
                </a:cubicBezTo>
              </a:path>
              <a:path w="17736" h="4044">
                <a:moveTo>
                  <a:pt x="14288" y="10815"/>
                </a:moveTo>
                <a:cubicBezTo>
                  <a:pt x="14370" y="10784"/>
                  <a:pt x="14451" y="10784"/>
                  <a:pt x="14536" y="10765"/>
                </a:cubicBezTo>
                <a:cubicBezTo>
                  <a:pt x="14660" y="10737"/>
                  <a:pt x="14781" y="10700"/>
                  <a:pt x="14908" y="10691"/>
                </a:cubicBezTo>
                <a:cubicBezTo>
                  <a:pt x="15089" y="10678"/>
                  <a:pt x="15242" y="10641"/>
                  <a:pt x="15429" y="10641"/>
                </a:cubicBezTo>
                <a:cubicBezTo>
                  <a:pt x="15632" y="10641"/>
                  <a:pt x="15816" y="10592"/>
                  <a:pt x="16024" y="10592"/>
                </a:cubicBezTo>
                <a:cubicBezTo>
                  <a:pt x="16202" y="10592"/>
                  <a:pt x="16368" y="10571"/>
                  <a:pt x="16545" y="10567"/>
                </a:cubicBezTo>
                <a:cubicBezTo>
                  <a:pt x="16611" y="10565"/>
                  <a:pt x="16677" y="10567"/>
                  <a:pt x="16743" y="10567"/>
                </a:cubicBezTo>
              </a:path>
              <a:path w="17736" h="4044">
                <a:moveTo>
                  <a:pt x="17190" y="11311"/>
                </a:moveTo>
                <a:cubicBezTo>
                  <a:pt x="17317" y="11327"/>
                  <a:pt x="17438" y="11347"/>
                  <a:pt x="17562" y="11361"/>
                </a:cubicBezTo>
              </a:path>
              <a:path w="17736" h="4044">
                <a:moveTo>
                  <a:pt x="17388" y="11534"/>
                </a:moveTo>
                <a:cubicBezTo>
                  <a:pt x="17484" y="11520"/>
                  <a:pt x="17545" y="11509"/>
                  <a:pt x="17636" y="11509"/>
                </a:cubicBezTo>
              </a:path>
              <a:path w="17736" h="4044">
                <a:moveTo>
                  <a:pt x="18876" y="9079"/>
                </a:moveTo>
                <a:cubicBezTo>
                  <a:pt x="18830" y="9190"/>
                  <a:pt x="18848" y="9116"/>
                  <a:pt x="18802" y="9227"/>
                </a:cubicBezTo>
                <a:cubicBezTo>
                  <a:pt x="18807" y="9174"/>
                  <a:pt x="18809" y="9073"/>
                  <a:pt x="18852" y="9029"/>
                </a:cubicBezTo>
                <a:cubicBezTo>
                  <a:pt x="18922" y="8958"/>
                  <a:pt x="18996" y="9008"/>
                  <a:pt x="19025" y="9079"/>
                </a:cubicBezTo>
                <a:cubicBezTo>
                  <a:pt x="19033" y="9100"/>
                  <a:pt x="19062" y="9180"/>
                  <a:pt x="19075" y="9227"/>
                </a:cubicBezTo>
                <a:cubicBezTo>
                  <a:pt x="19103" y="9330"/>
                  <a:pt x="19104" y="9375"/>
                  <a:pt x="19075" y="9475"/>
                </a:cubicBezTo>
                <a:cubicBezTo>
                  <a:pt x="19046" y="9576"/>
                  <a:pt x="19034" y="9671"/>
                  <a:pt x="19000" y="9773"/>
                </a:cubicBezTo>
                <a:cubicBezTo>
                  <a:pt x="18972" y="9859"/>
                  <a:pt x="18911" y="9974"/>
                  <a:pt x="18852" y="10046"/>
                </a:cubicBezTo>
                <a:cubicBezTo>
                  <a:pt x="18826" y="10078"/>
                  <a:pt x="18753" y="10135"/>
                  <a:pt x="18703" y="10145"/>
                </a:cubicBezTo>
                <a:cubicBezTo>
                  <a:pt x="18648" y="10156"/>
                  <a:pt x="18569" y="10154"/>
                  <a:pt x="18529" y="10120"/>
                </a:cubicBezTo>
                <a:cubicBezTo>
                  <a:pt x="18481" y="10079"/>
                  <a:pt x="18466" y="10055"/>
                  <a:pt x="18479" y="9971"/>
                </a:cubicBezTo>
                <a:cubicBezTo>
                  <a:pt x="18499" y="9836"/>
                  <a:pt x="18530" y="9823"/>
                  <a:pt x="18653" y="9823"/>
                </a:cubicBezTo>
                <a:cubicBezTo>
                  <a:pt x="18714" y="9823"/>
                  <a:pt x="18778" y="9857"/>
                  <a:pt x="18802" y="9897"/>
                </a:cubicBezTo>
                <a:cubicBezTo>
                  <a:pt x="18840" y="9960"/>
                  <a:pt x="18827" y="10066"/>
                  <a:pt x="18876" y="10120"/>
                </a:cubicBezTo>
                <a:cubicBezTo>
                  <a:pt x="18884" y="10120"/>
                  <a:pt x="18893" y="10120"/>
                  <a:pt x="18901" y="10120"/>
                </a:cubicBezTo>
              </a:path>
              <a:path w="17736" h="4044">
                <a:moveTo>
                  <a:pt x="19397" y="9599"/>
                </a:moveTo>
                <a:cubicBezTo>
                  <a:pt x="19489" y="9606"/>
                  <a:pt x="19550" y="9624"/>
                  <a:pt x="19645" y="9624"/>
                </a:cubicBezTo>
                <a:cubicBezTo>
                  <a:pt x="19670" y="9624"/>
                  <a:pt x="19695" y="9624"/>
                  <a:pt x="19720" y="9624"/>
                </a:cubicBezTo>
              </a:path>
              <a:path w="17736" h="4044">
                <a:moveTo>
                  <a:pt x="20067" y="9401"/>
                </a:moveTo>
                <a:cubicBezTo>
                  <a:pt x="20059" y="9478"/>
                  <a:pt x="20029" y="9555"/>
                  <a:pt x="20017" y="9624"/>
                </a:cubicBezTo>
                <a:cubicBezTo>
                  <a:pt x="20004" y="9698"/>
                  <a:pt x="19970" y="9819"/>
                  <a:pt x="19993" y="9897"/>
                </a:cubicBezTo>
                <a:cubicBezTo>
                  <a:pt x="20005" y="9937"/>
                  <a:pt x="20067" y="10008"/>
                  <a:pt x="20117" y="9971"/>
                </a:cubicBezTo>
                <a:cubicBezTo>
                  <a:pt x="20206" y="9904"/>
                  <a:pt x="20202" y="9909"/>
                  <a:pt x="20241" y="9823"/>
                </a:cubicBezTo>
              </a:path>
              <a:path w="17736" h="4044">
                <a:moveTo>
                  <a:pt x="20166" y="8781"/>
                </a:moveTo>
                <a:cubicBezTo>
                  <a:pt x="20107" y="8781"/>
                  <a:pt x="20088" y="8790"/>
                  <a:pt x="20092" y="8855"/>
                </a:cubicBezTo>
              </a:path>
              <a:path w="17736" h="4044">
                <a:moveTo>
                  <a:pt x="18405" y="10195"/>
                </a:moveTo>
                <a:cubicBezTo>
                  <a:pt x="18469" y="10204"/>
                  <a:pt x="18507" y="10220"/>
                  <a:pt x="18579" y="10220"/>
                </a:cubicBezTo>
                <a:cubicBezTo>
                  <a:pt x="18671" y="10220"/>
                  <a:pt x="18761" y="10269"/>
                  <a:pt x="18876" y="10269"/>
                </a:cubicBezTo>
                <a:cubicBezTo>
                  <a:pt x="19071" y="10269"/>
                  <a:pt x="19245" y="10252"/>
                  <a:pt x="19422" y="10220"/>
                </a:cubicBezTo>
                <a:cubicBezTo>
                  <a:pt x="19535" y="10200"/>
                  <a:pt x="19679" y="10199"/>
                  <a:pt x="19794" y="10195"/>
                </a:cubicBezTo>
                <a:cubicBezTo>
                  <a:pt x="20009" y="10188"/>
                  <a:pt x="20224" y="10195"/>
                  <a:pt x="20439" y="10195"/>
                </a:cubicBezTo>
              </a:path>
              <a:path w="17736" h="4044">
                <a:moveTo>
                  <a:pt x="18306" y="10592"/>
                </a:moveTo>
                <a:cubicBezTo>
                  <a:pt x="18306" y="10667"/>
                  <a:pt x="18304" y="10746"/>
                  <a:pt x="18281" y="10815"/>
                </a:cubicBezTo>
                <a:cubicBezTo>
                  <a:pt x="18260" y="10877"/>
                  <a:pt x="18196" y="10926"/>
                  <a:pt x="18182" y="10988"/>
                </a:cubicBezTo>
                <a:cubicBezTo>
                  <a:pt x="18174" y="11022"/>
                  <a:pt x="18104" y="11107"/>
                  <a:pt x="18107" y="11137"/>
                </a:cubicBezTo>
                <a:cubicBezTo>
                  <a:pt x="18115" y="11145"/>
                  <a:pt x="18124" y="11154"/>
                  <a:pt x="18132" y="11162"/>
                </a:cubicBezTo>
                <a:cubicBezTo>
                  <a:pt x="18194" y="11113"/>
                  <a:pt x="18228" y="11112"/>
                  <a:pt x="18306" y="11112"/>
                </a:cubicBezTo>
                <a:cubicBezTo>
                  <a:pt x="18372" y="11112"/>
                  <a:pt x="18426" y="11151"/>
                  <a:pt x="18479" y="11162"/>
                </a:cubicBezTo>
                <a:cubicBezTo>
                  <a:pt x="18529" y="11162"/>
                  <a:pt x="18546" y="11162"/>
                  <a:pt x="18579" y="11162"/>
                </a:cubicBezTo>
              </a:path>
              <a:path w="17736" h="4044">
                <a:moveTo>
                  <a:pt x="18703" y="10492"/>
                </a:moveTo>
                <a:cubicBezTo>
                  <a:pt x="18656" y="10563"/>
                  <a:pt x="18618" y="10653"/>
                  <a:pt x="18604" y="10740"/>
                </a:cubicBezTo>
                <a:cubicBezTo>
                  <a:pt x="18586" y="10849"/>
                  <a:pt x="18579" y="10951"/>
                  <a:pt x="18579" y="11063"/>
                </a:cubicBezTo>
                <a:cubicBezTo>
                  <a:pt x="18579" y="11184"/>
                  <a:pt x="18566" y="11292"/>
                  <a:pt x="18554" y="11410"/>
                </a:cubicBezTo>
                <a:cubicBezTo>
                  <a:pt x="18542" y="11526"/>
                  <a:pt x="18533" y="11642"/>
                  <a:pt x="18529" y="11757"/>
                </a:cubicBezTo>
                <a:cubicBezTo>
                  <a:pt x="18526" y="11835"/>
                  <a:pt x="18479" y="11926"/>
                  <a:pt x="18504" y="12005"/>
                </a:cubicBezTo>
                <a:cubicBezTo>
                  <a:pt x="18512" y="12013"/>
                  <a:pt x="18521" y="12022"/>
                  <a:pt x="18529" y="12030"/>
                </a:cubicBezTo>
              </a:path>
              <a:path w="17736" h="4044">
                <a:moveTo>
                  <a:pt x="18852" y="11162"/>
                </a:moveTo>
                <a:cubicBezTo>
                  <a:pt x="18891" y="11186"/>
                  <a:pt x="18973" y="11207"/>
                  <a:pt x="19025" y="11187"/>
                </a:cubicBezTo>
                <a:cubicBezTo>
                  <a:pt x="19081" y="11165"/>
                  <a:pt x="19132" y="11162"/>
                  <a:pt x="19199" y="11162"/>
                </a:cubicBezTo>
              </a:path>
              <a:path w="17736" h="4044">
                <a:moveTo>
                  <a:pt x="19397" y="10815"/>
                </a:moveTo>
                <a:cubicBezTo>
                  <a:pt x="19520" y="10815"/>
                  <a:pt x="19625" y="10816"/>
                  <a:pt x="19745" y="10790"/>
                </a:cubicBezTo>
              </a:path>
              <a:path w="17736" h="4044">
                <a:moveTo>
                  <a:pt x="20166" y="10418"/>
                </a:moveTo>
                <a:cubicBezTo>
                  <a:pt x="20157" y="10545"/>
                  <a:pt x="20128" y="10659"/>
                  <a:pt x="20117" y="10790"/>
                </a:cubicBezTo>
                <a:cubicBezTo>
                  <a:pt x="20108" y="10898"/>
                  <a:pt x="20095" y="11005"/>
                  <a:pt x="20092" y="11112"/>
                </a:cubicBezTo>
                <a:cubicBezTo>
                  <a:pt x="20088" y="11233"/>
                  <a:pt x="20079" y="11341"/>
                  <a:pt x="20067" y="11460"/>
                </a:cubicBezTo>
                <a:cubicBezTo>
                  <a:pt x="20058" y="11554"/>
                  <a:pt x="20056" y="11644"/>
                  <a:pt x="20042" y="11733"/>
                </a:cubicBezTo>
                <a:cubicBezTo>
                  <a:pt x="20032" y="11795"/>
                  <a:pt x="20042" y="11868"/>
                  <a:pt x="20042" y="11931"/>
                </a:cubicBezTo>
                <a:cubicBezTo>
                  <a:pt x="20064" y="11888"/>
                  <a:pt x="20083" y="11852"/>
                  <a:pt x="20092" y="11807"/>
                </a:cubicBezTo>
              </a:path>
              <a:path w="17736" h="4044">
                <a:moveTo>
                  <a:pt x="20910" y="10120"/>
                </a:moveTo>
                <a:cubicBezTo>
                  <a:pt x="20993" y="10120"/>
                  <a:pt x="21075" y="10120"/>
                  <a:pt x="21158" y="10120"/>
                </a:cubicBezTo>
              </a:path>
              <a:path w="17736" h="4044">
                <a:moveTo>
                  <a:pt x="20960" y="10344"/>
                </a:moveTo>
                <a:cubicBezTo>
                  <a:pt x="21034" y="10368"/>
                  <a:pt x="21059" y="10376"/>
                  <a:pt x="21109" y="10344"/>
                </a:cubicBezTo>
              </a:path>
              <a:path w="17736" h="4044">
                <a:moveTo>
                  <a:pt x="21754" y="9302"/>
                </a:moveTo>
                <a:cubicBezTo>
                  <a:pt x="21780" y="9200"/>
                  <a:pt x="21799" y="9166"/>
                  <a:pt x="21828" y="9079"/>
                </a:cubicBezTo>
                <a:cubicBezTo>
                  <a:pt x="21855" y="8998"/>
                  <a:pt x="21910" y="8988"/>
                  <a:pt x="21952" y="8930"/>
                </a:cubicBezTo>
                <a:cubicBezTo>
                  <a:pt x="22008" y="8853"/>
                  <a:pt x="22031" y="8855"/>
                  <a:pt x="22126" y="8855"/>
                </a:cubicBezTo>
                <a:cubicBezTo>
                  <a:pt x="22222" y="8855"/>
                  <a:pt x="22222" y="8921"/>
                  <a:pt x="22225" y="9004"/>
                </a:cubicBezTo>
                <a:cubicBezTo>
                  <a:pt x="22230" y="9134"/>
                  <a:pt x="22212" y="9251"/>
                  <a:pt x="22175" y="9376"/>
                </a:cubicBezTo>
                <a:cubicBezTo>
                  <a:pt x="22142" y="9489"/>
                  <a:pt x="22107" y="9597"/>
                  <a:pt x="22051" y="9699"/>
                </a:cubicBezTo>
                <a:cubicBezTo>
                  <a:pt x="22020" y="9755"/>
                  <a:pt x="21944" y="9938"/>
                  <a:pt x="21903" y="9971"/>
                </a:cubicBezTo>
                <a:cubicBezTo>
                  <a:pt x="21873" y="9995"/>
                  <a:pt x="21789" y="10036"/>
                  <a:pt x="21754" y="10046"/>
                </a:cubicBezTo>
                <a:cubicBezTo>
                  <a:pt x="21711" y="9960"/>
                  <a:pt x="21684" y="9953"/>
                  <a:pt x="21754" y="9847"/>
                </a:cubicBezTo>
                <a:cubicBezTo>
                  <a:pt x="21788" y="9795"/>
                  <a:pt x="21828" y="9740"/>
                  <a:pt x="21903" y="9773"/>
                </a:cubicBezTo>
                <a:cubicBezTo>
                  <a:pt x="21969" y="9802"/>
                  <a:pt x="22024" y="9830"/>
                  <a:pt x="22051" y="9897"/>
                </a:cubicBezTo>
                <a:cubicBezTo>
                  <a:pt x="22063" y="9926"/>
                  <a:pt x="22085" y="10027"/>
                  <a:pt x="22101" y="10046"/>
                </a:cubicBezTo>
                <a:cubicBezTo>
                  <a:pt x="22109" y="10046"/>
                  <a:pt x="22118" y="10046"/>
                  <a:pt x="22126" y="10046"/>
                </a:cubicBezTo>
              </a:path>
              <a:path w="17736" h="4044">
                <a:moveTo>
                  <a:pt x="22448" y="9525"/>
                </a:moveTo>
                <a:cubicBezTo>
                  <a:pt x="22535" y="9525"/>
                  <a:pt x="22590" y="9545"/>
                  <a:pt x="22671" y="9550"/>
                </a:cubicBezTo>
                <a:cubicBezTo>
                  <a:pt x="22679" y="9550"/>
                  <a:pt x="22688" y="9550"/>
                  <a:pt x="22696" y="9550"/>
                </a:cubicBezTo>
              </a:path>
              <a:path w="17736" h="4044">
                <a:moveTo>
                  <a:pt x="23019" y="9451"/>
                </a:moveTo>
                <a:cubicBezTo>
                  <a:pt x="22998" y="9534"/>
                  <a:pt x="22992" y="9618"/>
                  <a:pt x="22969" y="9699"/>
                </a:cubicBezTo>
                <a:cubicBezTo>
                  <a:pt x="22946" y="9780"/>
                  <a:pt x="22944" y="9837"/>
                  <a:pt x="22944" y="9922"/>
                </a:cubicBezTo>
                <a:cubicBezTo>
                  <a:pt x="22944" y="9938"/>
                  <a:pt x="22944" y="9955"/>
                  <a:pt x="22944" y="9971"/>
                </a:cubicBezTo>
                <a:cubicBezTo>
                  <a:pt x="23037" y="10002"/>
                  <a:pt x="23055" y="9982"/>
                  <a:pt x="23093" y="9897"/>
                </a:cubicBezTo>
              </a:path>
              <a:path w="17736" h="4044">
                <a:moveTo>
                  <a:pt x="23068" y="8855"/>
                </a:moveTo>
                <a:cubicBezTo>
                  <a:pt x="23044" y="8855"/>
                  <a:pt x="23036" y="8855"/>
                  <a:pt x="23044" y="8880"/>
                </a:cubicBezTo>
              </a:path>
              <a:path w="17736" h="4044">
                <a:moveTo>
                  <a:pt x="21605" y="10120"/>
                </a:moveTo>
                <a:cubicBezTo>
                  <a:pt x="22028" y="10120"/>
                  <a:pt x="22484" y="10076"/>
                  <a:pt x="22895" y="10145"/>
                </a:cubicBezTo>
                <a:cubicBezTo>
                  <a:pt x="22946" y="10145"/>
                  <a:pt x="22964" y="10147"/>
                  <a:pt x="22969" y="10195"/>
                </a:cubicBezTo>
              </a:path>
              <a:path w="17736" h="4044">
                <a:moveTo>
                  <a:pt x="22151" y="10418"/>
                </a:moveTo>
                <a:cubicBezTo>
                  <a:pt x="22296" y="10418"/>
                  <a:pt x="22402" y="10409"/>
                  <a:pt x="22523" y="10368"/>
                </a:cubicBezTo>
                <a:cubicBezTo>
                  <a:pt x="22539" y="10368"/>
                  <a:pt x="22556" y="10368"/>
                  <a:pt x="22572" y="10368"/>
                </a:cubicBezTo>
              </a:path>
              <a:path w="17736" h="4044">
                <a:moveTo>
                  <a:pt x="22175" y="10344"/>
                </a:moveTo>
                <a:cubicBezTo>
                  <a:pt x="22175" y="10457"/>
                  <a:pt x="22155" y="10535"/>
                  <a:pt x="22151" y="10641"/>
                </a:cubicBezTo>
                <a:cubicBezTo>
                  <a:pt x="22151" y="10707"/>
                  <a:pt x="22151" y="10724"/>
                  <a:pt x="22151" y="10765"/>
                </a:cubicBezTo>
                <a:cubicBezTo>
                  <a:pt x="22193" y="10706"/>
                  <a:pt x="22229" y="10649"/>
                  <a:pt x="22299" y="10641"/>
                </a:cubicBezTo>
                <a:cubicBezTo>
                  <a:pt x="22379" y="10632"/>
                  <a:pt x="22447" y="10624"/>
                  <a:pt x="22498" y="10691"/>
                </a:cubicBezTo>
                <a:cubicBezTo>
                  <a:pt x="22557" y="10768"/>
                  <a:pt x="22605" y="10839"/>
                  <a:pt x="22622" y="10939"/>
                </a:cubicBezTo>
                <a:cubicBezTo>
                  <a:pt x="22634" y="11008"/>
                  <a:pt x="22610" y="11105"/>
                  <a:pt x="22572" y="11162"/>
                </a:cubicBezTo>
                <a:cubicBezTo>
                  <a:pt x="22533" y="11222"/>
                  <a:pt x="22435" y="11277"/>
                  <a:pt x="22374" y="11311"/>
                </a:cubicBezTo>
                <a:cubicBezTo>
                  <a:pt x="22326" y="11337"/>
                  <a:pt x="22228" y="11389"/>
                  <a:pt x="22175" y="11385"/>
                </a:cubicBezTo>
                <a:cubicBezTo>
                  <a:pt x="22134" y="11382"/>
                  <a:pt x="22017" y="11338"/>
                  <a:pt x="22002" y="11286"/>
                </a:cubicBezTo>
                <a:cubicBezTo>
                  <a:pt x="22002" y="11270"/>
                  <a:pt x="22002" y="11253"/>
                  <a:pt x="22002" y="112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b2b2b2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b2b2b2"/>
                </a:solidFill>
                <a:latin typeface="Arial"/>
              </a:rPr>
              <a:t>Page 180</a:t>
            </a:r>
            <a:br>
              <a:rPr sz="7500"/>
            </a:br>
            <a:r>
              <a:rPr b="0" lang="en-US" sz="7500" spc="-1" strike="noStrike">
                <a:solidFill>
                  <a:srgbClr val="b2b2b2"/>
                </a:solidFill>
                <a:latin typeface="Arial"/>
              </a:rPr>
              <a:t>#15-35 &amp; 49-51</a:t>
            </a:r>
            <a:endParaRPr b="0" lang="en-US" sz="75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2:05:00Z</dcterms:created>
  <dc:creator>jnewman</dc:creator>
  <dc:description/>
  <dc:language>en-US</dc:language>
  <cp:lastModifiedBy>abeason</cp:lastModifiedBy>
  <dcterms:modified xsi:type="dcterms:W3CDTF">2010-05-11T13:38:02Z</dcterms:modified>
  <cp:revision>10</cp:revision>
  <dc:subject/>
  <dc:title>Lesson 2.4</dc:title>
</cp:coreProperties>
</file>